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C718-62EA-43BD-8143-5B048179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0FCA8-C553-4424-930F-FF164B432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6DE74-5AF2-4A20-B1B9-8AE40A562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8587-61C1-4ADA-95C1-F24C596FC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D0C-1BCD-4985-B6B3-648069DFD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30B-173B-4386-80AE-2079CEDE3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3EF9-7D4F-4844-95D7-3F27346DF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ED4EF-D184-4595-B239-77095FBFB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64B4F-DC15-4887-822C-B5882F283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B35-BB7A-493C-A3B5-E82CE3E29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8917-167A-4F12-9B68-3E585C159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19D7-25D9-454E-8162-E6235C60A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0748-48E9-4163-959C-7013B8C40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10.1.jpg"/>
          <p:cNvPicPr/>
          <p:nvPr/>
        </p:nvPicPr>
        <p:blipFill>
          <a:blip r:embed="rId1"/>
          <a:stretch/>
        </p:blipFill>
        <p:spPr>
          <a:xfrm>
            <a:off x="1057320" y="0"/>
            <a:ext cx="702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10.2.jpg"/>
          <p:cNvPicPr/>
          <p:nvPr/>
        </p:nvPicPr>
        <p:blipFill>
          <a:blip r:embed="rId1"/>
          <a:stretch/>
        </p:blipFill>
        <p:spPr>
          <a:xfrm>
            <a:off x="190440" y="0"/>
            <a:ext cx="876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10.3.jpg"/>
          <p:cNvPicPr/>
          <p:nvPr/>
        </p:nvPicPr>
        <p:blipFill>
          <a:blip r:embed="rId1"/>
          <a:stretch/>
        </p:blipFill>
        <p:spPr>
          <a:xfrm>
            <a:off x="466560" y="0"/>
            <a:ext cx="820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10.4.jpg"/>
          <p:cNvPicPr/>
          <p:nvPr/>
        </p:nvPicPr>
        <p:blipFill>
          <a:blip r:embed="rId1"/>
          <a:stretch/>
        </p:blipFill>
        <p:spPr>
          <a:xfrm>
            <a:off x="482760" y="0"/>
            <a:ext cx="817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ollock_Figure 10.5.jpg"/>
          <p:cNvPicPr/>
          <p:nvPr/>
        </p:nvPicPr>
        <p:blipFill>
          <a:blip r:embed="rId1"/>
          <a:stretch/>
        </p:blipFill>
        <p:spPr>
          <a:xfrm>
            <a:off x="0" y="30240"/>
            <a:ext cx="9144000" cy="67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20:22Z</dcterms:created>
  <dc:creator>C and M</dc:creator>
  <dc:description/>
  <dc:language>en-US</dc:language>
  <cp:lastModifiedBy>C and M</cp:lastModifiedBy>
  <dcterms:modified xsi:type="dcterms:W3CDTF">2013-09-30T09:20:42Z</dcterms:modified>
  <cp:revision>1</cp:revision>
  <dc:subject/>
  <dc:title>Slide 1</dc:title>
</cp:coreProperties>
</file>