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1ECA-6471-4ADF-9FDF-DA481C6C4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F382-FCEE-4E00-8056-8A938FCAC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83CA-B2E1-46B2-9DF0-B72C5517B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2838C-C716-43B7-83AD-8F7D9A20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1F17-762D-4849-A4E3-FFCD1CAB7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254CC-C710-4996-9CB5-E0A2E35BB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D6DC-CC4A-49A2-A0E2-3EC012073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1DD51-71B7-441F-B685-8B04408B2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80CE-C692-4954-88BA-C77340A20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4C7F-6912-4E06-8FE2-2A8BE1B8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82B3E-14C7-4E29-A87B-918815B3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9827-BE40-4118-BAC1-4049A0E61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8925-053A-4911-A1A8-725B810EDA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8.1.jpg"/>
          <p:cNvPicPr/>
          <p:nvPr/>
        </p:nvPicPr>
        <p:blipFill>
          <a:blip r:embed="rId1"/>
          <a:stretch/>
        </p:blipFill>
        <p:spPr>
          <a:xfrm>
            <a:off x="689040" y="0"/>
            <a:ext cx="7765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8.2.jpg"/>
          <p:cNvPicPr/>
          <p:nvPr/>
        </p:nvPicPr>
        <p:blipFill>
          <a:blip r:embed="rId1"/>
          <a:stretch/>
        </p:blipFill>
        <p:spPr>
          <a:xfrm>
            <a:off x="365040" y="0"/>
            <a:ext cx="841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8.3.jpg"/>
          <p:cNvPicPr/>
          <p:nvPr/>
        </p:nvPicPr>
        <p:blipFill>
          <a:blip r:embed="rId1"/>
          <a:stretch/>
        </p:blipFill>
        <p:spPr>
          <a:xfrm>
            <a:off x="977760" y="0"/>
            <a:ext cx="7188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19:37Z</dcterms:created>
  <dc:creator>C and M</dc:creator>
  <dc:description/>
  <dc:language>en-US</dc:language>
  <cp:lastModifiedBy>C and M</cp:lastModifiedBy>
  <dcterms:modified xsi:type="dcterms:W3CDTF">2013-09-30T09:19:51Z</dcterms:modified>
  <cp:revision>1</cp:revision>
  <dc:subject/>
  <dc:title>Slide 1</dc:title>
</cp:coreProperties>
</file>