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8EAE-D113-49DA-9B38-01856CEE5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670C-0079-480D-BA30-20170928F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3606-C50C-4BF7-9957-CA7EB1802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AB75-DF91-4226-A7EE-F88CE8C934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F410-C56D-4805-A686-0782829A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A8BD-BB9D-4CAF-9CDF-F5ECA25E3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FA92-CD32-4126-BF62-F0CFFE1A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FE6DF-906A-4136-98AF-4B6D8446E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5629D-668F-4999-8713-DE202774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3510C-326C-4F9A-9DBC-239ABFC13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75CC-74BE-4C7C-90D0-77D033A56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F202-F0C3-4A10-A6EA-E89CE6EF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CF29A-ABCD-4BC9-95EF-69AE9E10F1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ollock_Figure 5.1.jpg"/>
          <p:cNvPicPr/>
          <p:nvPr/>
        </p:nvPicPr>
        <p:blipFill>
          <a:blip r:embed="rId1"/>
          <a:stretch/>
        </p:blipFill>
        <p:spPr>
          <a:xfrm>
            <a:off x="681120" y="0"/>
            <a:ext cx="7781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ollock_Figure 5.2.jpg"/>
          <p:cNvPicPr/>
          <p:nvPr/>
        </p:nvPicPr>
        <p:blipFill>
          <a:blip r:embed="rId1"/>
          <a:stretch/>
        </p:blipFill>
        <p:spPr>
          <a:xfrm>
            <a:off x="536400" y="0"/>
            <a:ext cx="806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ollock_Figure 5.3.jpg"/>
          <p:cNvPicPr/>
          <p:nvPr/>
        </p:nvPicPr>
        <p:blipFill>
          <a:blip r:embed="rId1"/>
          <a:stretch/>
        </p:blipFill>
        <p:spPr>
          <a:xfrm>
            <a:off x="293760" y="0"/>
            <a:ext cx="8556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ollock_Figure 5.4.jpg"/>
          <p:cNvPicPr/>
          <p:nvPr/>
        </p:nvPicPr>
        <p:blipFill>
          <a:blip r:embed="rId1"/>
          <a:stretch/>
        </p:blipFill>
        <p:spPr>
          <a:xfrm>
            <a:off x="423720" y="0"/>
            <a:ext cx="8294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9:19:03Z</dcterms:created>
  <dc:creator>C and M</dc:creator>
  <dc:description/>
  <dc:language>en-US</dc:language>
  <cp:lastModifiedBy>C and M</cp:lastModifiedBy>
  <dcterms:modified xsi:type="dcterms:W3CDTF">2013-09-30T09:19:20Z</dcterms:modified>
  <cp:revision>1</cp:revision>
  <dc:subject/>
  <dc:title>Slide 1</dc:title>
</cp:coreProperties>
</file>