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132F-5D07-4B37-9A03-1002BA52F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9087-3645-4A7E-B883-DAF0CC530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EA1E-233D-43AE-945D-7921E579A3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74F2-0A8F-4FEB-B28A-99FE5C068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2BA44-583F-43AB-889B-8596E8E4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64E7-1E39-422E-B984-6E4DD6D43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83F6B-08DC-4770-9F2D-D347412DD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0FF-C60A-4183-B0CD-15185C873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9418-DB26-42DB-8961-B15FD03F0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EF41-4805-478B-A30E-C25D9AFBF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0EC60-A481-402B-97B5-8BF5970A3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02A73-AEE1-4200-820A-8001D6C30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C683E-E1FB-4334-8F79-DDA9A1A2F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Pollock_Figure 3.1.jpg"/>
          <p:cNvPicPr/>
          <p:nvPr/>
        </p:nvPicPr>
        <p:blipFill>
          <a:blip r:embed="rId1"/>
          <a:stretch/>
        </p:blipFill>
        <p:spPr>
          <a:xfrm>
            <a:off x="0" y="733320"/>
            <a:ext cx="9144000" cy="53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09:17:40Z</dcterms:created>
  <dc:creator>C and M</dc:creator>
  <dc:description/>
  <dc:language>en-US</dc:language>
  <cp:lastModifiedBy>C and M</cp:lastModifiedBy>
  <dcterms:modified xsi:type="dcterms:W3CDTF">2013-09-30T09:17:51Z</dcterms:modified>
  <cp:revision>1</cp:revision>
  <dc:subject/>
  <dc:title>Slide 1</dc:title>
</cp:coreProperties>
</file>