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6F98-120A-4AD1-9373-FB811C80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1A19-31F2-441E-9EE4-F584DB002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C8FC-DECD-4994-A40B-260A56B7D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E4658-9677-4B22-B76C-8C6B32BDA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8571-68F9-455A-8FF0-EF4B7459B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3865-BC66-4F1A-B90A-5F513A7DD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9361-C63F-4581-98E4-498BEB1B2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E337-3E62-4ED4-BCF2-DFE613F2A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F05B-ECBA-4F37-B4A0-76A80887A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ADEC-6821-4179-B8E9-07AD4630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7931-2956-4B7E-AD81-8F1660B11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ADB6D-4B0F-4C78-815D-9806B6172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090F-8C42-4D02-B05E-A5F077CBF5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Pollock_Figure 1.1.jpg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Pollock_Figure 1.2.jpg"/>
          <p:cNvPicPr/>
          <p:nvPr/>
        </p:nvPicPr>
        <p:blipFill>
          <a:blip r:embed="rId1"/>
          <a:stretch/>
        </p:blipFill>
        <p:spPr>
          <a:xfrm>
            <a:off x="0" y="511200"/>
            <a:ext cx="9144000" cy="58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Pollock_Figure 1.3.jpg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Pollock_Figure 1.4.jpg"/>
          <p:cNvPicPr/>
          <p:nvPr/>
        </p:nvPicPr>
        <p:blipFill>
          <a:blip r:embed="rId1"/>
          <a:stretch/>
        </p:blipFill>
        <p:spPr>
          <a:xfrm>
            <a:off x="985680" y="0"/>
            <a:ext cx="717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Pollock_Figure 1.5.jpg"/>
          <p:cNvPicPr/>
          <p:nvPr/>
        </p:nvPicPr>
        <p:blipFill>
          <a:blip r:embed="rId1"/>
          <a:stretch/>
        </p:blipFill>
        <p:spPr>
          <a:xfrm>
            <a:off x="1235160" y="0"/>
            <a:ext cx="667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Pollock_Figure 1.6.jpg"/>
          <p:cNvPicPr/>
          <p:nvPr/>
        </p:nvPicPr>
        <p:blipFill>
          <a:blip r:embed="rId1"/>
          <a:stretch/>
        </p:blipFill>
        <p:spPr>
          <a:xfrm>
            <a:off x="479520" y="0"/>
            <a:ext cx="818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Pollock_Figure 1.7.jpg"/>
          <p:cNvPicPr/>
          <p:nvPr/>
        </p:nvPicPr>
        <p:blipFill>
          <a:blip r:embed="rId1"/>
          <a:stretch/>
        </p:blipFill>
        <p:spPr>
          <a:xfrm>
            <a:off x="0" y="306360"/>
            <a:ext cx="9144000" cy="624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Pollock_Figure 1.8.jpg"/>
          <p:cNvPicPr/>
          <p:nvPr/>
        </p:nvPicPr>
        <p:blipFill>
          <a:blip r:embed="rId1"/>
          <a:stretch/>
        </p:blipFill>
        <p:spPr>
          <a:xfrm>
            <a:off x="1379520" y="0"/>
            <a:ext cx="638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30T09:14:28Z</dcterms:created>
  <dc:creator>C and M</dc:creator>
  <dc:description/>
  <dc:language>en-US</dc:language>
  <cp:lastModifiedBy>C and M</cp:lastModifiedBy>
  <dcterms:modified xsi:type="dcterms:W3CDTF">2013-09-30T09:16:04Z</dcterms:modified>
  <cp:revision>1</cp:revision>
  <dc:subject/>
  <dc:title>Slide 1</dc:title>
</cp:coreProperties>
</file>