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144000" cy="6858000"/>
  <p:notesSz cx="90678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F32-16F3-4D97-B8F4-A3101826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FCF-BE25-4955-B362-CCDC7D3A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D86-86D0-41A2-B442-F7DDD108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BD8-A263-43DE-940A-3933B240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E66-8D60-4CBC-AF76-28787399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72091-65C7-4D18-BC8F-17E1881AFA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EA037-2F56-4443-9F82-EE60C1B371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198C5-A8CA-4F7A-B9DA-A2629C3B52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875DB-4D7E-46ED-BD83-D824A51391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51B27-457E-4FA3-9A6B-90669AFEA1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AFD-0972-43AE-B48E-65594704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1020C-059B-461A-831F-4C91474511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99842-47A5-4228-9D10-D370BABB01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97DC0-50E4-4E11-A3E2-745B400475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0ABF1-96D1-49D2-AD62-D4F5B711D2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ACAEB-C433-4FE6-935B-D37ACBD325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2A761-15D5-4E43-816C-D266EAE5D1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AE27D-808D-4C12-A030-6A8FDDBF81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0A1-5EB9-44F4-8239-DC4A0899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26DA7D-1E6B-4F3D-959F-6B0932080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E85-809E-4B13-BF79-A0C852C1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C9E67-E530-4E1A-ACDB-05F95ADE265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AC87B-C539-4C8E-94DE-5BE07F278CE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335A4F-EB6F-4D91-80EB-FE3A9007F48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A66F7-4649-4940-9469-CD91C1BF7FA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A07D4C-DDD5-4F21-B56F-95428F99003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1B102F-3484-4A17-BAB6-23C19FB07EE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CC5690-0191-4500-9226-E8038842073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425A87-1C09-4BF0-B47C-12F5C8CF286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460065-FE5C-456A-96D1-F0A86614C2C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D55BE-093D-4C2D-8209-5519D5F42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142-E80C-4264-A474-BE058296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D43AC6-F45F-4B9B-BA98-DCA895988BF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6E9-0C5E-4127-A2BE-63BED10D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B24-7451-466D-A55B-A52E3955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17F-8BDD-4226-B207-24939D9D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33A3-C909-4653-B3BB-E753EBB11B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8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8EA9-871C-45BC-9B27-598932198F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6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7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355D-59DA-473B-A1E4-CCFAACA0BB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o- and macro-level theories of chan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evolutionary theo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ties move slowly from simple to more complex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linear theo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ocieties progress through the same steps; advancement is defined as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lan and Lenski’s (2008) five stages of societal progress: hunter-gatherer, horticultural, agrarian, industrial, postindustrial; no stages are “better,” but pattern is typ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linear theo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ocieties become large, complex, technologically advanced societies through a variety of different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B992-50E3-4E0B-B039-2F528A848EE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 of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ist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ies are mostly stable; due to interdependence, change in one part of society will affect other parts; change may come from outside or within; slow change may occur as societies become more complex, rapid change is potentially dysfunc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ies are dynamic, change is inevitable; conflict between those in power and the oppressed will lead to changes that may be useful for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A9F8-13D5-4613-94B4-89F2E0E9DAA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 of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systems theory: all societies today have been influenced by capita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e nations: economically and politically powerful; have controlled and profited most from world economic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pheral nations: countries that provide cheap labor and raw materials for core 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i-peripheral countries: in intermediate position between core and periphery, trading with bo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dity chains: global networks of labor resources and production processes that create a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508A-997B-40D8-9E17-122388EA74D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6" descr=""/>
          <p:cNvPicPr/>
          <p:nvPr/>
        </p:nvPicPr>
        <p:blipFill>
          <a:blip r:embed="rId1"/>
          <a:stretch/>
        </p:blipFill>
        <p:spPr>
          <a:xfrm>
            <a:off x="1851120" y="1676520"/>
            <a:ext cx="6019560" cy="3998880"/>
          </a:xfrm>
          <a:prstGeom prst="rect">
            <a:avLst/>
          </a:prstGeom>
          <a:ln w="0">
            <a:noFill/>
          </a:ln>
        </p:spPr>
      </p:pic>
      <p:sp>
        <p:nvSpPr>
          <p:cNvPr id="59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BAB4-15B2-4AB7-9030-26BCA7DD083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-level behavior and chan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ve behavi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ntaneous, disorganized group actions that often violate norms; arises when people are trying to cope with stressful situations or un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wd behavior: collective behavior in which a crowd acts, at least temporarily, as a unified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 behavior: individuals communicate or respond in a similar manner to an ambiguous situation, often based on common information from the news or o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social movements, these forms of collective behavior lack a hierarchy of authority, a division of labor, and a sense of group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2AE1-489B-41AD-9305-DE9D7396C9C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ies of Collectiv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inimax strategy (rational choice theory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re more likely to engage in behavior if they feel rewards outweigh c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ergent norm theor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ve behavior often takes place in unusual situations where norms break down and new definitions of acceptable behavior emerge as people look to each other for cl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3DD4-417C-4CBE-A06C-1D80218584B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ies of Collectiv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-added theor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ain conditions are necessary for individuals to join together in collectiv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conduc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str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ad of a generalized bel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pitation fa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ization for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rols are we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FC4B-B10A-4D9F-B998-7FAE9E8329C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7" descr=""/>
          <p:cNvPicPr/>
          <p:nvPr/>
        </p:nvPicPr>
        <p:blipFill>
          <a:blip r:embed="rId1"/>
          <a:stretch/>
        </p:blipFill>
        <p:spPr>
          <a:xfrm>
            <a:off x="1417680" y="2209680"/>
            <a:ext cx="6886440" cy="1905120"/>
          </a:xfrm>
          <a:prstGeom prst="rect">
            <a:avLst/>
          </a:prstGeom>
          <a:ln w="0">
            <a:noFill/>
          </a:ln>
        </p:spPr>
      </p:pic>
      <p:sp>
        <p:nvSpPr>
          <p:cNvPr id="61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447A-EC62-4244-B3C6-6C359A93154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3260880" y="1432080"/>
            <a:ext cx="3200400" cy="430524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EF1D-676C-48BA-957D-7D1993D50A5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collectiv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s (e.g. lynching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ots (e.g. Iraqi riots over lack of jo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nic (e.g. in fi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mors (e.g. urban legen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ds (e.g. tatto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hions (e.g. music gen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1EC7-8FDE-4144-9F79-01F69330C85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2819520" y="167652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1523880" y="2971800"/>
            <a:ext cx="662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rocess of Change: Can We Make a Differ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Organizations Plan for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berate, structured attempts, guided by stated goals, to alter the status quo of the social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times change is desired; sometimes it is forced on the organization by external stre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cannot be fully predicted, as changes in one area may create problems in 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B521-68D3-4319-BE01-859A0A4C638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ed change in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planning organizational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sed system mod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focus; goal is to move the organization closer to ideal bureaucratic efficiency and effect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system mod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 internal processes, which create outputs, with external environment, which creates inputs and feedba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s change as ongoing; all parts of organization and environment as linked; change in one part affects the 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7D4C-9C91-4533-969E-6DBC935B5C6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ed change in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cess of Planned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organizations must change within themselves to meet new conditions and attempt to bring about change in the wor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s must try to avoid conflic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is generally perceived as desirable if it is evolutionary or planned; unplanned change can be disrup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62DF-74CD-40A0-A8D3-0B823447EAA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ed change in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level chan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movem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ciously organized attempts, outside of established institutions, to enhance or resist change through group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a common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n organization, leader, and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mon in industrial or post-industrial societies where diverse groups advocate for their own inter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begun by an individual outside the power structure and focus on how resources are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stimulate counter movements: social movements against the goals of the original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C1D8-5E69-4BDE-AC6E-F1EDFC5879E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7621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st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the movement is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rization st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 join efforts, define goals and strategies, develop recruitment tactics, and identify leaders; the social movement enters the public a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998600" y="16048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ized st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nt becomes a formal organization, which gains members an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 and demise (in some case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breaks apart due to unmet goals, exhausted resources, or leadership that is inept, no longer legitimate, or co-opted by powerful mainlin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746280" y="120168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ges of Social Mov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9174-4C01-4A24-803B-87DD971B134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Movement 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must share basic values, ideals, stat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must be a preexisting communications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rain and precipitating event galvanizes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ive leadership eme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develop a sense of efficacy and potential su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4A7F-E52D-4CF3-B6F0-424C5896A3E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7621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changing people, saving them from corrupt life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refor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to change some aspect of society, but members generally support society as a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utiona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mpt to bring about total change in society by overthrowing existing power structures and replacing them with new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998600" y="16048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or regress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nge as a threat to societal values, want to maintain status quo; try to protect existing systems or restore old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transnation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place across societies and focus on large-scale, glob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5"/>
          <p:cNvSpPr/>
          <p:nvPr/>
        </p:nvSpPr>
        <p:spPr>
          <a:xfrm>
            <a:off x="746280" y="117000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Social Mov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A380-2AB5-4200-B13C-FA1840D8F99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5" descr=""/>
          <p:cNvPicPr/>
          <p:nvPr/>
        </p:nvPicPr>
        <p:blipFill>
          <a:blip r:embed="rId1"/>
          <a:stretch/>
        </p:blipFill>
        <p:spPr>
          <a:xfrm>
            <a:off x="1622520" y="1523880"/>
            <a:ext cx="6475320" cy="4229280"/>
          </a:xfrm>
          <a:prstGeom prst="rect">
            <a:avLst/>
          </a:prstGeom>
          <a:ln w="0">
            <a:noFill/>
          </a:ln>
        </p:spPr>
      </p:pic>
      <p:sp>
        <p:nvSpPr>
          <p:cNvPr id="65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2C91-EC23-488E-B045-A4C2C77B9FC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and Social Mov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outh countries are coming together to form social movements in response to unjust treatment by Global North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from below”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orts by common people to protect workers and the environment from profit-driven glob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2BDC-2F5E-42B9-B237-607D1652674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actical application of tools, skills, and knowledge to meet human needs and extend human abil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is closely linked to the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cal revolutions have altered societies and created social div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A868-C428-45F7-A18B-2ED9B22CC69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, environment, and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tions or alterations over time in the behavior patterns, culture (including norms and values), and structure of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s controllable, some n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vitable and ubiquit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rapid or gradual and evolution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at one level often caused by change at anoth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1230-5E97-4905-8B6B-1AD2CEB6084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 of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gburn: technological change is brought about by three proce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ove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ew way of seeing reality, created by an individual or small group (micro-le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n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ing existing parts, materials, or ideas to form new ones, often through the expansion of science (increasingly meso-le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us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pread of an invention or discovery from one place to another (involves macro and micro leve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2103-1C8E-46FE-ACEC-9B2500126D2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, environment, and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and Sc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ce: the systematic process of producing human knowledge; it uses empirical research methods to discover facts and test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applies science to solve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ce has become a major social institution in today’s industrial and postindustrial socie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alization: the creation of a stable pattern of roles, statuses, and groups that systematically meet needs for new resources and understa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institutions involve people, resources, specialized training, communication, 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and applied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183B-D9D2-404B-951E-1508C0998A6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, environment, and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and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echnology can be a force for global integration or dis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echnology can lead to economic and political dis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echnology can bring benefits to some, while harming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 technological change affects inter-generational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5102-E35C-45F2-81C4-06777AE2FCA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, environment, and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at the Individu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with wealth, charisma, expertise, or privileged position can bring about 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s use many strategies to persuade individuals to accept change, for example, appeal and persuasion, removing uncooperative individuals, using direct command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2866-C163-4F55-88F0-6B193BF99AC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lexity of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838080" y="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at the Institu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mate Change: an example “the use of indiscriminate violence to cause mass fear and panic to intimidate a population and advance one’s political goals” (Nolan 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so-level phenomenon, though it has personal and global im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carried out by non-state groups such as ethnic, political, or religious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ects institutions like the economy, government, religion, family, and medic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1B4D-F9E4-458C-8DAC-8DBABE19859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lexity of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at the Institu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Churches and Univers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religious denominations have developed programs to be more “green” or “earth-friendly.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universities are switching purchasing to avoid sweatshop la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84A6-17C3-4A2B-A8E2-34DE3B14D9D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lexity of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at the National and Global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al-level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environmental shifts caused by one nation affect the entire world, but most nations do not want to change environmental practices for economic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ystems and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etus for change comes from global organizations, national and international organizations and governments, multinational corpo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international alliances based primarily on economic 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7625-DDCD-4058-AB2E-03CC0E96688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lexity of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cess of Social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is trigger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pressures for chan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conflicting goals or belief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pressures for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the natural environment, population dynamics, leaders or dominant individuals, technology, the social environment, or major historical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0F2E-613E-4C46-AF0E-D79624843E1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theories of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s actively construct meaning; re-definitions of reality can upset the status quo and be powerful impetuses for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 choi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roup-seeking change must set up a situation in which new desired behavior is rewarded, or where people’s perceptions about the advantages and disadvantages of old behaviors are alt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4CC3-AB93-4B4F-B681-49C8F2D8BF0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21:07:46Z</dcterms:created>
  <dc:creator>Amanda</dc:creator>
  <dc:description/>
  <dc:language>en-US</dc:language>
  <cp:lastModifiedBy>Stephanie Palermini</cp:lastModifiedBy>
  <dcterms:modified xsi:type="dcterms:W3CDTF">2017-07-03T19:19:48Z</dcterms:modified>
  <cp:revision>90</cp:revision>
  <dc:subject/>
  <dc:title>Chapter 16:  The Process of Change</dc:title>
</cp:coreProperties>
</file>