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CBA-C05B-44C0-B097-49B7F7549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BE1-AEEC-4529-AE7B-3B3A8C8C9B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C0C-6354-44B8-B041-52903A04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5A9-5526-4A3E-B225-E84DF45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890-3641-4A29-BBE5-83B61182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CFE-FAF3-455D-A39F-9D8BD69F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CF1-7849-459B-A46E-DDBCBC92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75EF9-4877-4913-94AD-7BF0A04931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5FC65-028F-42C8-B0BD-959751353C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BA427-2D8A-4325-92A2-FECF2AD4B2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3DEBE-4464-4F1E-847F-A6D2E38105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8F56-E5A8-4DAF-A5EA-61F64E2CB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1C6-9597-41F9-944C-57A48CE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3AF96-52E5-4206-A760-1C85A29A2F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B3CB2-633B-4A74-A3B4-00C42D3AB5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0B946-6D18-4C0E-8F47-44B6618CEE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27B1-5D16-4B4F-A8F5-38226D66FD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9120-8EDE-4174-8635-C2AFE83FD8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0A4B-8257-410D-8983-4AFBC95AA2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4845-C0CD-4348-BA48-35B00FDE85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EAF-6188-4DE5-80B4-AB5DBF8A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DCE-F042-4F1B-BD02-4269C161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C39-0C3F-4CBB-B0D1-C88DABDE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2C0-DD1C-47A1-9490-74C6AB5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958-0A00-45C4-AD6F-1A0167B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7A7-ED58-4AFB-9E5C-50AC63A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C9C-5A9A-44FF-AF9B-8C9FEBC24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79D-C41C-41BE-B5E5-52F0BD54E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 and Plural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s believe that citizens legitimize political systems because they serve important functions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ural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distributed among various interest groups so that no one group r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s involves negotiation and comprom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multiple power centers offers the best chance to maintain democratic forms of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and the Power E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believe that the state protects the privileged position of the f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lit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 of society by a small group of elites is inevit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els’ “iron law of oligarchy”: leaders’ influence over who succeeds them allows ongoing elite power and abuse of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 Wright Mills described the US power elite as cohesive and interlocking, enabling it to make key political, economic, and social deci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fluence our personal lives in a variety of w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lso impact government through political participation, such as vo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political participation is affec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eople fall in the stratifi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ir perceptions of their power in relation to 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ology and political attitudes affect how people think about power and particip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we believe about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of individuals vs. state pow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distribution of resources versus allowing those with high ability or inherited status to receive more wealth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nge is desirab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participation in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jority of people in the world are uninvolved in the political pro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opportunity in nondemocrat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mocratic countries, apathy and alie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can include voting, contact with government representatives, involvement in local and national campaigns and iss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voter turnout is low compared with other democratic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 provincial governments, national political parties, large formal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 influence and are influenced by other institutions such as the family, education, religion, health care, and the econom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s of Political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 functions of meso-level political and economic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intain social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erve as an arbiter in disp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tect members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present the group in relations with othe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lan for the future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vide for the needs of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System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Privi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xercise power relations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l with production and distribution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and economic institutions are interrel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sets of institutions affect power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arian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mes headed by dictators or military juntas who hold absolute power, with little room for citizen invol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 used by a state to control its own citizens or those of another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two political parties compete for power in elections; government is accountable to citizens, who have significant control over their own lives  Other fea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itutional limits are placed on government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documents such as constitutions are the basis for the development of leg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419640" y="1447920"/>
            <a:ext cx="352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9718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litics and Economics: Probing Power; Dissecting Distribution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of democratic govern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liamentary (e.g.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identia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represent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al (e.g. many European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ner-take-al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delivers political information at high speed, but also has downsi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careful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complex issues to binary oppo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individual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ationalism rather than reasoned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ulsive rheto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mer mentality rather than citizen men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unds information with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ystems (capitalism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individual planning, private property, profit-making through fre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and demand let some profit, others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little governmental oversight is need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ensure sufficient production, distribution,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reward innovation, resulting in growth and prosp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xist critics claim capitalism creates class inequality, exploitation, conflict, and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ly, in most Western capitalist countries, labor unions and laws have emerged instead of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ritics: profit trumps human dignity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systems (socialism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based planning and control of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is planned with communal good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each individual contributes to and receives benefits from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ed economies (democratic socialism or welfare states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or group planning of societal develop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can pursue self-interest within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y is privately owned but regulated; public services are government contro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political system, public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ation used to redistribute income and pay for education, health, pension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: a relatively new form, can be both productive and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the Nation-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-st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litical, geographical, and cultural unit with recognizable boundaries and a system of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nd nationalism are relatively recent; they emerged in the sixteenth centu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entire world is divided among more than 200 nation-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s and Rebe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and political transformation of a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nation fails to fulfill expected responsibilities and new leadership emerges to challenge existing reg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vio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results in altered distributions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–macro political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/provincial governments and national political parties: less encompassing than the federal government but still influence national politic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level controversies that influence national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ing for the economic stimulus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s for nominating and electing the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dependencies and Po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y and world systems theorists point out inequality between rich core countries and developing peripheral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wth of democracy in peripheral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med conflict occurring within, between, or among societies o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political and economic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 the distribution of power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volve power relationships between individuals and larger social institut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produce goods and services and distribute them unequally, giving some citizens more privileges than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ics and eco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nations go to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 use moral, religious, or political ideology to legitimize war, though causes may lie elsewhe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theorists believe underlying social problems cause system disruptions, including wa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also see war as functional for social inte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see war as the outcome of oppression by the ruling elite and/or attempts to overthrow that oppre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businesses profit from w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nations avoid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r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gue that if a nation is militarily strong, no one will dare attack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ti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discussion to reach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s that negotiation means a partial win—and a partial loss—for each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 from research on twentieth-century w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ation that began a major war in the twentieth century emerged as a clear win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 between nuclear powers could be suicid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ctor’s peace plan is seldom lasting; equitably negotiated peace settlements are more dur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indiscriminate violence to cause mass fear and panic, intimidate citizens, and advance a group’s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refers to acts of violence by private, nonstate groups with revolutionary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ts come from all political orientations: anarchists, nationalists, religious fundamentalists, members of ethn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because terrorist strikes seem random, so governments have no clear way to respond as terrorists groups are hard to lo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 (con’t): without understanding the underlying causes, we can do little to preven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explanations cite religious and political beliefs that encourage “we vs.  they” think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explanations help us understand when conditions are right for terrorism, for example, when conflict between societal systems is already hi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explanations emphasize the unequal distribution of world resources and the oppression of particula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mmon social science definition of power comes from Max Web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of people or groups to realize their own will in group action, even against resistance of others who disag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arenas of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ttempts to control individual behavior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ontrol and coer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control and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of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to influence interactions and organ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ist perspective: power includes control of economic resources and production, which allows the dominant class to maintain ru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operative in soc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lso operat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bureaucratic organizations, corporations, ethnic, or minority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of power include international organizations such as the United N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level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theoris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symbols and constructions of reality allow some people to assume power, and how they generate 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socialization instills belief in the legitimacy of reigning author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 distinguished between legitimate and illegitimate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, or legitimate power, is recognized as rightful by those who are subject to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a government’s power is measu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 state can govern without the use or threat of forceful coercion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llenges to state authority are processed through normal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contribution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ways leaders gain legitimate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ismatic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-legal authority—most common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are legitimate forms of power because the people being governed give their cons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Stephanie Palermini</cp:lastModifiedBy>
  <dcterms:modified xsi:type="dcterms:W3CDTF">2017-07-03T19:11:33Z</dcterms:modified>
  <cp:revision>76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