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C8A-5151-4B1C-9013-E135E747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BA4-4D9A-43E3-B2FF-75527AFC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9F7-BEF2-455E-9D20-6A7726E0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F8C-DFF6-410B-BE06-F7EC9C55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E52-5191-4BF8-A016-435B8805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CB036-A984-4592-AA58-131DC1CD70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F236A-478C-4418-877F-819C08525D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29E80-6433-402E-B40E-ECC2A3B1AB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AC5B1-0978-4A61-A77A-BFB7C05CFB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80022-3C90-4B80-8631-FE9E54089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8F5-D484-4E70-BBA4-036F8B38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F5742-3745-4D6B-BEF6-3FE67B8611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0D221-BE11-419F-8D58-D7A6A1B12D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B834A-12C5-4B22-8AFE-CE073D56B2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0C859-EF0F-4F82-B947-0B44C4F279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3257F-107A-41A5-9FF1-0B95D702E6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A365B-A3EC-4E96-A05A-53789789A5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BED93-40D2-4E1A-A590-5895C916A8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854-893E-4251-A7DE-BFD3B2F2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0EA-CE82-41CC-8872-C42C54F9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076-8D3B-4DFC-83D7-6B3F682C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1C2-3BA4-4FB4-AD62-BBFA5EA6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D3A-85BC-40A2-A810-ACEF41F4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EA9-2796-4C06-8276-B1F5D9A2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6EF7-E2C6-4DB4-9C3B-DD759C1C8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85F8-1BE2-46AE-8EBD-D36B05EC2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is a key factor affecting health and illn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al control of women carries over into health care systems, reinforcing dependence and submis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North women are profitable for health care systems: they have more and more expensive proced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s of women’s bodies and “normal” biological experiences are key to patriarchy, as they have been used to “prove” women’s inferior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996F-D173-40C5-AADE-556F5D1F0A3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onstitutes illness rests on socially defined symptoms and circumstances, not universally recognized bodily malfun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sons’ “sick role”: rights and obligations of those who are accepted as legitimately i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to be excused from responsibilities until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not to be faulted for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ligation to define illness as undesirable and not to prolong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ligation to seek competent help in getting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2675-E589-4165-A286-5A094DD1E16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s and roles of the sick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actors in Health and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belief systems and heal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of treating illness are culturally determin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s of mental illness vary across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 is universal, but the way it is perceived, explained, and reacted to is culturally determin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CD44-C31D-468D-96A2-DB8EB6731F0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s and roles of the sick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9907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actors in Health and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redictors of individual health and illn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: older people need more medical inter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: Western women report and are treated for more health problems than men; men use more emergency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ic group: ethnicity affects socialization into health care behaviors and access to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atus: wealthier individuals are more likely to seek medical help for illnesses early on, in part because they can afford it; lower-income people seek help later, in response to cri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838-1EF0-4A11-98BF-6B176D8DE8E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s and roles of the sick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National Health Car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programs based on the philosophy of health care as a human righ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ed medicine: government-supported consumer service with equal access to all citizens; the government owns most facilities and pays providers directly (e g , Canada, Great Brita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ntralized national health programs: government regulates but does not operate the health care system (e g , France, German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31DE-BF96-4632-979C-F93D85CD272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National Health Car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in the United St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-for-service: doctors and hospitals are paid for each service they perform, perform the services they deem necessary, and decide the price of services; financed by public and private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in poor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patterned on former colon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mbine Western and indigenous medic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uggle to provide basic health needs, sometimes aided by global health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BC41-EAAC-4CF2-8FD5-548421844C1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s as Complex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s: places for the care and treatment of the sick and injured, and for provision of centralized medical knowledge and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in response to urbanization and industrialization, which led to new health problems requiring systematized, ration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d from places to die to places for hea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highly bureaucrat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control by physicians and administrators is giving way to corporate, profit-oriented control in the 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E4D5-662C-4727-82DF-E3D058D5A3A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nging Professional Statu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s as large, bureaucratic organiz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s of labor are extensive and specializ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 systems are based on prestige and power, with physicians historically at the to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coordinate many highly skilled peo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7A4E-BCC2-41CD-957A-053FF157780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nging Professional Statu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confronting physicia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ugh they are highly respected today, physicians’ authority is relatively rec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challenges to physician author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tion fo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ine in public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spe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ofessionalization: increasing control over physicians’ work by nonprofessional, outside fo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7C51-8FD3-4272-B538-F41636CBB02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4952880" y="4114800"/>
            <a:ext cx="358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outpatient c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demands from insurance compan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st and worst in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edic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practitio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ces in medical research and therapies and in public health programs, for example, to increase motor vehicle safety and reduce tobacc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133720" y="13716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133720" y="2819520"/>
            <a:ext cx="5715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ealth Care: An Anatomy of Health and Ill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health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distribution of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family physic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costs and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st per-capita costs, which continue to g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d care: an attempt to combine efficiency an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rs are shifting more health care costs onto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F3EC-B2E1-488C-8DD5-469E0BE5BB2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health care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 of 4 adults lacked health care in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 of 5 did not receive the needed health-related services because they could not afford to visit a do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5E36-127E-4193-8A6F-7398B63ED6D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 S 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ordable Care 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ho do not have a group plan or are low income can acquire health insurance through ex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te of those who don’t have insurance has been declining due to this 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se without insurance must pay a fine and pay for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D5D9-88A6-4F01-90FB-8756EEE1BD5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issues and social r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health care a right that can’t be bought and sold, or a commodity to be purchased on the market, so competition can increase quality and reduce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proposals for reforming the U S ’s market-based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e the partly public, partly priv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in reforms one at a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 a comprehensive reform package to provide national health insurance and government overs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F7A1-5A2A-43CD-9AC9-8A9E0DC20B2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hallen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hould be done about the uninsured popul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costs be controlled in a managed care syst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ill the physician-patient relationship shift under new structures of health ca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22CD-BA96-4731-BF1E-96A7E40E9C8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variation in health care pract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ociety’s health care system is shaped by its demographic makeup, value system, and financial sta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eds of Global North countries, which have more elderly people, are different from those of Global South countries, with mor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ountries have far more doctors than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na: medicine in a Communis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EF23-2156-4CCD-AE23-6D9C8C9C48D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 around the 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of medical probl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sale of body parts on the black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measures of national heal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 mor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 expect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s vary in primary causes of d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and the mobility of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and modern medical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7D7A-0C88-4925-8395-914A455B2A5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 around the 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and the mobility of disea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nsity and mobility of the world’s population affects human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global travel can cause disease to sp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land affects the number of rodents and insects, sanitation, contact between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oor circulated air can spread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interests have an impac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nies such as pharmaceutical firms may halt public health efforts that threaten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bacco companies market their products glob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F528-F1CD-43F4-828F-5CE8F1194EF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 around the 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Intervention at the End of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futilit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atment fails to end total dependence on medic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euthanas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ding dying individuals by prescribing or administering a lethal dose of drugs, only given to patients who request it, usually under legally controlled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56A1-01E5-4DE9-8E70-7B895A8DC11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s administer the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few people have chosen the Death with Dignity Acts to arrange their own dea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of dying differs by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re system is affected by aging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9E3E-8BC5-48AE-95AC-E4DD4D98A99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th with dignity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: a state of physical, mental, and social well-being or the absence of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ness: the lack of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, illness, and health care affect how individuals and groups carry out their lives at the micro, meso, and macro lev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health a social issu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micro level, health impacts our ability to carry out our responsi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meso level, health care institutions affect and are affected by other instit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macro level, health care practices and beliefs about illness are culturally determin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health issues include pandemics, bio-terrorism, distribution of immunizations and drug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demic: a disease that is prevalent throughout an entire country and potentially around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B987-493E-4034-BA97-AC4F708A4E4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health a social issu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and Labeling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ness is whatever the powerful (e g , doctors) define and label it 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ization: a shift to handling normal or deviant human issues in the health care system rather than family, legal, or religious ar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pes our interpretation of the problem, who treats it and how, whether we hold individuals to bl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a shift from individual to expert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ssues have been de-medic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92C9-F206-45C0-90DB-7EEE45BEEA9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s in illness are linked to shifts in macro-level social condi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 define what counts as illness and how to treat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alth care system helps maintain the social structure and balance between individuals and instit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ness is not functional for society: the “sick role” is seen as deviant since it robs society of normal role functio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917A-F2EF-4015-8444-814DB5C67AF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l access to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ed by people’s economic and social positions and by global inequality among rich and poor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in variation in the illnesses people s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 of profit motives in shaping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tors’ exercise of social control and differential treatment of patients based on social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B027-5069-445F-A10C-D13C5352566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06:05Z</dcterms:created>
  <dc:creator>Deborah J Barr</dc:creator>
  <dc:description/>
  <dc:language>en-US</dc:language>
  <cp:lastModifiedBy>Stephanie Palermini</cp:lastModifiedBy>
  <dcterms:modified xsi:type="dcterms:W3CDTF">2017-07-03T19:07:02Z</dcterms:modified>
  <cp:revision>88</cp:revision>
  <dc:subject/>
  <dc:title>Chapter 14: Medicine</dc:title>
</cp:coreProperties>
</file>