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193A-9C84-4CA9-8811-3263F166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4F01-3FF5-48EB-BCF0-5F7573DF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AF07-2037-489D-9A45-316D948CBC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0C8-6E48-4F75-971F-7166B3F0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B5D-95F9-485A-972B-2AD0ECFF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6B1-4CE3-43B6-A96A-D598AB10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2A4-23E7-431E-B271-E733DE71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1EB-1140-45E8-BBF0-6F7BB938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E867F-BB86-4F85-9F29-66A694A166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EDAF-D9CB-4731-A3C1-96E8E775D7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21719-F457-4458-8E4D-48235A0F5A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7104A-1301-42F3-8800-13D7047DEC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49A0-8C43-4906-8F39-480A5606D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712-00CF-40F8-971F-501225C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5B46-4F73-49A7-82C9-F4ECA3F400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A4399-F8C5-490F-8B18-92102ADA4E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FC9B4-218C-425D-8E51-DB525B80D1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B7456-19B7-4529-BA1C-9F8B9AC42C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FA35-F16E-4563-AB06-E14C6AE05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D2A40-C3AD-4BDA-8F56-24CC202A4F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B39B-6933-4490-80C6-93F59142BB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4EA-04BC-4E75-821B-4D92A80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0F3-B229-47EE-AA21-56E63300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E80-B92B-487D-B1D7-0AA6A26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747-1F15-4975-8AB3-D68EE67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5C3-B8D6-45B1-9519-5896CD7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44C-C33A-422B-B740-733ED67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EE3E-B5B9-4B7F-B33A-49E7B61B2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2DE-EAD2-44B2-8FA1-082D73B3B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1"/>
          <p:cNvSpPr/>
          <p:nvPr/>
        </p:nvSpPr>
        <p:spPr>
          <a:xfrm>
            <a:off x="746280" y="1392120"/>
            <a:ext cx="559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Second Shift”: Who does the chor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5D9-74D1-427B-89AD-A7F7F5CD5C7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"/>
          <p:cNvPicPr/>
          <p:nvPr/>
        </p:nvPicPr>
        <p:blipFill>
          <a:blip r:embed="rId1"/>
          <a:stretch/>
        </p:blipFill>
        <p:spPr>
          <a:xfrm>
            <a:off x="1033560" y="2021040"/>
            <a:ext cx="700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ucture of the Family Institution–Families are ch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marri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ct 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 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a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fami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ed famil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6B6-46BD-44DA-AE51-8F1B5DCA606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conomic Institution and the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mily is the primary economic unit of consum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and fami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% of US families live below the poverty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mothers are often in poverty due t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roles as workers and m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ings are less than me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egular receipt of child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representation in policy-making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of poverty”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D05-C6FB-4EF6-82D0-0B275276DBB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"/>
          <p:cNvPicPr/>
          <p:nvPr/>
        </p:nvPicPr>
        <p:blipFill>
          <a:blip r:embed="rId1"/>
          <a:stretch/>
        </p:blipFill>
        <p:spPr>
          <a:xfrm>
            <a:off x="990720" y="1630440"/>
            <a:ext cx="7010280" cy="2004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5867280" cy="261792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637-7516-4D9A-BA66-3FCBAB5B66A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onomic Institution and th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worker fami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career marriages reduce economic strain but complicate family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A has been slow to institute family–friendly work policie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ly available chil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ing leaves for child birth and illness (Family and Medical Leave Act of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ting: working from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-time: individuals schedule their own hours withi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sharing: individuals can split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742-DD82-4725-A8C8-6E4FC9974D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family patterns and polic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trengthen families, should the USA make it more difficult to obtain a divor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s claim “pro-family” policies will promote stability and are a precursor to healthy relationshi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believe that limiting divorce would leave many women vulnerable in relationships to abusive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laim “pro-family” policy might create more lasting marriages, but not necessarily healthier 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113-24CA-47F7-84F8-B12394B4DC3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riage, divorce, and social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Supreme Court declared same-sex marriages legal in all 50 states on 26 Jun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SA, support for same sex marriage has rapidly incr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nents of same-sex marriage argue that marriage has been a function of the church, temple, and mosque for centu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E101-880A-40E3-938A-447B69A983E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famil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ing skills like reading, writing, and math, in a building, through systematic instruction by a trained profes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ost affluent countries and urban areas, formal schooling is necessary for survival and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eracy is necessary for democratic governments, where informed citizenry elect officials and vote on public poli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chooling is a modern concept, which became necessary once jobs required literacy and math ski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59C-DCA1-4454-9628-AD235FBE1DD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world’s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and the Peer Culture of Sch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peer cultu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ble set of activities, routines, artifacts, values, and concerns that children produce and share in interaction with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er cultures create identities and lab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’ class, race, gender, and sexuality affect their school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 outside the school affects students’ experiences within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0073-C455-42FA-AC6F-1D91418A166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: The Front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ront line in implementing school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 as gatekeepers, controlling the flow of students, activities, resources, and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strain: need to judge students’ performance while also encourag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r status and reward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ats to professional autonomy and self-re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884-6013-422B-9D32-F386E333EF7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743200" y="16765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371600" y="2971800"/>
            <a:ext cx="7086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 and Education: Institutionalizing Social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or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of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op of the hierarchy in local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te between individual schools and larger education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geting, reporting, regulatory 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 hiring, firing, training, and negoti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and public relations; acting as a buffer in conflicts between parents and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ing discip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5B6D-08B5-45F9-9F3A-8D43871C7B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 system of schoo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spoken, unwritten, and implicit norms of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and enforced by teachers and/or by student pee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the hidden curriculum, educational climate, value climate, and classroom power dynamics and coping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dden curriculu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licit “rules of the game” students must learn and respond to in school to be socially accepted and to succeed in the edu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B3F2-9260-4E12-8E24-739279C1FF8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ducational climate of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eneral social environment of schools and classrooms, for example, stimulating or stif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d by factors such as teacher expectations, student groups, classroom layouts,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vary by students’ gender, race, ethnicity, cla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lue climate of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’ motivation, aspirations, and achie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d by students’ home environments, parental and teacher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E923-0EF5-4386-B107-F48993ABAD1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dynamics and coping strategies in the classroo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ry to get students to obey, cooperate, take responsibility; students try to win some control and freedom from teac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develop coping strategies, which become part of the “hidden curriculum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BED4-87C8-4CE1-8CE0-0CAE21F53E6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reaucratic Schoo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’s bureaucratic model applied to sch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rules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iz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of bureaucratic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-effective, efficient, produ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of bureaucratic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, rigid, alienating, lack of attention to personal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2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5F2E-5BFA-49AD-8CC0-865268EB6B0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and the social institution of fami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 is thought to be the most important influence on children’s school achie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of parents in motivating and preparing children for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and changing work structures affect parents’ ability to encourage and direct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B684-9C30-4758-8167-D32C5A301A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and Racia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dle to Pipeline” (Children’s Defense F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p in educational achievement for boys is especially strong for African American, Hispanic, and low-income 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ck students are 3.5 times and Hispanic students 1.5 as likely to be suspended as whit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D179-EBC9-4E40-9334-D9005BEAB7F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organiz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s of Educ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is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138-4E2A-4359-A624-C7FCD7ECCC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8077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and Educ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are used by powerful and affluent groups to ensure that their self-interests are m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do not provide equal educational opportunities for all children i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are manipulated to preserve privileges for the children of “haves”; children of “have-nots” are prepared for less rewarding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sults in the reproduction of class: socioeconomic positions are transmitted across gene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AD3-88EB-404E-8F53-615264545B5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chools bring about equality in socie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opportun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ople have an equal chance of achieving high socioeconomic status regardless of class, ethnicity or race, or gen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equal educational opportunity, according to James Colem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common curriculum for all children, regardless of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for children from diverse backgrounds to attend the same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equality within a given loc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E280-564E-4D07-966C-21097D0D1DF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9907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, patterned, enduring sets of social structures that provide guidelines for behavior and help society meet it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e mostly at the meso level but also act to integrate micro and macro levels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the family, education, religion, politics, economics, and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interdependen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s in one can affect the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abstractions, but with real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C8F-7AB1-4A5A-8C3A-A1F66C26EB6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is supposed to be a meritocra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itocracy: a formal system in which people are allocated to positions according to their ability and credent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itocracy is consistent with bureauc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in many cases educational meritocracy does not ex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maintain that education perpetuates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EFB-EBE6-4ECA-934B-E61B9A64A5B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ns of placing students in school according to their achievement and merit, and of determining their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ics claim tests are biased against lower-class, immigrant, minority, and/or femal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tests reveal educational inequalities betwee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3B03-3720-44E2-A606-9B9BB3D1CED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5" descr=""/>
          <p:cNvPicPr/>
          <p:nvPr/>
        </p:nvPicPr>
        <p:blipFill>
          <a:blip r:embed="rId1"/>
          <a:stretch/>
        </p:blipFill>
        <p:spPr>
          <a:xfrm>
            <a:off x="1241280" y="1417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s of inequality: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7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8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06A-657A-4E22-84D0-E5EBDF0017F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r stream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ing students in ability groups so educators can better address individual learn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suggests that track placement is not always a measure of a student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s correlate with ethnicity, language skills, appearance, and other socioeconomic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can reinforce preexisting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search suggests that children learn more when working in groups based on achievement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B09A-B6E7-4EEF-BD37-4429B695706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at 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SA, unequal school spending results from reliance on local property taxes as well as state and federal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ing is closely related to the race and class composition of the schools, and to student achievement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ing differences perpetuate existing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C126-5914-41E6-BA90-9B919ABD0E6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at 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Census Bureau defini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 of two or more people (one of whom is the householder) related by birth, marriage, or adoption and residing together . . . [and] related subfamily memb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ociological defini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who share economic property, sexual access among the adults, and a sense of commitment among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religious groups define family as a mother, father, and their children; others include several spouses and even parents and siblings living under one roo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7D99-E4FA-456C-8EC1-EB816595169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as the most basic social instit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n the family that most people learn the norms of the larger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spend most of our lives in famil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life events take place within the fam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es fulfill a number of social functions that other institutions cannot prov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of orientation, in which we are born and ra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of procreation, in which we hav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2C6-2903-4CC5-894E-6D22BE2B904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y focuses on women to spotlight them as active agents and to uncover biases in male assump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icro-level branch examines women’s interactions and constructions of real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conflict theory argues that patriarchal families are a chief source of women’s oppr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’s equality can be enhanced with changes to the patriarchal family, women’s education and employment, and child care avail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F8B-1EEF-4D63-BAC6-5571EA669F5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 on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proce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eties of mate sel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est tab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-choice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trend toward the Western model is changing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C7FB-506B-4F2C-AB1A-67AAFDC9DC9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 selec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-Stage Courtship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mul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eet someone to whom we are attr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omparis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find the person compatible if they affirm our own beliefs and val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s and need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uple explores the roles of companion, parent, housekeeper, and lover to find common needs, interests, an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64B-A14A-4CC0-B185-8116DA8E407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0492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y Relations in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 decision-making and work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 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 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itarian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sh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ouse with greater resources has greate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109-0EC6-4054-B83D-2D080EACCC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4:17:48Z</dcterms:created>
  <dc:creator>Deborah J Barr</dc:creator>
  <dc:description/>
  <dc:language>en-US</dc:language>
  <cp:lastModifiedBy>Stephanie Palermini</cp:lastModifiedBy>
  <dcterms:modified xsi:type="dcterms:W3CDTF">2017-07-03T19:05:04Z</dcterms:modified>
  <cp:revision>78</cp:revision>
  <dc:subject/>
  <dc:title>Chapter 10: Family:</dc:title>
</cp:coreProperties>
</file>