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FAF1-C2AD-43F1-9D2C-5830F5ECE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B4C3-C33C-4B23-98B3-284F0A24F2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698-ECD9-4295-AFEE-865EA73D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48D8-9614-42BA-A68B-1783857C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6EED-42D0-4AD8-8D52-94553AD0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BD12-9890-4E18-BF4D-33B033BD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92F4-3D29-4004-9E88-A63CE7D6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DEEAF-D1DE-408B-B3B8-8A7346EAFC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F723D-31F2-4CBF-805A-15D89474FB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B3E37-7671-46DB-8AA3-CA59DD0085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B87E0-1858-4229-8DDE-2E8160D644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3F003-FA9C-47F5-AA26-16CFFDBCB3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C217-EA6D-4264-B6CF-2B98DD70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51AB7-7CDB-4FE8-9396-CC04C74BE4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3A026-0F77-4B5C-8511-FD486541DE4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BC960-21EB-4156-A163-4972852B21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378CE-47AC-4D85-B01F-302F4BB664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C52C0-7714-46F7-A929-0C02E46171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70E79-59B2-42BC-8B91-A821637B52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4E152-E54B-4727-8BA3-3BC924AEF1C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8718-46DF-4B03-B5E2-DE51F9E7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317C-97A4-4B0C-9F89-6700C2B3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310C-5BA0-4852-89D8-13C53FB1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AEBA-B430-4406-8656-6DF4A660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8651-B0D2-4C01-9A4A-5336EF25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19BE-0BC0-451B-B62E-4D2C097C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6420-A286-45B2-9F23-8B7E8472E9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ftr" idx="6"/>
          </p:nvPr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AB3E-06DD-4426-9299-880441377E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–Meso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der socialization: process by which people learn the cultural norms, attitudes, and behaviors appropriate to their g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gender behavior is reinforced and improper behavior is punished through sa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ges in gender socializ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infancy &amp; childhood, parents/family play major role (Na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, meso-level agents are importa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 media (Electronic games, televi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gious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1A69-1C0D-460F-9362-224316DADB2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der so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–Macro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ass ceiling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forces that keep women from reaching the highest levels of corporate and public responsi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cky floo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forces that keep the majority of the world’s women stuck in low-paid jo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ass escalato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forces that push men up the organizational hierarchy even if they do not seek to climb it, especially in female-dominated occup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orkplace itself is gend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46E8-AC79-48B3-AD70-8CCBDEFDBDE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der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ed Organizations and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places have a gender configuration: the ratio of men to women affects work experienc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men do not earn as much as 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workplaces are supportive of workers’ family responsibilities; others are n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mpacts women more than men; according to dominant gender expectations women must balance work and family needs, while men are seen primarily as work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18F1-39AD-4676-9EE2-3BEACD6745D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der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380880" y="-15228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tionalized Gender Discri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tional discrimination: woven into the social structure and taken for gran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jure discrimination: deliberate discrimination, often justified by beliefs about women’s inability to carry out certain ta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facto discrimination: unequal treatment that is uninte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de effect discrimination: rests on links between practices in different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st-in-present discrimination: practices from the past that may no longer be allowed still affect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C414-4836-4778-82F9-EC1484AA628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der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380880" y="-15228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theor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, biological sex differences act as symbols that differentiate rights and rew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 is socially constructed; it is not intrinsically related to s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hasizes human agency, or ability to influence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s do not just passively adopt gender roles; we actively “do” gender in everyday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B6F2-765B-4CA3-A8B2-4773FFD1EB6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gender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the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sex has a role to play in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societies change, so do roles &amp;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y: from mechanical to organic solida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: from similar to differentiated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but complementary ro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ressive (private sphere) – fem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umental (public sphere) – m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3285-0E4E-4359-BBBE-7C0A4749B51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gender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the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es males as “haves” (power, wealth), women as “have not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keeping women in subordinate roles, men protect their privile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le dominance justified by traditional ideo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 will not voluntarily give up their privileged pos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97A3-487C-4B67-8DD6-322E34193F9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gender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 to Macro-level the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inis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riarch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few men dominate all others, including women, children, less powerful 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riarchy is primary cause of women’s oppre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, race, and gender intersect in a way that privileges some women over others, though most women are still subordinate to most 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pite intersections, women are a “minority group” subject to stereotypes, prejudice, discrimin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inism actively advocates change to the social order to eliminate patriarc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BBBA-013D-4265-B4FB-78CBE16131C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gender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 to Macro-level the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, Homosexuality, &amp; Minority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xuality exhibits a broad range of combinations; societal expectations impose categ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eatment of homosexuality often determined by the government and dominant religious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y men and lesbians are often minority groups subject to prejudice and discri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mophobia: intense fear and hatred of homosexuality and homosexu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erosexism: social reinforcement of heterosexuality, marginalization of those who don’t conform (rural are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6B84-D2F3-4221-A52C-7CF7E723696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gender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380880" y="-15228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theor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ychological &amp; Social consequ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gid gender stereotypes are constrai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women: superwoman image and beauty image can lead to depression and health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men: image of “perfect” male body &amp; unemotional male role can lead to guilt, anxiety, and neuro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A4C3-9559-4B52-9EF8-772572D019D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sts &amp; consequences of gender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2743200" y="1828800"/>
            <a:ext cx="3429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1219320" y="2895480"/>
            <a:ext cx="6705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der Stratification: She/He—Who Goes First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to macro-level the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al Costs and Consequ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ification has consequences for all social institu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 educational achievement of female 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 of talents, resources of half of the 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k of health care impacts women and their 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divisiveness can lead to alienation, host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occupations and profession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 “take gender privilege with them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men take disprivilege, which lowers their positions and w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150B-6A97-4F64-9840-4B6A833CFFC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sts &amp; consequences of gender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actices used by other groups may be eff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violent protests, sit-down strikes, and walko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tual support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the internet to carry the message to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ycot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ding on traditions of community &amp; church activ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y of ending women’s subjugation: many women agree on the goal, but not the means of achieving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1DE0-7425-4366-BE99-7A3DB78958B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ing gender stratification &amp; social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y Id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 roles and identities are not biological, but socially constru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 roles vary widely; each society has its own way of assigning tasks in order to meet its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 roles may change over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90D8-B1F7-49E0-9A48-2778665633A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x, gender, and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 and/or anatomical differences between men and wo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societies divide roles based on s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societies insist on assigning a sex to all inf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sexed: persons with ambiguous genitalia, such that sex is difficult to as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eronormativity: expected attraction to members of the other sex; taken for granted norm in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B03B-025E-4DE0-AA50-2DAFE8F56AB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x, gender, and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ly constructed notions of masculinity and feminin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 identit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individuals form their identity using gender categ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 role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ly assigned tasks or expected behaviors linked to an individual’s sex-determined statu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gende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dentity of someone who is challenging or changing the gender they were assigned at bi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A500-939A-4E40-9BE3-3F2B41FE51C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x, gender, and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x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x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culture shapes the meanings of our experiences with our own bodies and our bodies in relation to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ke sex and gender, sexuality is socially constru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D391-D1E5-47D6-833F-4381A008BFD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x, gender, and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ough socialization, we learn the gender roles assigned to our sex and established by our cul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 expectations are inculcated by many agents of soc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lure to comply often results in sa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x, gender, and sexuality: The micro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tions: the roles we play in institutions differ by sex, as well as 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institutions segregate people by sex and 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institutions allow leadership roles to be held only by 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tionalized rites of passage, or rituals which mark changes in status, often differ by sex and 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men’s reduced power in micro-level settings is often related to lack of power in meso-level organizations and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0DEF-6E68-4695-A964-E4463A2869E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x, gender, and sexuality: The meso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tionalized privilege &amp; disprivileg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terns of action embedded in a social system which provide unrecognized advantages and disadvantag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ibute to sex inequality at the global/national level that is independent of personal prejud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74FD-9C3C-4799-A2DB-B80C6CBD19D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x, gender, and sexuality: The macro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6:18:01Z</dcterms:created>
  <dc:creator>Deborah J Barr</dc:creator>
  <dc:description/>
  <dc:language>en-US</dc:language>
  <cp:lastModifiedBy>Stephanie Palermini</cp:lastModifiedBy>
  <dcterms:modified xsi:type="dcterms:W3CDTF">2017-07-03T18:57:39Z</dcterms:modified>
  <cp:revision>61</cp:revision>
  <dc:subject/>
  <dc:title>Chapter 9: Gender Stratification</dc:title>
</cp:coreProperties>
</file>