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5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5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1E71F-C475-4C31-9E35-09C3324DC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325B-8084-45AE-A647-D368A95D84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D844C-7771-4681-A0F5-CB360C424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B0B46-AC46-4664-8A0C-3BD32F7DE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2"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3"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5"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6"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9"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1"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3"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4"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6"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7"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8"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9"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1"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2"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3"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4"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5"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6"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B5493-BEDE-4EFE-A8CC-167071537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0"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2"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4"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9"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0"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1"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3"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5"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2"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4"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5"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D2309-DE86-44C0-A765-2D3DBFCF5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0"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1"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2"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3"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4"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8"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0"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2"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3"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8"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9"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1"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3"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6"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7"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9"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2"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4"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5"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7"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0"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1"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8"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0"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1"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6"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7"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9"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1"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5"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7"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8"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1"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2"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3"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6"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7"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4"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6"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8"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9"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4"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9"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3"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5"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6"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8"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9"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0"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1"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3"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4"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5"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8"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5"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8"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2"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3"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4"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6"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7"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8"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0"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2"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4"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5"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9"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2"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3"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5"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6"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7"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72653-4076-4052-9218-3FB58E8AC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2FC266-4945-4693-95D1-0DDAE5BBE40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6A30A5-37E9-4A7D-984C-FDED5A72673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6"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A0EE29-9DC1-44E3-A8FE-53C3938F842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B07ED3-665F-443A-BF21-161FE53C1C5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B6B649-F00A-47CD-B4F6-835AB5D3EA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8A79F-1BE1-433C-8E39-113112F6B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A45E03-9C40-4F55-AB95-2162C22F459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5"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0D2BE2-D232-4CD7-AD0B-D434DB158CA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9"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37C8A4-17AA-4415-BD17-10539F760DA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C6772E-266F-4DDA-AAC3-6B2C99B4328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502794-0972-4574-BA41-3855F68F6FD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1"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44E591-49B4-484A-9236-CAC370D55BB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9C0AB9-C3BA-45FA-8934-D59FC291885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2"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4"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81FC9-D5A3-44E7-B158-7BA95F10A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6"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7"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2"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3"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5"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7"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9"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1"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3"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6"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9"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3"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4"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A8DDE-0ADC-4E67-926B-3FE3B2350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0"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4"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9"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0"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1"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3"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5"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1"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2"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7"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B293E-9C33-489F-A2AE-A01609AC4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9"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1"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8"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0"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2"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3"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3"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6"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7"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C77F9-511F-4DA8-9CE3-E292314E6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9"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0"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2"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3"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4"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5"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7"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9"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0"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6"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8"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0"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1"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6"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73CBF-EFD0-433C-A0A9-FDA182C5E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9"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5"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7"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8"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0"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1"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2"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3"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5"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6"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7"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8"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6"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8"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9"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C78FD-7CDD-4D3B-B002-D9C4585C6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5"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6"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8"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9"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0"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1"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3"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4"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5"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6"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8"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2"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762120" y="6356520"/>
            <a:ext cx="457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1295280" y="6356520"/>
            <a:ext cx="64771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Ballantine, Our Social World: Condensed 5e. SAGE Publications, 2018.</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229600" y="6356520"/>
            <a:ext cx="457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ED47-2209-4544-9082-9E28A365CC6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48"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86"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4"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62"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00"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01" name="PlaceHolder 3"/>
          <p:cNvSpPr>
            <a:spLocks noGrp="1"/>
          </p:cNvSpPr>
          <p:nvPr>
            <p:ph type="ftr" idx="6"/>
          </p:nvPr>
        </p:nvSpPr>
        <p:spPr>
          <a:xfrm>
            <a:off x="533520" y="6356520"/>
            <a:ext cx="5486400" cy="36504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antine, Our Social World: Condensed 5e. SAGE Publications, 2018.</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0"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1" name="PlaceHolder 3"/>
          <p:cNvSpPr>
            <a:spLocks noGrp="1"/>
          </p:cNvSpPr>
          <p:nvPr>
            <p:ph type="ftr" idx="4"/>
          </p:nvPr>
        </p:nvSpPr>
        <p:spPr>
          <a:xfrm>
            <a:off x="1295280" y="6356520"/>
            <a:ext cx="64771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Ballantine, Our Social World: Condensed 5e. SAGE Publications, 2018.</a:t>
            </a:r>
            <a:endParaRPr b="0" lang="en-US" sz="1200" spc="-1" strike="noStrike">
              <a:solidFill>
                <a:srgbClr val="000000"/>
              </a:solidFill>
              <a:latin typeface="Times New Roman"/>
            </a:endParaRPr>
          </a:p>
        </p:txBody>
      </p:sp>
      <p:sp>
        <p:nvSpPr>
          <p:cNvPr id="82" name="PlaceHolder 4"/>
          <p:cNvSpPr>
            <a:spLocks noGrp="1"/>
          </p:cNvSpPr>
          <p:nvPr>
            <p:ph type="sldNum" idx="5"/>
          </p:nvPr>
        </p:nvSpPr>
        <p:spPr>
          <a:xfrm>
            <a:off x="8229600" y="6356520"/>
            <a:ext cx="457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F9A85-BA6E-443C-A64F-9536656A76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20"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58"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96"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34"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72"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10"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hnic Group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hnic group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ership is based on shared cultural heritage, often connected with national or geographic identity</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erm “ethnic” includes most minorities and avoids problems of the term “rac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groups inhabit ethnic enclav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hnicity is defined in part by the government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ensus categories encourage diverse groups to think of themselves as parts of a larger category, or panethnicity (e.g. Asian, Hispanic)</a:t>
            </a:r>
            <a:endParaRPr b="0" lang="en-US" sz="2200" spc="-1" strike="noStrike">
              <a:solidFill>
                <a:srgbClr val="000000"/>
              </a:solidFill>
              <a:latin typeface="Arial"/>
            </a:endParaRPr>
          </a:p>
        </p:txBody>
      </p:sp>
      <p:sp>
        <p:nvSpPr>
          <p:cNvPr id="577"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78"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C2CA-61C2-48BA-8DCE-B45CBAB59F4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79"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 and ethnic groups</a:t>
            </a:r>
            <a:endParaRPr b="0" lang="en-US" sz="3600" spc="-1" strike="noStrike">
              <a:solidFill>
                <a:srgbClr val="000000"/>
              </a:solidFill>
              <a:latin typeface="Arial"/>
            </a:endParaRPr>
          </a:p>
        </p:txBody>
      </p:sp>
      <p:sp>
        <p:nvSpPr>
          <p:cNvPr id="580" name="Rectangle 4"/>
          <p:cNvSpPr/>
          <p:nvPr/>
        </p:nvSpPr>
        <p:spPr>
          <a:xfrm>
            <a:off x="380880" y="-152280"/>
            <a:ext cx="9144000" cy="1371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racial and Multiracial Populat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e is a social construct that can chang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countries are now multiracial due to migr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individuals are now multiracial</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t the legacy of the “race” concept remains</a:t>
            </a:r>
            <a:endParaRPr b="0" lang="en-US" sz="2200" spc="-1" strike="noStrike">
              <a:solidFill>
                <a:srgbClr val="000000"/>
              </a:solidFill>
              <a:latin typeface="Arial"/>
            </a:endParaRPr>
          </a:p>
        </p:txBody>
      </p:sp>
      <p:sp>
        <p:nvSpPr>
          <p:cNvPr id="582"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83"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42B1B-80E5-41E3-93F1-96E1CCAD87C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84"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 and ethnic groups</a:t>
            </a:r>
            <a:endParaRPr b="0" lang="en-US" sz="3600" spc="-1" strike="noStrike">
              <a:solidFill>
                <a:srgbClr val="000000"/>
              </a:solidFill>
              <a:latin typeface="Arial"/>
            </a:endParaRPr>
          </a:p>
        </p:txBody>
      </p:sp>
      <p:sp>
        <p:nvSpPr>
          <p:cNvPr id="585" name="Rectangle 4"/>
          <p:cNvSpPr/>
          <p:nvPr/>
        </p:nvSpPr>
        <p:spPr>
          <a:xfrm>
            <a:off x="380880" y="-152280"/>
            <a:ext cx="9144000" cy="1371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cro-Level Analysi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judice and Discrimin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judic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titudes that prejudge a group, usually negative and not based on fact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be stimulated by meso- and macro-level events, but attitudes are held at the micro-level</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riminatio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ial treatment and harmful actions against minoriti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ions occur at micro, meso, and macro levels</a:t>
            </a:r>
            <a:endParaRPr b="0" lang="en-US" sz="2200" spc="-1" strike="noStrike">
              <a:solidFill>
                <a:srgbClr val="000000"/>
              </a:solidFill>
              <a:latin typeface="Arial"/>
            </a:endParaRPr>
          </a:p>
        </p:txBody>
      </p:sp>
      <p:sp>
        <p:nvSpPr>
          <p:cNvPr id="587"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88"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73977-CC14-49A3-ACD2-47736A399B8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89"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judice &amp; Racis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ature of Prejudic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ults partly from in-group loyalty and information overloa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ereotyping: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tegorizing the personal qualities of large groups of people based on racial or ethnic featur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torted ideas are passed down through culture</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as applied to all group members and used to justify discrimination and inequality (may lead to hate crim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f-fulfilling prophecy: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orities may incorporate prejudiced views of themselves into their behavior</a:t>
            </a:r>
            <a:endParaRPr b="0" lang="en-US" sz="2200" spc="-1" strike="noStrike">
              <a:solidFill>
                <a:srgbClr val="000000"/>
              </a:solidFill>
              <a:latin typeface="Arial"/>
            </a:endParaRPr>
          </a:p>
        </p:txBody>
      </p:sp>
      <p:sp>
        <p:nvSpPr>
          <p:cNvPr id="591"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92"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9FD63-0C9E-418C-B159-A96115086FB3}"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93"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judice &amp; Racis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
          <p:cNvSpPr txBox="1"/>
          <p:nvPr/>
        </p:nvSpPr>
        <p:spPr>
          <a:xfrm>
            <a:off x="762120" y="1600200"/>
            <a:ext cx="3962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ustration–aggression theor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s of prejudice and discrimination are carried out by individuals who cannot achieve their goals, and direct their anger and frustration at vulnerable minority groups</a:t>
            </a:r>
            <a:endParaRPr b="0" lang="en-US" sz="2400" spc="-1" strike="noStrike">
              <a:solidFill>
                <a:srgbClr val="000000"/>
              </a:solidFill>
              <a:latin typeface="Arial"/>
            </a:endParaRPr>
          </a:p>
        </p:txBody>
      </p:sp>
      <p:sp>
        <p:nvSpPr>
          <p:cNvPr id="595"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judice &amp; Racism</a:t>
            </a:r>
            <a:endParaRPr b="0" lang="en-US" sz="3600" spc="-1" strike="noStrike">
              <a:solidFill>
                <a:srgbClr val="000000"/>
              </a:solidFill>
              <a:latin typeface="Arial"/>
            </a:endParaRPr>
          </a:p>
        </p:txBody>
      </p:sp>
      <p:sp>
        <p:nvSpPr>
          <p:cNvPr id="596" name=""/>
          <p:cNvSpPr txBox="1"/>
          <p:nvPr/>
        </p:nvSpPr>
        <p:spPr>
          <a:xfrm>
            <a:off x="4998600" y="1604880"/>
            <a:ext cx="3962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pegoating: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inority group is blamed and victimized for acts carried out by others, as the perpetrator cannot vent frustration on its real target or cause</a:t>
            </a:r>
            <a:endParaRPr b="0" lang="en-US" sz="2400" spc="-1" strike="noStrike">
              <a:solidFill>
                <a:srgbClr val="000000"/>
              </a:solidFill>
              <a:latin typeface="Arial"/>
            </a:endParaRPr>
          </a:p>
        </p:txBody>
      </p:sp>
      <p:sp>
        <p:nvSpPr>
          <p:cNvPr id="597" name="Text Box 9"/>
          <p:cNvSpPr/>
          <p:nvPr/>
        </p:nvSpPr>
        <p:spPr>
          <a:xfrm>
            <a:off x="831960" y="1201680"/>
            <a:ext cx="5181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Explanations for Prejudice</a:t>
            </a:r>
            <a:endParaRPr b="0" lang="en-US" sz="2200" spc="-1" strike="noStrike">
              <a:solidFill>
                <a:srgbClr val="000000"/>
              </a:solidFill>
              <a:latin typeface="Tahoma"/>
            </a:endParaRPr>
          </a:p>
        </p:txBody>
      </p:sp>
      <p:sp>
        <p:nvSpPr>
          <p:cNvPr id="598" name="Text Box 10"/>
          <p:cNvSpPr/>
          <p:nvPr/>
        </p:nvSpPr>
        <p:spPr>
          <a:xfrm>
            <a:off x="831960" y="593244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at these theories don’t explain: why only some people vent their frustrations on others, why particular groups become scapegoat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so-level Analysi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rimination: actions taken against members of a minority group</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vidual discrimination (micro level): action against minority members by individual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itutional discrimination (meso level): intentional or unintentional actions by organizations and institutions that restrict minority membe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rimination and prejudice often work together and reinforce one another</a:t>
            </a:r>
            <a:endParaRPr b="0" lang="en-US" sz="2200" spc="-1" strike="noStrike">
              <a:solidFill>
                <a:srgbClr val="000000"/>
              </a:solidFill>
              <a:latin typeface="Arial"/>
            </a:endParaRPr>
          </a:p>
        </p:txBody>
      </p:sp>
      <p:sp>
        <p:nvSpPr>
          <p:cNvPr id="600"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01"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00188-DA7B-420B-B92A-CFCFEF559CF7}"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02"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rimin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s of Institutional Discrimin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ntional discrimination: built into the law or explicit organizational polici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ntentional discrimination: results from policies that have unanticipated consequences favoring one group over another</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de-effect discrimination: practices in one institutional area that have a negative impact due to links to other area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st-in-present discrimination: practices from the past that may no longer be allowed today but continue to affect people anyway</a:t>
            </a:r>
            <a:endParaRPr b="0" lang="en-US" sz="2200" spc="-1" strike="noStrike">
              <a:solidFill>
                <a:srgbClr val="000000"/>
              </a:solidFill>
              <a:latin typeface="Arial"/>
            </a:endParaRPr>
          </a:p>
        </p:txBody>
      </p:sp>
      <p:sp>
        <p:nvSpPr>
          <p:cNvPr id="604"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05"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2774D-BD66-4FC9-889E-643CBF7D6F0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06"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rimin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minant/Minority Group Contac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rm of dominant and minority group relations depend on several facto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 has more power</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minant group needs for labor and other resources that could be provided by minoriti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ultural norms of each group</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ocial histories of the group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ysical and cultural distinctions between group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imes and circumstances</a:t>
            </a:r>
            <a:endParaRPr b="0" lang="en-US" sz="2200" spc="-1" strike="noStrike">
              <a:solidFill>
                <a:srgbClr val="000000"/>
              </a:solidFill>
              <a:latin typeface="Arial"/>
            </a:endParaRPr>
          </a:p>
        </p:txBody>
      </p:sp>
      <p:sp>
        <p:nvSpPr>
          <p:cNvPr id="608"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09"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59F37-0CA2-498E-AB18-F605666914A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10"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cro-level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Text Box 9"/>
          <p:cNvSpPr/>
          <p:nvPr/>
        </p:nvSpPr>
        <p:spPr>
          <a:xfrm>
            <a:off x="762120" y="2090880"/>
            <a:ext cx="5715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ypes of Dominant/Minority Group Relations</a:t>
            </a:r>
            <a:endParaRPr b="0" lang="en-US" sz="2200" spc="-1" strike="noStrike">
              <a:solidFill>
                <a:srgbClr val="000000"/>
              </a:solidFill>
              <a:latin typeface="Tahoma"/>
            </a:endParaRPr>
          </a:p>
        </p:txBody>
      </p:sp>
      <p:sp>
        <p:nvSpPr>
          <p:cNvPr id="612"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13"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BB02-0430-4B9E-A1CD-625EB98F78E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14"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cro-level analysis</a:t>
            </a:r>
            <a:endParaRPr b="0" lang="en-US" sz="3600" spc="-1" strike="noStrike">
              <a:solidFill>
                <a:srgbClr val="000000"/>
              </a:solidFill>
              <a:latin typeface="Arial"/>
            </a:endParaRPr>
          </a:p>
        </p:txBody>
      </p:sp>
      <p:pic>
        <p:nvPicPr>
          <p:cNvPr id="615" name="Picture 6" descr=""/>
          <p:cNvPicPr/>
          <p:nvPr/>
        </p:nvPicPr>
        <p:blipFill>
          <a:blip r:embed="rId1"/>
          <a:stretch/>
        </p:blipFill>
        <p:spPr>
          <a:xfrm>
            <a:off x="888840" y="2895480"/>
            <a:ext cx="7944120" cy="2210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
          <p:cNvSpPr txBox="1"/>
          <p:nvPr/>
        </p:nvSpPr>
        <p:spPr>
          <a:xfrm>
            <a:off x="762120" y="1600200"/>
            <a:ext cx="39621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ocid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ic effort by dominant group to destroy a minority group</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ugation: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ordination of one group by another that holds power and authorit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transfer: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al of minority group from a region or country, often forced</a:t>
            </a:r>
            <a:endParaRPr b="0" lang="en-US" sz="2000" spc="-1" strike="noStrike">
              <a:solidFill>
                <a:srgbClr val="000000"/>
              </a:solidFill>
              <a:latin typeface="Arial"/>
            </a:endParaRPr>
          </a:p>
        </p:txBody>
      </p:sp>
      <p:sp>
        <p:nvSpPr>
          <p:cNvPr id="617"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ypes of dominant/minority group relations</a:t>
            </a:r>
            <a:endParaRPr b="0" lang="en-US" sz="3600" spc="-1" strike="noStrike">
              <a:solidFill>
                <a:srgbClr val="000000"/>
              </a:solidFill>
              <a:latin typeface="Arial"/>
            </a:endParaRPr>
          </a:p>
        </p:txBody>
      </p:sp>
      <p:sp>
        <p:nvSpPr>
          <p:cNvPr id="618" name=""/>
          <p:cNvSpPr txBox="1"/>
          <p:nvPr/>
        </p:nvSpPr>
        <p:spPr>
          <a:xfrm>
            <a:off x="4998600" y="1604880"/>
            <a:ext cx="39625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milation: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d or chosen social and cultural merging of groups in which minority members may lose their original identit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ralism: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group maintains its culture and institutions but has recognized equity in socie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Rectangle 2"/>
          <p:cNvSpPr/>
          <p:nvPr/>
        </p:nvSpPr>
        <p:spPr>
          <a:xfrm>
            <a:off x="1981080" y="1600200"/>
            <a:ext cx="491508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8</a:t>
            </a:r>
            <a:endParaRPr b="0" lang="en-US" sz="3600" spc="-1" strike="noStrike">
              <a:solidFill>
                <a:srgbClr val="000000"/>
              </a:solidFill>
              <a:latin typeface="Tahoma"/>
            </a:endParaRPr>
          </a:p>
        </p:txBody>
      </p:sp>
      <p:sp>
        <p:nvSpPr>
          <p:cNvPr id="546" name="Rectangle 3"/>
          <p:cNvSpPr/>
          <p:nvPr/>
        </p:nvSpPr>
        <p:spPr>
          <a:xfrm>
            <a:off x="1371600" y="3124080"/>
            <a:ext cx="6781680" cy="13716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ce and Ethnic Group Stratification: Beyond “We” and “They”</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aining Dominant/Minority Group Relations: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uctural Functional Theor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ority groups often serve as pools of cheap, marginally employed labor, and this has several functions for socie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a labor force to do “dirty work”</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ke possible occupations which service the poor</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y goods others do not wa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t examples for others of what not to b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 others to feel good about giving to charity</a:t>
            </a:r>
            <a:endParaRPr b="0" lang="en-US" sz="2200" spc="-1" strike="noStrike">
              <a:solidFill>
                <a:srgbClr val="000000"/>
              </a:solidFill>
              <a:latin typeface="Arial"/>
            </a:endParaRPr>
          </a:p>
        </p:txBody>
      </p:sp>
      <p:sp>
        <p:nvSpPr>
          <p:cNvPr id="620"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21"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7F973-400A-49AA-80E1-192615F875A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22"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cro-level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aining Dominant/Minority Group Relations: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lict Theor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ominant group protects its privileges and resources by creating a “lesser” group</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tors contributing to hostility over resourc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wo groups are identifiably differe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wo groups want the same scarce resourc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one group is more powerful</a:t>
            </a:r>
            <a:endParaRPr b="0" lang="en-US" sz="2200" spc="-1" strike="noStrike">
              <a:solidFill>
                <a:srgbClr val="000000"/>
              </a:solidFill>
              <a:latin typeface="Arial"/>
            </a:endParaRPr>
          </a:p>
        </p:txBody>
      </p:sp>
      <p:sp>
        <p:nvSpPr>
          <p:cNvPr id="624"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25"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399C2-201D-4B17-B8F6-621D79514F8D}"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26"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cro-level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aining Dominant/Minority Group Relations: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lict Theory, co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lit Labor Market Theor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abor market has two level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mary market– “good” job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ary market–“bad” job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orities are more likely to work in secondary job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etition for secondary jobs sets minorities against each other and against low-income Whit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ployers enjoy reduced threats to their dominance and profit from cheaper labor</a:t>
            </a:r>
            <a:endParaRPr b="0" lang="en-US" sz="2200" spc="-1" strike="noStrike">
              <a:solidFill>
                <a:srgbClr val="000000"/>
              </a:solidFill>
              <a:latin typeface="Arial"/>
            </a:endParaRPr>
          </a:p>
        </p:txBody>
      </p:sp>
      <p:sp>
        <p:nvSpPr>
          <p:cNvPr id="628"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29"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A2FE7-A558-4DEF-8F70-042F93886C6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30"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cro-level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1"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aining Dominant/Minority Group Relations: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ltural Explanation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judice and discrimination are passed on from generation to generation through cultural transmissio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cialization, macro-level structures, and media stereotypes all contribute to transmiss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ltural stereotypes do not generate inequality by themselves, but they do stabilize it</a:t>
            </a:r>
            <a:endParaRPr b="0" lang="en-US" sz="2200" spc="-1" strike="noStrike">
              <a:solidFill>
                <a:srgbClr val="000000"/>
              </a:solidFill>
              <a:latin typeface="Arial"/>
            </a:endParaRPr>
          </a:p>
        </p:txBody>
      </p:sp>
      <p:sp>
        <p:nvSpPr>
          <p:cNvPr id="632"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33"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8B82B-F087-4C7B-9956-944AF45DDD8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34"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cro-level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icies to reduce prejudice, racism,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discrimin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vidual or small group solutions: educational workshops, group encounters, therap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contact: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grated housing, employment, and education; especially successful when groups must cooperate to achieve a goal</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itutional &amp; societal strategie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bbying, legislation, watchdog monitoring, information dissemination, social protest </a:t>
            </a:r>
            <a:endParaRPr b="0" lang="en-US" sz="2200" spc="-1" strike="noStrike">
              <a:solidFill>
                <a:srgbClr val="000000"/>
              </a:solidFill>
              <a:latin typeface="Arial"/>
            </a:endParaRPr>
          </a:p>
        </p:txBody>
      </p:sp>
      <p:sp>
        <p:nvSpPr>
          <p:cNvPr id="636"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37"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E2218-C868-4A3C-8410-177A386668B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38"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lic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
          <p:cNvSpPr txBox="1"/>
          <p:nvPr/>
        </p:nvSpPr>
        <p:spPr>
          <a:xfrm>
            <a:off x="762120" y="1623960"/>
            <a:ext cx="8229600" cy="452592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ies to reduce discrimination, cont.</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irmative Action legislation: </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policies intended to fight institutional racism</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affirmative action: </a:t>
            </a:r>
            <a:endParaRPr b="0" lang="en-US" sz="2000" spc="-1" strike="noStrike">
              <a:solidFill>
                <a:srgbClr val="000000"/>
              </a:solidFill>
              <a:latin typeface="Arial"/>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irmative or positive steps to prevent unintended discrimination</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ota systems: </a:t>
            </a:r>
            <a:endParaRPr b="0" lang="en-US" sz="2000" spc="-1" strike="noStrike">
              <a:solidFill>
                <a:srgbClr val="000000"/>
              </a:solidFill>
              <a:latin typeface="Arial"/>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 employers to hire a certain percentage of minorities</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erence policies: </a:t>
            </a:r>
            <a:endParaRPr b="0" lang="en-US" sz="2000" spc="-1" strike="noStrike">
              <a:solidFill>
                <a:srgbClr val="000000"/>
              </a:solidFill>
              <a:latin typeface="Arial"/>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belief that due to institutional discrimination, sometimes people must be treated differently in order to be treated fairly (i.e. 2013 Supreme Court upheld Fisher v. University of Texas)</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0"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41"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8AE3B-FA70-4D42-9C7A-39E984B7665F}"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42"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lic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obal movement for human right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obal issues and ethnic conflicts are interrelate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nited Nations passed the Declaration of Universal Human Rights after the Holocaust to ensure the rights of all, regardless of n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ted Nations affiliated and privately funded groups advocate for international human rights that transcend national boundaries</a:t>
            </a:r>
            <a:endParaRPr b="0" lang="en-US" sz="2200" spc="-1" strike="noStrike">
              <a:solidFill>
                <a:srgbClr val="000000"/>
              </a:solidFill>
              <a:latin typeface="Arial"/>
            </a:endParaRPr>
          </a:p>
        </p:txBody>
      </p:sp>
      <p:sp>
        <p:nvSpPr>
          <p:cNvPr id="644"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45"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764E-AB67-47A5-B62C-14680502EF5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46"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lic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7"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ority groups are characterized b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tinguishable by features–e.g. appearance, language, relig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cluded or denied full participation in economic, political, and other institut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s access to power, resources, and prestig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e stereotyped, ridiculed, condemned, or defamed, which justifies poor treatme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collective identities, communities, and institutions to insulate themselves</a:t>
            </a:r>
            <a:endParaRPr b="0" lang="en-US" sz="2200" spc="-1" strike="noStrike">
              <a:solidFill>
                <a:srgbClr val="000000"/>
              </a:solidFill>
              <a:latin typeface="Arial"/>
            </a:endParaRPr>
          </a:p>
        </p:txBody>
      </p:sp>
      <p:sp>
        <p:nvSpPr>
          <p:cNvPr id="548"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49"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06AC9-2D8F-4184-BA05-D531DA564B7D}"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50"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 and ethnic gro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1"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ority groups, co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d by history and ideology</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group that is a minority in one time or place may be a dominant group in other times and plac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minant groups are not always the numerical major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hnic and racial groups are the most common minority groups</a:t>
            </a:r>
            <a:endParaRPr b="0" lang="en-US" sz="2200" spc="-1" strike="noStrike">
              <a:solidFill>
                <a:srgbClr val="000000"/>
              </a:solidFill>
              <a:latin typeface="Arial"/>
            </a:endParaRPr>
          </a:p>
        </p:txBody>
      </p:sp>
      <p:sp>
        <p:nvSpPr>
          <p:cNvPr id="552"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53"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7BBD6-1170-4D09-8F01-F093DEECF27D}"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54"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 and ethnic gro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ncept of ra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e: a group identified by society because of certain biologically inherited physical characteristic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ial classifications have been based on different combinations of characteristics</a:t>
            </a:r>
            <a:endParaRPr b="0" lang="en-US" sz="2200" spc="-1" strike="noStrike">
              <a:solidFill>
                <a:srgbClr val="000000"/>
              </a:solidFill>
              <a:latin typeface="Arial"/>
            </a:endParaRPr>
          </a:p>
        </p:txBody>
      </p:sp>
      <p:sp>
        <p:nvSpPr>
          <p:cNvPr id="556"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57"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09BB4-93F0-4B0B-BEC6-B9D01B94B67A}"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58"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 and ethnic gro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igins of the Concept of Ra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eighteenth and nineteenth century, scientists developed four major race categori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goloid, Caucasoid, Negroid, Australoi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1970s, the United Nations issued a “Statement on Race”: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people are born free and equa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ism retards personal development</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ial) conflicts cost nations resourc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ism creates international conflict</a:t>
            </a:r>
            <a:endParaRPr b="0" lang="en-US" sz="2200" spc="-1" strike="noStrike">
              <a:solidFill>
                <a:srgbClr val="000000"/>
              </a:solidFill>
              <a:latin typeface="Arial"/>
            </a:endParaRPr>
          </a:p>
        </p:txBody>
      </p:sp>
      <p:sp>
        <p:nvSpPr>
          <p:cNvPr id="560"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61"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B704-371C-4BBA-A611-30873B20347D}"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62"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 and ethnic gro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igins of the concept of race, co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e categories are defined by society, often based on what is convenient for the dominant group</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ist doctrines lack any scientific basis</a:t>
            </a:r>
            <a:endParaRPr b="0" lang="en-US" sz="2200" spc="-1" strike="noStrike">
              <a:solidFill>
                <a:srgbClr val="000000"/>
              </a:solidFill>
              <a:latin typeface="Arial"/>
            </a:endParaRPr>
          </a:p>
        </p:txBody>
      </p:sp>
      <p:sp>
        <p:nvSpPr>
          <p:cNvPr id="564"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65"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1317-EE09-4ABC-879A-EA401EFCF9B7}"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66"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 and ethnic gro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7" name=""/>
          <p:cNvSpPr txBox="1"/>
          <p:nvPr/>
        </p:nvSpPr>
        <p:spPr>
          <a:xfrm>
            <a:off x="762120" y="1623960"/>
            <a:ext cx="8229600" cy="4525920"/>
          </a:xfrm>
          <a:prstGeom prst="rect">
            <a:avLst/>
          </a:prstGeom>
          <a:noFill/>
          <a:ln w="0">
            <a:noFill/>
          </a:ln>
        </p:spPr>
        <p:txBody>
          <a:bodyPr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bolic Interaction Analysis </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ocial Construction of Race</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people believe something in real, it is real in its consequences</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ople believe race categories are real, which has real consequences:</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ople use race categories to classify themselves and others based on physical characteristics</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dea of race expanded from physical differences to psychological and moral differences</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dea of psychological and moral race differences has been used to justify discriminatory treatment</a:t>
            </a:r>
            <a:endParaRPr b="0" lang="en-US" sz="2200" spc="-1" strike="noStrike">
              <a:solidFill>
                <a:srgbClr val="000000"/>
              </a:solidFill>
              <a:latin typeface="Arial"/>
            </a:endParaRPr>
          </a:p>
        </p:txBody>
      </p:sp>
      <p:sp>
        <p:nvSpPr>
          <p:cNvPr id="568"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69"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68833-0061-49C2-A0F0-215FFD7A78D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70"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 and ethnic groups</a:t>
            </a:r>
            <a:endParaRPr b="0" lang="en-US" sz="3600" spc="-1" strike="noStrike">
              <a:solidFill>
                <a:srgbClr val="000000"/>
              </a:solidFill>
              <a:latin typeface="Arial"/>
            </a:endParaRPr>
          </a:p>
        </p:txBody>
      </p:sp>
      <p:sp>
        <p:nvSpPr>
          <p:cNvPr id="571" name="Rectangle 4"/>
          <p:cNvSpPr/>
          <p:nvPr/>
        </p:nvSpPr>
        <p:spPr>
          <a:xfrm>
            <a:off x="380880" y="-152280"/>
            <a:ext cx="9144000" cy="1371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ntinuing Significance of Rac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lear racial economic hierarchy exists with White Americans on top and other racial groups below</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ion is one of the key means of social mobilit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urns on educational investment are distributed unevenly according to race</a:t>
            </a:r>
            <a:endParaRPr b="0" lang="en-US" sz="2200" spc="-1" strike="noStrike">
              <a:solidFill>
                <a:srgbClr val="000000"/>
              </a:solidFill>
              <a:latin typeface="Arial"/>
            </a:endParaRPr>
          </a:p>
        </p:txBody>
      </p:sp>
      <p:sp>
        <p:nvSpPr>
          <p:cNvPr id="573"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74" name="Slide Number Placeholder 3"/>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2BF9C-7FA6-4772-8C4F-9B0893A284DC}"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75"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 and ethnic gro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8T15:33:38Z</dcterms:created>
  <dc:creator>Deborah J Barr</dc:creator>
  <dc:description/>
  <dc:language>en-US</dc:language>
  <cp:lastModifiedBy>Stephanie Palermini</cp:lastModifiedBy>
  <cp:lastPrinted>2009-04-22T19:24:48Z</cp:lastPrinted>
  <dcterms:modified xsi:type="dcterms:W3CDTF">2017-07-03T18:54:48Z</dcterms:modified>
  <cp:revision>65</cp:revision>
  <dc:subject/>
  <dc:title>Chapter 8: Race and ethnic group stratification: Beyond "we" and "the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51033</vt:lpwstr>
  </property>
</Properties>
</file>