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ACBC-AFE1-40F3-8F60-9A44810D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F0F-3433-4383-AE56-84B78B68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F4F6-ACA6-4EDC-8D63-34D71DE3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2738-3B8E-4D6A-87C4-F8B5D9DFD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9D7E-333E-4A45-B7A6-AE8DB382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706-66A8-4555-94D2-3620D63A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9BC2-F009-4D73-B070-F337F974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D55E-5360-47D0-80C5-9BBF24D7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134-47FF-443D-94EB-C9783C019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A8BD-A698-4117-BDA4-CD2B5E93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5754-D9E0-4DE2-8D63-0736AD18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A0D-E200-4F16-A39B-7B6BE4FE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A730-0E5E-4243-8ADF-27E1B465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456-555E-4B1A-B6EC-90B141E9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EC7-C1E8-4F5E-9113-3EF26385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B6ED-730B-4D73-93D3-312ED6E7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F89-101B-4765-96C4-0EE54FC8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06B-9C71-4001-91D6-C58FAEB5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4F6-2551-401A-BDA4-2002E6A63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B77-40D1-42D7-A82E-0FE37381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576-30E6-47D3-898B-14E5618F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AA46-AA7C-4639-A61C-77122F4F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49D-E418-4DEE-92E9-9CDD79F0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048F-5BD1-4F77-B1F3-09CA54954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7487-FBD2-4CB1-AA4B-3A802242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100-9B90-4879-A7D7-1BDA7515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65B-5F46-42C6-82E0-30699F2A0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87AF-AA90-4A2C-BAA6-1611C4CE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6EA-00F7-49C2-B0B0-FBE2A20A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250-92E8-4A6A-9527-AEE9EAD2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2F2B-5DC7-46AD-812F-8CF27AFC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B92-F405-487B-A00D-3870DAA0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C64-B1B3-4C99-8BDA-53EAFDD5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43E-1B9D-42FB-8398-56A49A0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0F4-C733-443C-AD38-BA71C6ED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DD1-0276-493B-91DD-55EE466B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4A2-2AFC-47EB-8BC8-E764955A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ED8AC-2950-4F5E-BCA4-19BCCD161F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C1FF-FD28-4DB7-9554-2F626481E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87BF8-4A4A-41B5-8D91-9688D54B10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8124D-D451-4526-A727-7E43FD8DE3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592AF-494B-4327-813E-347D0FF61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325-86E4-4BE6-A285-7090D20B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A578-43A2-49C1-A67D-229B02EA28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70EDA-983F-453F-A655-BE1D338ACB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CA570-2D89-4B21-886F-8F976D8F5D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C70BF-E87E-46E2-B0FC-0FA5BEEF21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9DCEB-DC9C-4B1A-9ED4-CD47A84AE0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7D66F-82B7-4296-90BF-8CA3DFAAE4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66544-6F01-40B3-BDB2-88EE082607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A4B-FFFE-4CEB-8C1F-21FB415A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BD5-6492-4FB5-8035-6FF0050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00D-77BA-40D8-B7F2-2AEC3B65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A25-0587-40BE-BF01-AFCB980E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1DB-CE18-4004-A49D-D993CDB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9D0-07DF-484B-A0DB-22D96CF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9A8-8E64-4DCE-A522-0D29F7D28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5CDB-04A9-4958-9761-B1795E390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within societies 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tification system provides each individual with a position in the social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tification system motivates individuals to carry out thei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result, each individual contributes in some way to the maintenanc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Theory, co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vis and Moore 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ositions are more highly valued because people feel they are very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ards for these positions are high because society must motivate talented individuals to undertake the necessary but difficult preparation for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rewards for positions result in unequal distribution of resources; stratification 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is the outcome of struggles for dominance and scarce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nd groups act in their own self-interest, taking advantage of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—between those trying to hold onto existing advantages and those trying to gain new advantages—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rl Marx, an originator of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d during a time of economic change which prompted him to questio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d distribution of wealth in capitalist societies as based on what people can take, not what they need, want, or e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 described two economic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ourgeoisie, capitalists, or “hav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letariat, working class, or “have no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rises from struggle between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 control the means of production, i.e. money, materials, factories, which they use to create profits for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members of the working class lack their own means of production, they must work for capitalists in order to earn a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, capitalists can exploit workers in order to maintain and enlarg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 remain in control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ontrol the norms and values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use their power to make inequality seem “fair” and jus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ystem will last unti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king class develops class consciousness, or shared awareness of the causes of their low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may be aided in this by intellect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class consciousness, the working class will overthrow the bourgeoisie and create a classless society in which wealth is sh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, also a conflict theorist, critiqued Marx’s sole focus on economic factors. His stratification theory included power and prestige, as well as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conflict theorists argue that there are five social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066680" y="411804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y bourgeois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4572000" y="430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ork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Theory of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urvive people must cooperate, but conflicts occur when important decisions advantage one group over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d items are always in demand but short supply; struggle over these scarce items is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 shapes the distribution of scarce resources, but after basic societal needs are met, power determines distribution of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Theory of Stratification, co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hesis of functionalist and conflic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lented individuals need to be motiv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ll attempt to control as much wealth, power, and prestige as possible, resulting in potential confli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itation contributes to creating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inequality depends on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equality is useful, too much can be harm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-lev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Life Ch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chances: one’s opportunities, which depend on achieved and ascribed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factors affecting life chan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, social conditions, and life expect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soci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971800" y="1600200"/>
            <a:ext cx="296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143000" y="2895480"/>
            <a:ext cx="7086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atification: Rich and Famous—or Rags and Famin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Life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style: one’s attitudes, values, beliefs, and behavior patterns, which depend on socialization into one’s culture and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lifesty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tudes toward achie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life and child rearing patter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gious memb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in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soci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–Meso Conn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mobility: the extent to which people move up and down in the clas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issues dominate analysis of mobi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of measuring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that affect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re is a “land of opportunit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generational mobility: change in status compared to parents’ status, usually resulting from education and occupational attai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agenerational mobility: change in status within an individual’s life, whether up or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l mobility: movement up or down the stratification hierarchy, sometimes including a change in social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ing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method: compare the occupations of fathers and sons or daugh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high level of occupational inheri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gher the father’s occupation, the greater the son’s chances of occupational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considerable intergenerational movement up and down the lad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s are more likely to move up than down; daughters are even more likely to move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’s and women’s occupational attainment is powerfully influenced by class ori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Individu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fact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, socialization, and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occupational structure and economic vi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population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s)advantages linked to gender and ethni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markets and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of these factors are interre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988920" y="-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re a “land of opportunity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mobility across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difficult to identify opportunity-rich countries due to the complex factors that influence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for upward mobility are changing due to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 jobs are now in developing countries, leaving less-educated US workers with fewer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A has high-tech jobs, providing opportunity for those from small, educated families that value individual achie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Stratificatio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ratification systems: individuals’ positions in society are determined by characteristics they are born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ratification systems: individuals earn their positions through ability and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te systems: the caste one is born into determines one’s occupation, potential marriage partners, residence, group memberships, and prestig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vidual’s caste is recognized through clothing, speech, family name, skin color, other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learn their caste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rigid ascribed status system; maintained by norms, ideologies, and social control mechanisms embedded in religious, political, and economic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te systems: one is born into the nobility, the political–military elites, or into the peasantry, whose labor supports the el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receive protection and enough food to survive from the n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are tied to a noble’s land and are rarely able to become independent land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s and rights are clearly spell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stem is bolstered by arranged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system: social class is defined by property, power, and prestige; it is officially achieved, but actually inherited in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: income an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: ability to control or influence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wer Elite vs. Pluralism mod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tige: recognition, esteem, respect given those whose occupation and lifestyle are socially valu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members share similar lifestyles, education, culture, and interactio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ry: When an individual or a family bound in servitude as the property of person or household, bought and sold, and forced to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stimated 30 million people are slaves (women and children from poor families in poor count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trafficking has claimed 20.9 victims worldwide as of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are often used as slave labor in factories and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762120" y="16239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people in the U.S. identify as “middle class,” but the middle class is shr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p between the richest 5% and poorest 40% has increased since the 1970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wages and salaries have declined since the 19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es in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5410080" y="1392120"/>
            <a:ext cx="3200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olute poverty: not having sufficient resources to meet basic survival needs (food, shelter, cloth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no prestige, power, or accumulated w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 poverty: having an income below the poverty line, and an inadequate standard of living relative to others in the sam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poorer health, shorter life expectancy, greater infant mortality than others in the sam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zation of poverty: trend in which single females, often young and with children, make up a growing proportion of those in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poor women grew up in female-headed families or suffered economically following div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alent in and around major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ed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ming the vict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poor women comprise a reserve group of cheap, easily exploited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sts of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or have lower physical and mental health, are more alienated, have higher rates of ad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st of addressing the needs of and regulating the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talent and abilities that the poor could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diction to cultural values of equality and upward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ing Poverty: Policy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welfare programs aim to eliminate poverty by changing the factors that perpetuat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jobs, money, altering our socia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 Progra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, Infants, &amp; Children (WIC) Program: nutr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 Start: early childhood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sta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fare (TAN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ing Poverty: Policy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f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orary Assistance for Needy Families (TAN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d Aid to Families with Dependent Children (AFDC), which was criticized as creating depen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individuals receiving assistance to work 20–30 hours/week or attend training/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re jobs available at a “living wage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rs want tax cuts, which reduce our ability to he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take public funds that could be used to fight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al and Global Digital Di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divide: the gap between those with and without access to information technolog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from differences in socioeconomic status, minority group status, and urban versus rural resid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th insufficient computer and internet access or skills face barriers to many profession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and private organizations are developing low-cost technologies that may help level the digital playing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atification: individuals and groups are layered or ranked in society according to how many valued resources they poss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ngoing process of sorting people into layers, legitimated by cultural beliefs that justify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ratification assume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divided into ranked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d resources are unequally 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ociety determines how individuals are ranked, depending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ic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s of those in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tige and Infl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, power, and prestige are accorded to individuals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capital: knowledge and access to importan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apital: networks with others who have infl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qualities also influence cultural and social ca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status is shaped by access to resources and reinforced by the family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treatment by educational, religious, political, and other institutions often depends on our status, and also reinforces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experiences of life are shaped by our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influences on stratifi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systems and resources within a particular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that country within world systems of economic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take up social positions through socialization, in which they learn the appropriate cultural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capital influences children’s school and home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ositions are represented by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picuous consumption: displaying goods in a way that will be noticed and will earn the owner re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5:29:33Z</dcterms:created>
  <dc:creator>Deborah J Barr</dc:creator>
  <dc:description/>
  <dc:language>en-US</dc:language>
  <cp:lastModifiedBy>Stephanie Palermini</cp:lastModifiedBy>
  <cp:lastPrinted>2009-04-22T19:24:48Z</cp:lastPrinted>
  <dcterms:modified xsi:type="dcterms:W3CDTF">2017-07-03T18:49:07Z</dcterms:modified>
  <cp:revision>81</cp:revision>
  <dc:subject/>
  <dc:title>Chapter 7: Stratificaiton: Rich and famous - or rags and famin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