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  <p:sldId id="284" r:id="rId44"/>
    <p:sldId id="285" r:id="rId45"/>
    <p:sldId id="286" r:id="rId46"/>
    <p:sldId id="287" r:id="rId47"/>
    <p:sldId id="288" r:id="rId48"/>
    <p:sldId id="289" r:id="rId49"/>
    <p:sldId id="290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slide" Target="slides/slide29.xml"/><Relationship Id="rId45" Type="http://schemas.openxmlformats.org/officeDocument/2006/relationships/slide" Target="slides/slide30.xml"/><Relationship Id="rId46" Type="http://schemas.openxmlformats.org/officeDocument/2006/relationships/slide" Target="slides/slide31.xml"/><Relationship Id="rId47" Type="http://schemas.openxmlformats.org/officeDocument/2006/relationships/slide" Target="slides/slide32.xml"/><Relationship Id="rId48" Type="http://schemas.openxmlformats.org/officeDocument/2006/relationships/slide" Target="slides/slide33.xml"/><Relationship Id="rId49" Type="http://schemas.openxmlformats.org/officeDocument/2006/relationships/slide" Target="slides/slide34.xml"/><Relationship Id="rId50" Type="http://schemas.openxmlformats.org/officeDocument/2006/relationships/slide" Target="slides/slide35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1393C-F6A0-47E4-A23E-868BAC7DC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C31BB-A4BF-4103-A530-241E6BA51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0BA15-779B-4C47-A084-3768041C7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355A2-3536-490D-99E3-88EA7090E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F69CB-16A4-48C6-A0C2-A9E9122A7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34770A-75E1-4660-9F00-25F7CF8B7EB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3947EC-FF74-46F5-917D-7F7AD77CE77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CD0B1E-1C2D-4959-B6D2-FAC4C1C715E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1E448F-634C-4745-AC29-6CF3F0FED74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408EB6-4D06-49D2-ACCA-0899BCDD0BE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829E7-0D4A-450D-A77D-1EAA22743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8399BE-E352-4FA6-A459-555B92F8D78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9F5A48-6B3C-4461-B370-000B0A77CC0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44058E-A4B7-48FA-BAE3-87DCF947F59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36F072-B0B4-442F-A319-ADCB57992FD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A048C3-DB8A-4FA9-8026-9A693556C4B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024073-8745-4D7E-947B-B2E2033BD4E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FDC1C4-24D0-4893-96ED-48A20B4315CD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EB339-CFB2-402B-B6DB-AF7BB6E38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7FEA7-6B76-48C4-A686-9796FEECA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9FAF1-42D6-4DCD-B92E-613EB5D3C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4F498-369A-4B16-BD78-74C74AE7F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3F9FE-F1A3-4EA8-8C50-4F3B54992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6E366-6F13-4BB5-8E55-F00B20D0B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1C1D3-8D45-4549-992E-A712E7A89D1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 type="ftr" idx="6"/>
          </p:nvPr>
        </p:nvSpPr>
        <p:spPr>
          <a:xfrm>
            <a:off x="533520" y="6356520"/>
            <a:ext cx="548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allantine, Our Social World: Condensed 5e. SAGE Publications, 2018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4"/>
          </p:nvPr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5"/>
          </p:nvPr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33639-0881-4EED-9B7A-BC4BD58B962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tional Choice Theories of Devia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dividuals make choices about deviance based on costs and benefits to themselv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sitive sanctions: rewards (benefits) for socially approved behavio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egative sanctions: punishments (costs) for breaking social nor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cial control occurs when costs of deviance are higher than benef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unishment should impose high costs for criminal behavior, as a deterr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oretical perspec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Footer Placeholder 3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Slide Number Placeholder 4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A77CF-E3B9-4606-9CBE-BE8AFF0F428F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cro- and Meso-Level Explanations of Devia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ructural Functionalist Theories: focus on anomie and strai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flict Theories: focus on social inequality and power strugg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oretical perspec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Rectangle 4"/>
          <p:cNvSpPr/>
          <p:nvPr/>
        </p:nvSpPr>
        <p:spPr>
          <a:xfrm>
            <a:off x="1996920" y="884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6" name="Footer Placeholder 3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7" name="Slide Number Placeholder 4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3DCD0-8983-4E75-B350-8EF7F70B144A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ructural–Functionalist Theory of Devia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rmally, deviance helps society because i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ts examples of unacceptable behavi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courages behavior necessary to maintain socie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inds people together through common rejection of deviant behavi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vides work for those who deal with devia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gnals social problems that need to be addressed and thereby creates positive chan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pens society to creative new ways of think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oretical perspec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Footer Placeholder 3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1" name="Slide Number Placeholder 4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0286E-5ED2-4EBC-BBCC-1A9912E4F45C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ructural–Functional Approache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cial Control Theo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onds encourage us to adhere to nor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eople are bonded to society in four way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ttachment to oth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itment to conventional activit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volvement in activities that keep them bus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lief in the social rules of their cul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oretical perspec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Footer Placeholder 3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Slide Number Placeholder 4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39499-4731-402B-A4B9-B8101E3D357D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ructural–Functional Approache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cial Control Theory, co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 follow norms, we conform to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ternal controls: voices within that tell us when a behavior is acceptable or unaccept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ternal controls: society’s formal or informal controls against deviant behavi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cial control occurs when we derive more benefit from conformity than devia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oretical perspec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Footer Placeholder 3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9" name="Slide Number Placeholder 4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64BB2-D9C6-485A-BA39-71E2BE8CB8E0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ructural–Functionalist Theory, co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omie and social disorganization can cause abnormally high levels of devia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omie: a breakdown of norms caused by lack of shared, achievable goals or lack of socially approved means of achieving those goa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omie is likely in conditions of rapid urbanization, war, or economic chan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oretical perspec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Footer Placeholder 3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3" name="Slide Number Placeholder 4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23072-92A8-4709-B493-425744A0096F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ructural–Functionalist Theory, co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rain: another source of devia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rain: frustration resulting from gap between socially shared goals and access to legitimate methods of achieving those goa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rain causes some people to turn to deviant ways of achieving goa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oretical perspec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Footer Placeholder 3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Slide Number Placeholder 4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52046-0CE2-44E2-83A7-27872A2C6B2C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ructural–Functionalist Theory, co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rain: five ways of adapting (Merton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formity: embracing society's goals and adhering to approved means of achieving the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novation: using illicit means to reach approved goa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itualism: strict adherence to social rules, but with no hope of achieving goa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treatism: giving up on both the goals and the mea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bellion: rejecting socially approved goals and means and replacing them with alternative goals and strateg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viance: retreatism, rebellion, innov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oretical perspec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Footer Placeholder 3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Slide Number Placeholder 4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C2338-478F-4A32-8FF8-F13ADC9DD1B2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oretical perspec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3" name="Picture 5" descr=""/>
          <p:cNvPicPr/>
          <p:nvPr/>
        </p:nvPicPr>
        <p:blipFill>
          <a:blip r:embed="rId1"/>
          <a:stretch/>
        </p:blipFill>
        <p:spPr>
          <a:xfrm>
            <a:off x="1255680" y="1417680"/>
            <a:ext cx="7210440" cy="4695840"/>
          </a:xfrm>
          <a:prstGeom prst="rect">
            <a:avLst/>
          </a:prstGeom>
          <a:ln w="0">
            <a:noFill/>
          </a:ln>
        </p:spPr>
      </p:pic>
      <p:sp>
        <p:nvSpPr>
          <p:cNvPr id="604" name="Footer Placeholder 3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Slide Number Placeholder 4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452B1-1CDB-465D-8561-432F4CDB6F7E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flict Theory of Devianc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viance results from power struggles between socially unequal group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lites use deviance to maintain control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y have the power to define as deviant activities and groups that threaten their interests or nor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 reduce crime and deviance, we must alter the structure of society, making it more equ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oretical perspec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Footer Placeholder 3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Slide Number Placeholder 4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D2AB3-AE75-4C85-848D-E729FE94A56C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2"/>
          <p:cNvSpPr/>
          <p:nvPr/>
        </p:nvSpPr>
        <p:spPr>
          <a:xfrm>
            <a:off x="2819520" y="1600200"/>
            <a:ext cx="3352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hapter 6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9" name="Rectangle 3"/>
          <p:cNvSpPr/>
          <p:nvPr/>
        </p:nvSpPr>
        <p:spPr>
          <a:xfrm>
            <a:off x="1066680" y="2895480"/>
            <a:ext cx="7543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Deviance and Social Control: Sickos, Perverts, Freaks, and Folks Like U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0" name="Footer Placeholder 1"/>
          <p:cNvSpPr/>
          <p:nvPr/>
        </p:nvSpPr>
        <p:spPr>
          <a:xfrm>
            <a:off x="533520" y="6356520"/>
            <a:ext cx="5486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allantine, Our Social World: Condensed 5e. SAGE Publications, 2018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eminist Theories of Devia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omen are often victimized or defined as deviant due to secondary social statu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ow status results from structures such as the gendered division of labor, separation of public and private spheres, and socialized gender ro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omen are less often in a position to commit crimes, and women’s crimes differ from men’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ultural attitudes toward crime against women differ based on the status of women in the socie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oretical perspec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Footer Placeholder 3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Slide Number Placeholder 4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EABF1-D1F2-407B-8D1D-6A5FCCA02E34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ime and individuals: Micro-level analys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w much crime is there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fficult to estimate because not all crime is reported to poli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ime levels and trends are examined using rates per 100,000 individua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re are multiple methods of measuring cr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rime and individua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Footer Placeholder 3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7" name="Slide Number Placeholder 4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65117-EF96-4449-9A2F-6128898EA978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w crime is measured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niform Crime Reports–FB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ype I crimes: murder, rape, robbery, etc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ype II crimes: fraud, simple assault, vandalism, etc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ational Incident-Based Reporting System–FB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lf-reported criminal participation survey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lf-reported victimization survey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ach method has flaws; triangulation of data leads to the most accurate resul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rime and individua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Footer Placeholder 3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1" name="Slide Number Placeholder 4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F38AA-3616-4C88-8340-61D25EEF070B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edatory or street crime: crimes against individuals or proper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ictimless or public order crimes: criminal acts committed by or between consenting adul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te crimes: criminal offenses motivated by the offender’s bias against a particular social grou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te crimes are committed on the basis of religion, ethnicity or race, national origin, gender, and sexual orientation and are often under-report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rime and individua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Footer Placeholder 3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Slide Number Placeholder 4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51825-9DF0-42AD-AACE-8233E8B6E69C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so-level analysi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imes involving organizations and institu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rganized crime: ongoing criminal enterprises that aim to obtain personal economic gain through illegitimate mea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ierarchically organized; rely on violence, corrup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minent in societies undergoing transition and/or anomie, and among marginalized group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ctivities include sale of illegal goods and services; infiltrating legitimate businesses; extor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ransnational organized crime takes place across borders and is an increasing proble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rime and organiz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Footer Placeholder 3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Slide Number Placeholder 4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D79C9-C38F-4337-8883-2D65EF5D8DB0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imes involving organizations &amp; institu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ccupational or white-collar crime: violation of the law committed by an individual or group in the course of legitimate, respected occupational, or financial activity (medical fraud-Medicare and Medicaid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ypes of occupational crime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imes against companies (employee theft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imes against employees (wage theft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imes against consum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imes against the publ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rime and organiz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Footer Placeholder 3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Slide Number Placeholder 4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B53A1-C0B0-4D7A-ABBF-FFDFA0D7EED3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cro-Level Analysis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ational &amp; Global Cr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errorism: premeditated, politically motivated violence against noncombatant targets by subnational groups or clandestine agents, usually intended to influence an audie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y be domestic or internation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re are many types of terrorist group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ate organized crime: criminal acts committed by government officia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.g. complicity in smuggling, assassination, torture, eavesdropping, accepting bribes, corrup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ational &amp; global cri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Rectangle 4"/>
          <p:cNvSpPr/>
          <p:nvPr/>
        </p:nvSpPr>
        <p:spPr>
          <a:xfrm>
            <a:off x="457200" y="-152280"/>
            <a:ext cx="91440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Footer Placeholder 3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Slide Number Placeholder 4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9C595-B0C0-4551-B220-CDA08719FE6A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oss-national comparison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ime rates vary across societies due 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fferent cultural valu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.g. different levels of stigma, or disapproval attached to disobeying laws and norms (Japan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fferent levels &amp; causes of economic inequal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en income inequality increases, so does cr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riations in overall economic healt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ational &amp; global cri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Footer Placeholder 3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2" name="Slide Number Placeholder 4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F0782-A53F-4528-BD8F-8C157C14EF59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lobal Crime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lobal Crime: acts that violate international laws, treaties, and agreem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.g. crimes involving transnational conglomerates that smuggle illegal goods, or nations that violate environmental agreem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orld systems perspective: sees the cause of global crime as economic inequality and competition between countr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pitalism has increased inequality between core and periphery n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eriphery nations may resort to unconventional means to meet their goal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ational &amp; global cri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Footer Placeholder 3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6" name="Slide Number Placeholder 4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5C623-0F97-4C67-BE64-4110A73DA2D9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lobal internet crime: growing rapid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ternet criminals have a wide audienc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ustains an “underground web” of illegal busine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egitimate internet businesses inadvertently connect people to illegal oper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aw enforcement is difficult due to uncertainty about jurisdic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ational &amp; global cri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Footer Placeholder 3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0" name="Slide Number Placeholder 4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2132F-A6B5-490A-9C51-78B0A5161B99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viance: the violation of social norm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racteristics of devia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viance is socially construct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cts may be deviant in one time and place but not in oth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group or status may be defined as devia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is devianc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Footer Placeholder 3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4" name="Slide Number Placeholder 4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84E7B-FBE5-42A7-9C9D-B38827F5BCA1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Criminal Justice Proc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ructural–functionalist perspective: the justice system is important for maintaining order in socie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licy should focus on deterring devia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flict perspective: the justice system supports the powerful by depicting crime as a threat from poor people and minorit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licy should focus on the injustices of the syste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olling crime: Policy consider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Footer Placeholder 3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4" name="Slide Number Placeholder 4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3E526-FD37-4D18-BF5C-BFC84A90EE59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isons and Jai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tal institutions: completely control prisoners’ lives and regulate all their activit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mates’ lives are changed throug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gradation: marks inmate as deviant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rtification: breaks down inmate’s original self as he/she experiences resocializatio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igid social systems develop within pris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ils as “catchall” asylums for the poor, margina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 incarceration rates have increased due to “get tough” polic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olling crime: Policy consider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Footer Placeholder 3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8" name="Slide Number Placeholder 4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72D67-FA19-494E-82A9-0AFE2CA04FF9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purposes of pris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rom the functional perspective, prisons serve many purpose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venge or retrib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moving dangerous people from socie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terrenc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habilit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wever, the recidivism rate is hig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likelihood that someone who goes to prison will later be a repeat offender is 75%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uggests deterrence and rehabilitation functions are not working very we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olling crime: Policy consider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Footer Placeholder 3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2" name="Slide Number Placeholder 4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F2AB8-CE79-40D0-A561-D8FEC72CBA3C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isons and Prof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isons can be a source of jobs for communit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re prisons are now operated by for-profit compan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ivatizations of prisons has grown over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fits are found through inmate lab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olling crime: Policy consider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Footer Placeholder 4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Slide Number Placeholder 5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B5C40-850B-4FC8-BBB0-78ADFD98D984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Death Penalty (or Capital Punishment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most controversial method of control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st common argument for the death penalty is that it deters others from committing cr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udies suggest this is not the case; however, the death penalty does serve as retrib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death penalty is most common in Asia, the Middle East, and parts of Afric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re is evidence that the death penalty is race and class bias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ryland became the 18th state in 2013 to abolish th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olling crime: Policy consider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Footer Placeholder 3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0" name="Slide Number Placeholder 4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42666-408D-4798-94F1-03FDF52C4689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ternative Forms of Social Con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potential offender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social capital (networks, resources, and shared values) so as to reduce likelihood of crime and impriso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minor offender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ducation or job skills progr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ck probation: early release of first time offenders in hopes that the shock of prison life will deter th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y treatment or half-way hou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unity service and work release progr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titution: offender compensates victim or commun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vatization of prison: attempt to make prisons more cost effective, and make a prof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olling crime: Policy consider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Footer Placeholder 3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4" name="Slide Number Placeholder 4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E52F8-400B-4A98-AB22-68A18678DEED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lief: Some acts are inherently devia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act: Deviance is relative to time, place, and statu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lief: Those who deviate are socially recogn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act: Much deviance goes unrecogn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lief: Deviants break the law purposefu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act: Deviance is often driven by emotion, disagreements, or situational condi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lief: Deviance occurs due to human dishonesty and selfish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act: People do not attribute their deviance to dishonesty or other negative tra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isconceptions about devia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Footer Placeholder 3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8" name="Slide Number Placeholder 4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31C0A-E7A2-4506-B7CA-54482F3BE2B8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ime: deviance that violates laws and is punished with formal penalt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aw: a type of norm that reflects opinions about what is considered right and wrong in a particular society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sensus crimes: members of society agree about the seriousness of the deviant ac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flict crimes: members of society disagree about the seriousness of the acts, and/or the law disadvantages a particular grou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rime: Deviance that violates the la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Footer Placeholder 3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2" name="Slide Number Placeholder 4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4AC12-E2B7-4BA4-AD9D-5DF6FBDE89C6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icro-Level Explanations of Deviance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tional Choice Theories: focus on individual choices, costs, and benef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teractionist Theories: focus on relationships and meaning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oretical perspec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Footer Placeholder 3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6" name="Slide Number Placeholder 4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F290E-9204-4276-BB16-7A0E46D8646D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ymbolic Interactionist Theories of Devia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cus on how others shape one’s definition of what is normal and accept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amine how society defines some acts as devia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amine deviance-related symbols and how they affect the self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oretical perspec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Footer Placeholder 3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0" name="Slide Number Placeholder 4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D831F-3759-460C-8F57-013A9DB2E291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mbolic Interactionist Theori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beling Theor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ividuals and behavior become deviant because they are labeled as suc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cieties define behaviors as deviant and impose sa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mary (isolated) deviance—actors are not labeled devi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ary (ongoing) deviance—actors are label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ing labeled reinforces deviant behavi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iance becomes a self-fulfilling prophe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ose with less power and status are more likely to be labeled as deviant (link to conflict theor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oretical perspec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Footer Placeholder 3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4" name="Slide Number Placeholder 4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EAE10-7FBE-4AE5-9796-C1DFCD81411C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ymbolic Interactionist Theorie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neral Learning Theory of crime and devia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bines labeling and differential association theor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effects of labeling depend on the individual’s associations with peer group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oretical perspec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Footer Placeholder 3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Slide Number Placeholder 4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3FB7F-6851-43E4-B9A6-1401682994B4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3T03:57:51Z</dcterms:created>
  <dc:creator>Deborah J Barr</dc:creator>
  <dc:description/>
  <dc:language>en-US</dc:language>
  <cp:lastModifiedBy>Stephanie Palermini</cp:lastModifiedBy>
  <dcterms:modified xsi:type="dcterms:W3CDTF">2017-07-03T18:47:13Z</dcterms:modified>
  <cp:revision>98</cp:revision>
  <dc:subject/>
  <dc:title>Chapter 6: Deviance and Social Control:</dc:title>
</cp:coreProperties>
</file>