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D31E-5378-43A0-915E-9DC41D3D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3F1-DC07-48C6-B290-075E1E6D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700-0BCA-4388-970E-5B8647B40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E84A-F814-4583-AA14-981CD2D3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0CC-70B7-4E69-9731-D9E07B4F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242-EB83-40C8-B73D-76F32D17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E6A5-2201-4FE2-9D18-C4D1C9DE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B25-1CFE-4D96-ACEF-F6A98F5C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29D-B939-4B9D-A42E-F6AB9C9D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403-FDC2-495D-829D-2D2620DD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2DE-BA7A-4F0E-8EDA-43DBE4BB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24CD-4916-4BC9-BB38-2C473DDA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BC8-EC99-4F5D-9568-3AC77949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AE0-8032-4238-8372-1B15E681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CA3-D9C5-426C-862C-8E202FAE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8DA7-888A-41BB-B6C4-8AD798DE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871A-68BE-4AFE-BE39-3B54F43B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17F-3601-4CB2-818A-3D141DE8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825-402D-4639-B470-B8195F261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59C-8289-4B0B-9688-BDA0B48C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72C6-EFFD-4338-8C08-D5115BD2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3DE6-66EA-40A5-BA39-A0629C11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7F2B-4B58-4F67-B9C0-3F10CABF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4F7-B8D6-419F-8D34-E2BDF518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DEA7-259A-49F8-8E6F-630D0DAE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571-E420-4572-91F0-D35C48BF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8AF-F959-4A8F-9C40-C7576E4ED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B72-6BF3-4AF5-8264-DAC518FB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7A9-2642-4106-A461-D4AB70D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1BB-9C39-497B-8755-98CA4C81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57D-B539-4C60-B937-A5A05DF0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D53-8582-497F-B04F-1238FA3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CE63-68F5-4300-A792-CC520D42A7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C7BB-2C7D-4F48-A1DB-36739618CD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75B7C-7D67-474E-9F6D-9CDF3E67AA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C609-3293-4248-A608-595680211D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BEA2-23B7-4AE5-99C5-7121BD329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5F5-F103-41A8-AFEF-934DF97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51E8-3093-499F-A256-6E2EAFD0A1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76F25-0A23-4244-AA31-7AC77E02B2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E15E-1A0C-477D-903E-CCFD6EDD12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B5D3A-E2B3-4ABE-BCED-562242200D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F474-6E16-47BA-906C-3E0A342D5B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D500F-562D-4679-A033-642B037686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CD9BE-E21C-481C-B057-941278E59E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9E9-DA85-4AE2-8D4E-9A9379D1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2D0-D985-4D78-976A-2572C35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107-AB87-4AE7-AAC9-35C4321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1B9-D0AD-4C44-8DE0-4908AF6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3D5-C067-4465-A851-C80B3B8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816-8279-4372-90F2-EA55E9C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FEE-D4FF-4719-AAA9-76EBD620B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8B75-B13B-48DD-9C4D-D19AC7E69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s on how people interpret interactions and manipulate others’ interpre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4EE3-E28B-4851-A830-2631E03DA21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s interaction as if it were a staged play with audiences, parts, scripts, props, and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perform different parts for different aud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learn parts and scripts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ession management”: we attempt to convey a positive, advantageous image of our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 stage” behavior: public, scripted, presents an image we hope others will take as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stage” behavior: we relax, let feelings sh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E07-ADB0-478D-B51A-C79777C5817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are formed and maintained based on individual rewards and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teraction is sustained when its benefits are high and costs are 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that our choices about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ased on calculations of self-interest (current or eventual payof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guided by rea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 expectations of reciprocity (individual contributions will balance out over t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8A9-5261-4872-B47C-42061A316E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es: positions that individuals hold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define how we interact with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differs according to whether participants are of equal or unequ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set: an individual’s combination of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: a status that is assigned at birth and does not change during an individual’s lif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: a status that is chosen or earned by decisions one makes or by personal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status: a person’s most important status, that takes precedence over other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640B-26B9-4F04-9BF3-1BCC901546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012-2084-4B8A-8FCC-9BBCA82E319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1387440" y="1446120"/>
            <a:ext cx="629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: the expected behaviors, rights and obligations associated with 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ehaviors are part of our culture, learned through so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 and statuses link us to others in the soci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 for a particular status depend on the statuses of those the individual is interacting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an be formal or in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onnect us to meso- and macro-leve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strain and role confl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strain: tension between roles within on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conflict: conflict between the roles of two or more stat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: two or more people who interact with each other because of shared interests, goals, experiences, and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a sense of belo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is well-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rules for members’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orm through a series of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a collectiv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expand collectiv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D341-E8BE-4B87-B65B-172EF4DED26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s: The micro–meso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kheim’s Study of Suic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ed how groups impact individual behavior by comparing different groups’ suicid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conditions leading to suici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– the group lacks norms or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oism – bonds tying individuals to the group are too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ruism – bonds tying individuals to the group are too st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9BF-21ED-4E9A-AC57-1C4BFCB2A0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groups for the 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, 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 of belonging, caring, identity, and loyal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fluence o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membership, lasting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intrinsic value: belonging is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, impersonal, businesslik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 to accomplish a task or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ized tasks and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embership; may be short or long-te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67200" y="1447920"/>
            <a:ext cx="293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819520"/>
            <a:ext cx="662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action, Groups, and Organizations: Connections That 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group: members act as role models for one another and establish standards against which members measure their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group: members feel a sense of loyalty and belonging; often a reference and/or a primary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group: a group that exists in competition with or opposition to an in-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8A1-C7C9-4A8C-A6A5-4DA5E46C663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4C1F-D5B1-49EC-A36E-4839EE3A6BE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 and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1878120" y="1295280"/>
            <a:ext cx="5311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organizations: formal, rational, bureaucratic; originated during industrialization in the 170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organizations: complex secondary groups formed to pursue and achieve certai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: the attempt to reach maximum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ntrast: traditional organizations are run on the basis of custom or whi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4725-E693-45B1-8036-340DD06D32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al societies: societies in which a majority of people work in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cDonaldization of society: increasing dominance of organizations characteriz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aximized by sam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ability, nothing left to ch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ion of every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control over customers and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McDonaldization lead to dehuma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8C3-2F50-4EAF-8557-DEBC05976C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d growth of bureaucracy in the twentie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 type bureaucracy characteris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lifelong car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ies also have an informal structure, unwritten rules and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9B2-7BAB-4916-A4DA-96765AED8F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 of bureaucr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enation: workers with boring, dead-end jobs feel uninvolved, uncommitted, unappre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igarchy: concentration of power in a smal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ron law of olig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displacement: original purposes are displaced by new, secondary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son’s law: work expands to fill the time available, creating ineffici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organiz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e-owned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-collectiv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4C8-19FA-48E5-B1FD-09CF2FA018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ategories of people face special challenges in bureaucra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ionals may face conflicting loyalties to their profession and to the bureaucratic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of minority groups, such as ethnic minorities or women, may have little opportunity to reach the highes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netheless, both groups make important contributions to bureaucracie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752-E9D8-4B80-931D-717AB77A4C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ransportation and communication systems, including the internet, are generating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national corporations make their own rules, without oversight bodies: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and international organizations are governed through rational, bureaucrat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257-9E95-452C-85A7-4512A1FEBA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networks: sets of relationships between individuals, groups, and/or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, meso-, and macro-level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civic, sports, and religious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ni groups, political parties, and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Internet influences ou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A96-B651-451E-986D-93F459DD644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onnect us to society and place us within larger 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an create opportunities for their members, but also generate obligations that limit members’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’ access to networks differs by their gender and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access to opportunity-enhancing networks are one reason for persistent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F486-8E46-4C25-85A6-168CCFF32BE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teraction consists of two or more individuals purposefully relating to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creates micro-level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teraction has three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go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al context governed by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on, goal, and context help us interpret the meaning of the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ACF-EB18-478D-98C8-64247468DE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ssume that others will share their interpretations of a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interpretations include situational norms, which create cues for appropri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(verbal and nonverb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norms and expectations are 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17F6-3F0E-44B7-852B-F6FE5B6348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includes verbal and non-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: interactions using facial expressions, the head, eye contact, body posture, gestures, touch, walk, status symbols, and person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ly spe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in all cult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753-C5C2-4E62-BE16-10C24BAFB7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: an example of non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of personal space people need varies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 communicates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higher positions have greater control of physi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B41-EA65-48C5-A804-6D05F07B15A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egories of Social Distance in the 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imate distance (0–18 in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and affectionat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distance (18 inches–4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acquain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stance (4–12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business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distance (12 feet or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peaking, especially in formal settings or with high-status spea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601F-B5B6-4E82-90CB-F65C8F3ADD1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Stephanie Palermini</cp:lastModifiedBy>
  <dcterms:modified xsi:type="dcterms:W3CDTF">2017-07-03T18:44:31Z</dcterms:modified>
  <cp:revision>86</cp:revision>
  <dc:subject/>
  <dc:title>Chapter 5: Interaction, Groups, and Organizations: Connections that Work</dc:title>
</cp:coreProperties>
</file>