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ftr" idx="1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 type="sldNum" idx="1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10BA-0269-4B04-A31E-E6AD61965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0B84-EA76-45D2-B01C-5C04937CDBB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5C7E-BCCA-4D74-A35E-18545E897E0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4BAD-992F-4615-BEEC-EA6BA23794C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0595-4678-4AB9-B228-DE696910F92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D41C-03C7-4800-978F-5E9C3DF5B49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05F5-58DC-404E-8302-2C37D8CAE7D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5AAC-6279-45FB-9F0A-7CDBCBB35B8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FB89-02E6-4CAE-84BC-A4A1CAEB021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D916-0490-4F42-88AA-7D440490993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1220-19B6-4304-BE5B-1702131DF97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8BD5-14E6-4057-9342-52B77B46873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CBB9-B1BC-4A65-B548-4C86D705FB7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AF91-3E06-4372-8495-F8C27729D2B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F19B-C143-4A5F-932D-69AB974CC91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8A9A-A926-4950-8DEA-50CCD2DCB61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A442-9C1A-40C6-A545-4722519E19F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4C2F-0099-4D73-8DED-5919F8075F8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619E-D8BF-40D2-8061-CA3D9BA805D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6D95-699C-4A09-AA32-63E3977DAED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DDB3-E495-43DA-A8CF-1C3870B82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6526-6D53-448A-8017-4A948E72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C4A4-F2F1-4DE1-9611-B27F1A917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2C9F-6DCB-43A7-B286-A7B657062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B2EE9B-5CF0-4B4D-AEB5-C3F943734B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7E12EB-CBB1-47DF-A0AB-9C30F589610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CAFEFE-B638-41C9-824E-BBEE15EE658D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0126E1-FB37-4CDD-8B8E-2435D8B0015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44AE93-54CE-41C2-A413-076D0B6DED3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7E897E-B21C-4DCA-9C49-7540F1E2FB5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B6F58C-C311-4D1E-8BE6-8BB9689BBDF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FA7811-9579-4207-B1CA-554DE585974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978F61-C5BC-420F-9109-0AE16FA9A087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BDDF82-A2F7-4BFB-B2B2-92FCF4489CF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EC32AE-470A-4163-A927-A20AA64364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4CF9D4-8EE2-440F-BF5F-871ADC3F98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F19D-E08B-4A04-856E-0E0792CB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69E3B-9516-45D0-9F7D-85CEB476BA6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8F8C3-E2B1-421D-B2A5-CFD0221C353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4A97E-05A5-4628-9286-D1D310F6337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5E8A1-7B9A-496E-910B-74F583F900D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FA31E7-34BA-491A-8C18-C71B063898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7B3C-0F69-4C91-82D5-38B9B56D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4BBCB-149A-43A4-809D-8687CEFBC0D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B9FF6-9D21-4917-97F1-CF24A641F18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56DD6-B566-44EA-B51D-0558032D70A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DB2B6-6BAF-463F-957B-653F933CCDF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50ACA-CD26-431C-AB96-8B9363CF69D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9E7399-167B-4360-AF5D-A15B0D789E3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0F1FF-D1CA-4AEA-9428-A52FB6E91C4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38D5-42AD-482D-9E2B-3ED378DC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3D46-EF5F-4F4F-862B-7B4D76C4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2BB2-8C8A-4C57-8D44-45D96B26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66A9-7E20-466B-82E7-99A12D2E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7511-5467-40FD-8F57-88FDE1CC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D6A6-4B69-4C80-8A68-078E2A9D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71B9-7434-404E-9B92-25936D3C2D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ftr" idx="6"/>
          </p:nvPr>
        </p:nvSpPr>
        <p:spPr>
          <a:xfrm>
            <a:off x="533520" y="6356520"/>
            <a:ext cx="548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llantine, Our Social World: Condensed 5e. SAGE Publications, 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sldNum" idx="7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609C-0562-463D-98CE-C5FBACFBCE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8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4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5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0BA6-3F88-414C-9C5F-F7D055F472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mbolic interactionist theory of the self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orge Herbert Me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ew ourselves through interaction with ot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ce we can symbolically recognize objects, we can the view the self as an ob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.g. having a name allows us to see ourselves as objects separate from other objects; the difference between “me” and “I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flexive behavior: ability to view oneself from the outside, as an ob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E951-98CD-41F3-9599-84FFCE7EDC83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le-ta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d’s Parts of the Self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“I”: spontaneous, unpredictable, impulsive, acts without considering social conseque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“me”: the reflexive part of the self, formed through role-taking, that knows the rules of society and attempts to control and direct the “I” into socially acceptable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“me” requires the ability to take the role of others, anticipating others’ re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8FCF-B687-46D5-8D71-2C9EFED90B65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s of the se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d’s Stages of Develo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itation: child observes and imitates ot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y: children play at taking the roles of significant others, but do not understand complex relationshi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me: children take the roles of multiple others concurrently &amp; the role of the generalized 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ized other: a composite of social expec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behavior comes to be governed by abstract rules, children can enter into novel social are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1E7A-0B83-45D6-8077-5265842F042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ges in the development of the se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owa School of Symbolic Interac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r sense of self is rooted in our positions within social organizations and instit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develop a relatively stable core self, or sense of who we are regardless of immediate setting, based on our most important social pos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have a vested interest in the preservation of the organizations and institutions that contribute to our social positions and sense of sel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8AC8-2EF9-4DF0-92C9-E61D45377807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elf and connections to the meso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ization throughout the life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tes of passage occur at most s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tes of passage: public celebrations or recognitions of passage from one status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because they impact others’ perceptions, self-perceptions, and expectations of the 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ization occurs throughout lif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ho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l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ult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le Adult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irement, the Elderly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ing and D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ocialization: the process of abandoning one or more social positions in favor of others that are more suitable for a newly acquired st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ocialization may occur in a total institution, in which people are isolated from the outside world and lead bureaucratically regimented l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9EF7-E6E2-4562-B110-13C31F662A3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rocess of resoc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gents of socialization: people, organizations, and institutions that enable us to learn the beliefs, values, and behaviors of our cul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 level: family, peer group, local organiz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 level: educational, religious institutions; me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al: socialization is stated goal (e.g. the family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l: socialization isn’t a stated goal but occurs anyway (e.g. the medi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gents of socialization shift over the life cour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t agents’ messages may concur or confli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0D51-AF2B-48B5-9ABA-793052CF1CE7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ents of soc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milies use positive and negative sanctions to help teach children right and wro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umber and type of sanctions shape the socialization process and the sel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mily socialization differs 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ltu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umber of children in the household and birth or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91ED-2D95-4507-B2AF-7D3E93ACACC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milies: Micro-level soc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class: the wealth, power, and prestige rankings individuals hold in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class and socialization: Parents socialize children to meet expectations of the social class into which they are bor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ddle class: autonomy, creativity, self-dir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ing class: rule-following, respect auth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 socialization in the family impacts later socialization in sch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3A46-6DA6-480C-8D4E-A89628A88217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class: Meso-level soc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ctronic media as socialization agents: television, computers, internet, DVDs, video games, aud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8 % of homes have computer and internet ac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5 % of teens own cellph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0 % of children under the age of nine own their own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DF3E-0A11-4DCE-AF1F-C7618ABA24E7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ctronic media: Meso-level soc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2"/>
          <p:cNvSpPr/>
          <p:nvPr/>
        </p:nvSpPr>
        <p:spPr>
          <a:xfrm>
            <a:off x="2743200" y="1828800"/>
            <a:ext cx="3962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Rectangle 3"/>
          <p:cNvSpPr/>
          <p:nvPr/>
        </p:nvSpPr>
        <p:spPr>
          <a:xfrm>
            <a:off x="1447920" y="2819520"/>
            <a:ext cx="7010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cialization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coming Human and Human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Footer Placeholder 1"/>
          <p:cNvSpPr/>
          <p:nvPr/>
        </p:nvSpPr>
        <p:spPr>
          <a:xfrm>
            <a:off x="533520" y="6356520"/>
            <a:ext cx="548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llantine, Our Social World: Condensed 5e. SAGE Publications, 2018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ose who control the mass media can influence socialization within the h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messages do these agents of socialization send to children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the impact of children spending more time with media and less time with caregivers and peer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et socialization is radicalizing young peop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0297-EB4B-4E2A-8E82-0E0DA84D521B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ctronic media: Meso-level soc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ization in a globalized wor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nationalism: the situation of individuals or families who have national loyalty to more than one country, often a result of mig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 result in multiple and conflicting messages about appropriate behavi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communications and even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 lead us to interact with diverse others, or solidify feelings of “we” vs. “they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6CCD-517A-4051-A92A-CE7E33E87726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ization and macro-level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ization: the lifelong process of learning to become a member of the social world, including learning the values and beliefs of our 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action: the basic building block of socialization, through which a child is shaped into a human being and becomes a member of  a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self: the perceptions we have of who we 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E763-CAE5-42B8-9DC0-93FD4C46E073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ature vs. nurture debat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best explains the human self and human behavior—biology or socialization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ature argumen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obiology (evolutionary psychology): claims our genes “wire” us for social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urture argumen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obiology is a reductionist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behaviors vary, are not hardwi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ization is more important than ge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94AB-C197-4106-91EE-2CED4BCC393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ure vs. Nur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ildren need human contact, affection, and interaction in order to fully develo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idence: Cases of isolated child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.g. Anna, Isabelle, neglected orph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cause these children were not socialized at the proper time, they experienced developmental disorders and could not be fully integrated into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030C-1E88-4152-87DF-2C0C7B3E573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importance of soc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activities are part of the socialization experienc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 level: e.g. parents, peer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 level: e.g. schools, religious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ro level: e.g. national advertis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importance of soc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ations are dependent upon socialized people to help them surv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ck of adequate socialization increases the likelihood of deviant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5E0D-2B23-4CB0-A688-554207AB523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ization &amp; the social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spectives on Soc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 level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mbolic Interactionism: the development of the sel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 and Macro level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–functionalist perspective: various socializing agents support one another and society as a wh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perspective: various socializing agents have conflicting 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ose in power ensure that others are socialized into supporting power structures which benefit eli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individuals have little power to decide their fu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2B27-431F-47E0-882E-28BAB86C7F3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ization &amp; the social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f: the perceptions we have of who we are, derived from our perceptions of the way others respond to 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evelopment of the self allows us to interact with others and function in the social wor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are not born with a self; its development begins in infa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ology and society both contribute to the development of the sel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elf, our ability to be aware of ourselves as individuals, may be distinctive to hum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4551-6128-4FDC-9FF2-F89D0C00E5E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velopment of the self: Micro-level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ymbolic interactionist theory of the self developed by Charles H. Coole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ooking glass: “Each to each a looking-gla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flects the other that doth pass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5085-556C-4935-B693-F278B0F9AED4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looking glass se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6" descr=""/>
          <p:cNvPicPr/>
          <p:nvPr/>
        </p:nvPicPr>
        <p:blipFill>
          <a:blip r:embed="rId1"/>
          <a:stretch/>
        </p:blipFill>
        <p:spPr>
          <a:xfrm>
            <a:off x="822240" y="3505320"/>
            <a:ext cx="816948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2:04:57Z</dcterms:created>
  <dc:creator>Deborah J Barr</dc:creator>
  <dc:description/>
  <dc:language>en-US</dc:language>
  <cp:lastModifiedBy>Stephanie Palermini</cp:lastModifiedBy>
  <dcterms:modified xsi:type="dcterms:W3CDTF">2017-07-03T18:39:15Z</dcterms:modified>
  <cp:revision>75</cp:revision>
  <dc:subject/>
  <dc:title>Chapter 4: Socialization:</dc:title>
</cp:coreProperties>
</file>