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7E7-4987-43D9-894D-0D63AE48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34D-6AAA-4EBF-9284-E2D138EB4B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17 origi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C414-F294-4D97-B58B-3387358E95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278-3D1B-44CF-A614-459FAD1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DC9-D670-4F41-ABD7-C207D83B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DF5-6C93-4405-888A-A4A6A506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1FD-3526-4611-882F-B8C6A84F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EF8-B3FC-4E8B-AFA9-1901739A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0A935-1011-43E0-9905-82D48E4234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B542B-0F6F-453F-8E78-470652D008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144D7-8EA1-48B5-8F64-C6558846B5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4429C-D37A-4D3A-9B31-DF7C09307E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B806-E192-49E6-AC99-F61F20C2D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4F4-49EE-4DAC-83B4-2B777BB4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E6202-B7A1-4CF5-A877-2E085432F9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9BF21-6A7D-4DCE-A614-ACFC6D691F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55EF9-8A62-41D9-87C1-264862FEE1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12FE7-5FB6-412D-B6F9-2AFF27F4EA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30AE-C50F-488F-BB04-722996469C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DA71D-250C-493D-B865-9A2F8C06D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4FB6-1642-4AF2-9C45-4FC64B2CEE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761-CFA9-4C3F-A29C-7BCFCD2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B90-B5F8-4673-A8FD-4BDB816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A87-ED0F-4323-9DA5-3A53797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5C0-37A0-481E-BA57-E416776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3EA-49C8-475A-AA1B-EE085AF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4A1-DB0F-4C61-B0DF-EB71251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34CE-9686-4398-B3C1-F006F195E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C0E2-68EC-4B2E-966C-9F6C60581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y on mechaniz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 based on expert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material weal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ge labor replaces feudal system; high inequality between owners an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concentrates in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ship patterns change; small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meso-, macr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 more rap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43A-05C9-4F8E-9754-5C829736D6B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industrial or information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technological revolution”: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reliance on automat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from manufacturing to information and service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workforce with high levels of technical and professiona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lass inequalities based 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and creative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and technological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0DBA-742E-47BB-897D-625AC2B5E6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passed on from one generation to the next in a society, which provide guidelines for action and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knowledge, beliefs, values, rules and laws, language, customs, symbols, and material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AB1-C33C-42A1-91E1-3692BDAF50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les of 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shares a culture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evolves and adapts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eation of culture is ongoing and cumu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ansmission of culture separates humans from other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941-3489-4446-BCE8-A9960361AA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centrism: the tendency to view one’s own group and its cultural expectations as right, proper, and superior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US foreign relations illustrate how ethnocentrism can produce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relativism: setting aside one’s own cultural beliefs and prejudices in order to understand another group through the eyes of its own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76A7-8A6E-4F65-ADD7-BD3F96E238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ocentrism &amp; cultural 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culture: All the objects we can see or touch that are made by humans; the artifacts of a group of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material culture: Invisible or intangible aspects of a group’s culture, including its values, beliefs, norms or rules, and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E55-15DB-4458-BF56-6FCFD671C4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762120" y="117000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material 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are shared judgments about what is desirable or undesirable, right or wrong, good or 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 the basic ideas of a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come a “creed” if they gain the power of religious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may arise between groups with different valu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3CAE-C0F9-4194-A927-5B01323654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are ideas we hold about life, how society works, and where we fit int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from traditions, religious teachings, experiences, lessons from parents and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the choices we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based on values, which are broader, more abstract notions of what is desi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0CC5-AB43-4D83-BB7C-DD490A6AC51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are rules of behavior shared by members of a society and rooted in the society’s value system. They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kways: desirable but not strictly enfor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s: observed by most, great moral signific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oos: prohibit actions; very strong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: formally encoded, violation seen as deserving of formal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C0A0-9683-4E05-BF06-1C25784AF22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15238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838080" y="2590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ety and Culture: Hardware and Software of Our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ctions are behaviors that reinforce norms through rewards and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1C24-035C-4F47-9C77-CF0CDE89D6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s the use of symbols to convey meaning, objects,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undation of ever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three for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651-5968-47DF-9A9A-CC71634CFC4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have similar meaning for all member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societies to store information for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ommunication over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ures, facial expressions, body postur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2291-B38D-4628-B1A9-6C57249A50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nfluences perception and tho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guistic relativity theory posits that people who speak a specific language make interpretations of their reality based on that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51A-1226-4454-A211-E96A386AD7B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perates at every level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86A-369C-4DDF-BD26-374CA7334E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670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cultures influence only a small segment of individuals’ lives or a limited period of thei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C3D-AABC-474A-9850-2D483640276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ubculture is the culture of a group smaller than a nation but large enough to sustain people through the life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its own unique elements with those of the dominant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s a continuous role in members’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believe in rightness of sub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sense of “we,” as opposed to “they” (outsi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789-E759-4515-8141-5ED793A01F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unterculture is a group with expectations and values that contrast with the values of the dominant society (i.e. Anti-Govt “Patriot”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cultures wish to reject and replace values of the dominant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ompromise with the dominant society, or withdraw from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at meso level when they continue over time, or micro level when short-l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2B1-6BDC-444C-81E7-95FB19E7E35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culture comprised common values and beliefs that tie citize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the everyday lives of all citizens to some ex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may be less influential than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57C-17B5-4877-A776-154F419511F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is the process whereby the entire world is becoming more interdependent, integrated, and uni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r Wester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ulture refers to behavioral standards, symbols, values, and material objects that have become common across the gl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4F01-024D-4837-B775-8D127BE510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represents th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s that organize group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represents th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that provide meanings and guidelines for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and culture are inter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65A1-C58F-4783-8033-03074FED55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lture and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828800" y="1409760"/>
            <a:ext cx="5410080" cy="466236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F1A-185C-43D6-8979-90D74D72B8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ety, culture, &amp; our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we learn to share meanings of symbols, the basic element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ness” comes from our ability to influence each other using symbols with share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society, we use symbols to define what is real, normal, and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510-4013-4B2E-AF18-3509F9B4C37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steps through which symbols gain meaning and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objectified; it assumes reality independent of its cre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roup internalizes the sym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BA11-6FFA-433E-9D1D-4C2BA619B50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interdependent parts, each fulfilling a necessary fun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 of cultural norms, values, and beliefs is to hold the group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 sometimes norms, values, and beliefs are dysfunctional for individuals or groups within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8B20-694B-400D-B1E7-819E114485B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conflicting groups, each trying to protect its own self-interests and to make its own culture domin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groups may impose their cultural beliefs on minorities and other groups, laying the groundwork f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9E4-C4EA-4453-9C2A-F47D1789371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ies at the meso and macro-le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se of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hanging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policy-makers respect cultural differences and reduce the rate of change—even if new technology has benefit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627-3C7C-4D9C-93A0-1AB84C2FB83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 and cultur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ety may be compatible with many types of culture, but there are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software doesn’t work with incompatibl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transport US culture to other parts of the world show that ideas such as individualism, democracy, and capitalism do not succeed in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014-F3EC-4B05-A498-BABD8613940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composed of struc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s we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e belong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we participat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75B-F0B3-4810-AC73-CDCA1DCF5A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ciety: The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c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, simple, premo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division of labor except by age,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common beliefs, values, and emotional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c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, complex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, specialized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interdependence of specialized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685800" y="182880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ile Durkheim’s Types of Socie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vary in term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dependence of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advan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and uses of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0727-2CF7-4A6A-BE1E-BB4F3C7CCD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ter–gatherer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 by hunting and gathering available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madic, few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20–50 members), organized around ki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only by gender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well-being of whol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ing of resources regulated by complex systems of obl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BF02-A383-46F9-833B-BE5C951447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&amp; horticultur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societies: keep herds of domesticated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al societies: use primitive gardening and some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nomadic, some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roup size (up to 3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food surplus, leading to material inequalities, status, and power hierarch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1497-5998-473D-A5E6-E3A71524181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icultur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se crops for food, using technological advances (e.g. plows, irri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anent sett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of up to a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th of feudal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urpluses allow some to leave land, trade goods/service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socia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mes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2C2-4816-4736-92D0-E5C208B8689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Stephanie Palermini</cp:lastModifiedBy>
  <dcterms:modified xsi:type="dcterms:W3CDTF">2017-07-03T18:36:29Z</dcterms:modified>
  <cp:revision>74</cp:revision>
  <dc:subject/>
  <dc:title>Chapter 3: Culture and Society: Hardware and Software of Our Social World</dc:title>
</cp:coreProperties>
</file>