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96AE-6C61-44D4-9AED-02D4986DD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6C23-B68B-4AF9-BEA3-5E0EDB53A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19E2-86EB-4A8A-A80C-2885BBA65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2C1A-943F-4001-BB00-F4A762BEE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F910-0DD6-474F-9A9B-3D21182D7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6668-C484-4126-B2D8-60AB44659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2B97-3251-42D5-897B-8BD738C9E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4F67-66CF-4029-AD0A-13BB0197E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36F9-CC49-4E5D-AE49-F137EEC74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26A2-6AB6-463E-9192-0055EF294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4014-2C2A-47DA-B076-859DC1C0B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82DB-94A7-42C0-97F7-636F987C3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FEBF-54DC-470B-9FD6-F49F19DD3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3601-7D05-4759-8660-C1E25A607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F310-A8B8-49F8-90C5-28816730D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9419-0558-434D-9952-C425FD655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F306-181F-446E-A5FF-FFEEB214E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AB5B-2B64-445C-A21F-537D59ACE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C196-5C70-4584-9656-31BA3531D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E577-F087-4805-8B24-869757FC3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9DA7-62ED-4F1A-8C23-8DAE5C70E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CED6-CA29-45FF-9C31-8D3EFB5A8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EE4F-5024-4017-8F5F-DDC57D4AC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62F3-AEE9-40B6-895B-1F47BE102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B78F-5B28-41B1-ADDC-F935BC4B5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A293-7289-40B3-8BB9-704F1FEAB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4ADD-721B-4807-8606-A1A16D0C5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04A7-5F9A-4B7B-AE40-C72357864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29C3-0FA1-4326-8151-C2E8DE4A7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CDA1-EEE2-4B16-81EA-88EB6C413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755-A275-435B-9976-35DB2F38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451-2004-445A-A32E-7D17CF87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C80B-80CF-4EB1-AEB7-6AA73503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6E4-4030-4792-B5D6-98961CC3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05BB-35F7-4330-8A88-1A68DD19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5D4E3-CCB7-48BA-B1B2-1C4B244716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E71EF-6AD6-44DA-9707-EF10FA8618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F0548-66C8-4CB7-B739-5E43E77F47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72243-E920-4F78-9C82-6FB2B60870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7DCF1-D574-444B-98A1-4D572EF29E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C898-8027-4CE6-B51F-BCF47572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4F864-000C-4180-9164-091040AED1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EFCB9-CCB7-45D0-A959-F364C004C6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4FAFA-E0A8-4EB0-A9DE-B219DA13A1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7C017-E2B8-42F9-B614-8FA15F7EDC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A3496-56AF-4B2E-AED6-0FF7A05342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9445B-F7B4-4195-941E-8D6C546A51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EBFA1-0EA7-4026-B729-E12997E7A4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E9B-2EAB-47E0-98B8-DC9F22D1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C03-A94B-4DCE-84B9-8F32ED03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06A-2074-494F-814E-85205E49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1E05-D4C1-4502-AD74-3BD0B86E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EE8-8223-4FF8-83BC-15EE9619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C7B-ADA5-4CF4-AFDA-5214D11D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FD7C-A1AC-4948-8851-D78A8C74B1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E459-FFEE-46B7-A420-8E81D8C7CE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-functional theo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r functional theo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ide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part of society has a necessar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s fit together into a stable, orderly wh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s may be manifest (planned) or latent (unintended); some things may be dysfunc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criticis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claims are abstract, difficult to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’t easily explain social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es conflict is harmful, which isn’t always 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es stability is good, ignoring inequ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 theorists: Comte, Durkheim, Mer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AC33-B407-4635-A9A7-5046B862527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o- and Macro-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ide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qualities in resources and power create conflict, which underlies all social re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werful impose their values and beliefs on weak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leading to greater equality is desi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icism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ects the micro-le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test empi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easily explain cohesion and co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s on assumption of self-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theorists: Marx, DuBois, Dahrendorf, C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3940-1E20-456C-9600-DECF490DD52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o- and Macro- 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st sociological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ide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oted in conflict theory, symbolic interactio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hierarchies disadvantage women and advantage 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y has traditionally been male dominated, resulting in an incomplete view of the worl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criticism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y should address the intersection of gender, race, class, and other inequa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22DB-2813-4753-A408-588A74B8571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o- and Macro- 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 Weber’s contrib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ehen (understanding): emphasized the importance of interpreting the meanings people give to their actions (micro-lev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ed on bureaucracy guided by rationality as key element of modern organizations (meso-lev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d how history has been shaped by politics, economics, religion, psychology, and ideas (macro-lev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stant Ethic and the Spirit of Capita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and explanation for how capitalists view the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4C0C-9D30-4511-8F57-75FD64A2925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level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theory is right or wrong; each has advantages and disadvantages for studying particular levels or aspects of socie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74E6-F053-4D6B-B50A-E78C7B5A08D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different 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6" descr=""/>
          <p:cNvPicPr/>
          <p:nvPr/>
        </p:nvPicPr>
        <p:blipFill>
          <a:blip r:embed="rId1"/>
          <a:stretch/>
        </p:blipFill>
        <p:spPr>
          <a:xfrm>
            <a:off x="1282680" y="2819520"/>
            <a:ext cx="71517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search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ing a research stu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ing the research plan and method for collect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ing sense of th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83A4-5514-4783-B111-9889E810F9B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sociologists study the social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s in planning a stud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Define the problem clear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estion must be specific and pre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Find out what is already known about top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existing theory and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Formulate hypotheses and define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ypothesis: educated guess about the relationship between two variables, which can be tes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ble: concept that can vary in frequency of occurrence across persons, places, or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alizing a variable: linking the variable concept to a specific measur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71F1-3E87-4736-9581-FF644637C94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ing a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aims to find causal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ys that two variables can be relat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lation: variables change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usation: one variable causes another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ependent variable (IV): the cause of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endent variable (DV): the variable that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ing: change in IV must precede change in D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urious relationship: IV and DV change together due to effects of a third variable; not a causal relation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variables help eliminate effects not related to the hypothesis, especially spurious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CCC4-1A64-40CA-9BA5-3019115016B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ing a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design is important: the value of a study depends upon the quality of its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methods depend upon the level of analysis of the research ques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mary sociological research method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eld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led experi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ang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0F58-9FFF-43AD-8A4B-CD2406D9242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vey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gather information from many people about how they think or what they w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lves asking respondents a set of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views: questions asked by phone or in per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naire: questions and other types of ite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 ty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-ended: respondents can say what they wi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sed-ended: respondents must choose from a set of predetermined answ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7C27-F7C6-45E3-9BAF-06B1E1BCA06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52400" y="18284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523520" y="3200040"/>
            <a:ext cx="6782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xamining the Social Worl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w Do We K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vey methods: consid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views and open-ended questions yield in-depth information, but are time consuming and cos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naires and closed-ended questions provide less information, but are cheaper and more prac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413B-0EB9-41C2-BFBB-585AA5B6B70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eld studies (observational metho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systematically observe and record interaction in the settings where it takes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field stu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participant observation: observation 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cipant observation: researcher participates in and observes activities of group being stud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hnography: researcher uses observation, interviews, self-reflection, and other techniques to pursue any data relevant to the research problem, which may evolve over the course of the stu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1E7B-B4EB-4636-83A7-FE72FD9D086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eld study: consid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s qualitativ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ative data: written or verbal observations, used to interpret the meaning of somet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ntitative data: numerical, “hard” data, can be conveyed with percentages or t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cipant observation: potential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effects: the group being studied may be altered by the presence of the researc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as: researcher may become so involved in the group that objectivity becomes diffic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366D-30E1-4E16-85D5-FA0FD19B590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as a powerful test of cause and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of a controlled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ers manipulate an independent variable and determine its effects while all other variables are held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 group: subjects who are exposed to the effects of the in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group: subjects not exposed to the in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e experimental group is exposed to the variable, the two groups are compared to determine its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be used to study many sociological questions, research effects may result, and it is unethical to introduce many variables into th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7B16-7B0A-49F1-BB74-44CAD763C81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the research &amp; collecting th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led experiments: consid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aluable test, bu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’t be used for questions dealing with macro-level phenomenon that can’t be placed in a controlled sit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’t study questions involving independent variables that might cause harm to su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effects: subjects may be affected by the fact that they are in a laboratory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508A-B1D1-4588-88A5-6657ED18467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the research &amp; collecting th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data is used in new ways, especially if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from past years are des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y concerns meso- or macro-level social patter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ty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ary analysis: employs data already collected for other studies or by agencies such as the Census Bureau or United N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ent analysis: systematic recording and classification of information from written or recorded sources, e.g. newspapers or le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0F0B-AAF4-41B0-812E-EE1426B5CC2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sources: consid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data sources may be inexpensive; research is unobtrusive and may be easy to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ential proble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y not represent the precise population the researcher wishes to stu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problems with the original data will carry over into the secondary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does not capture the “human side” of research questions as well as interview or observational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A695-1D47-48CC-9B6C-61EE7C8A768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angulation (or multiple metho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methods of data collection are used to increase the amount of data and the accuracy of fin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vey methods, field study, experimentation, and existing sources may be used in various combin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54F3-B52A-4355-B7A0-BB41C6174E9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ing (all metho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: a small group of people who are systematically chosen to represent the larger population being stud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s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resentative: accurately reflects the population being studied, so findings can be generalized to the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dom: every person in the population has an equal chance of being selected for the sample; the most common type of representative s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3F5C-0CA2-45B7-9E8C-45001901AF0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z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oal is to determine relationships between the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bles must be cl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er must choose most effective tools for analyzing relationships among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ussion with and criticism from other researchers aids accuracy of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y should be replicable, or capable of being repeated so results can be comp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2B1B-BDCC-4159-B026-6F4022920F9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sis: Making sense of th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y uses scientific methods to expand knowledge of the social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ystematic use of theories and research methods makes sociology much more than guesswork or opin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0E36-D229-476F-BF04-547F5B0A476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as underlying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searcher develops a report, includ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 of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analysis, which may include tables or figures that summarize th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: Are hypotheses supported by dat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pretations and 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social science no one study can definitively prove a hypothesis; instead, findings may tend to support or reject a hypothes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C867-7F8E-47C1-8F51-0B15021F617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sis: Making sense of th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ical research is bound by ethical codes which generally require tha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subjects give informed consent to participate in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jects are not harmed or put a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jects’ privacy is not invaded unnecessari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jects’ private information is prot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y findings do not cause ha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 Subjects Review Boards at universities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research institutions help protect su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4102-AA54-401D-ACD7-655C4540FA3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ical issues in social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ociology: attempts to integrate sociology into communities in order to promote public debate and social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10E5-ADB1-49AB-84E7-436D3B6F2CD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ting sociology to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thought before sociology: strongly influenced by religion and philosop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sociology arose in nineteenth-century Europe, influenced by several condi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onialism: exposure to other cul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ustrial Revolution &amp; French Revolution: desire to know how dramatic change could be systematically expla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ces in the natural sciences: desire to apply scientific method to the social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1B55-1B13-4DEC-82EF-22B26D1F45C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evelopment of soc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gust Comte &amp; the science of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ined the term “sociology” in 18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ought society’s problems could not be understood by philosophical or religious speculation; scientific knowledge w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main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holds society together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ocial statics or structure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is there change in society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ocial dynamics or proce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9833-6AFB-409E-9FBE-B6B454C215C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evelopment of soc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ly sociology after Com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massive social and economic change brought by Industrial Rev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relationship between micro-, meso-, and macro-level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ly sociological theorists: Emile Durkheim, Karl Marx, Harriet Martineau, Max Weber, and W.E.B. DuBo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f scientific method to test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3584-2181-4ED8-A630-5135B1212C6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evelopment of soc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etical perspective: a basic view of society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ides sociological research and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an overall approach to understanding social behavior, social systems, and relationships between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micro- or macro-level; all can be used at the meso-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F03B-949F-4C0B-87BF-6FD5CD61194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ology’s major 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ic interaction the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social construction, interpretative the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id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interact on the basis of shared symbols to construct a meaningful world—which then serves as a basis for further inter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emphasize agency, individuals’ active role in constructing their social environments, or how their social positions shape their co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icism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ects macro-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study concepts like “mind” and “self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theorists: George H. Mead, the Iowa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8D6F-D810-420D-B78C-CCBD3AEB97E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ro-to-Meso 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 choice theo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r exchange theo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ide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act by making rational, self-interested decisions that will maximize their rewards and minimize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criticism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lects macro-level processes and micro-level, internal mental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not easily explain altruistic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do not always act rationally or accurately assess their self-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E8DF-EB14-4941-B2B5-CE1EAD8DB01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ro-to-Meso 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1:08:03Z</dcterms:created>
  <dc:creator>Deborah</dc:creator>
  <dc:description/>
  <dc:language>en-US</dc:language>
  <cp:lastModifiedBy>Stephanie Palermini</cp:lastModifiedBy>
  <dcterms:modified xsi:type="dcterms:W3CDTF">2017-07-03T18:30:15Z</dcterms:modified>
  <cp:revision>116</cp:revision>
  <dc:subject/>
  <dc:title>Chapter 2</dc:title>
</cp:coreProperties>
</file>