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229-E65E-4E6A-BB92-87078E5F9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9C3-97ED-4507-9221-8BF985824A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B9E-61B1-466D-88DF-9BFB8C0BB5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FE8-F3ED-432C-92CF-37CFD56AD6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3D45-D26C-4765-B6BE-5F328C9A0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ED29-2BA7-4F6E-BBF3-8903913657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068-ADB8-4B50-ACA4-8B079FBF5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4996-DE6E-4D7A-82BE-5890A82B91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724-4DFE-462C-947A-18C4EF7027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EC9-CEF3-42DE-B77D-3000CF57B0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612-CF5A-4596-876F-803C1B3E91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013-9479-47D6-BD32-1FEDCF5E95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73AC-7DEF-4B7A-8974-BA861CD1F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F29-E33B-48A4-8EB6-B82CED7F15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70F-C39C-4CB0-9AA2-BFB96696FC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6B6-1B4B-49CE-BA15-950828AE2F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124-C29D-42B1-A7E3-B948575403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D61-B3E8-4D33-BAD7-E7AD87DC76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1347-255D-4B25-8447-819F6BDB87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B25-A731-4559-B286-DB16642CA8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re I cut the bit about the scientific method as it is not in the condensed ver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8AF-17BE-4430-A162-835C6C0EA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F96-DDFE-439A-9792-A293C97E05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C0-003E-4F7F-853F-6926130A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2AE-4542-4024-9601-7A0C7CA1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932-2061-4946-9354-2FC41BC1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578-289E-4264-A96E-E2D52909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45D-68B1-4182-9B75-AF737AC3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D50FC-8C30-4937-A714-AD2AD9370F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72738-3B4A-4321-ACF8-CEECEF619E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8EE21-C3E7-4D72-B79C-BC56E5DA33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CC36C-8078-4615-881C-209D3366B9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647EB-4119-4CE3-9AD6-1C6708111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204-0D7F-44FF-95E1-59A2941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39FC0-DF58-46E5-B012-3219533B6C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A66DF-708B-4072-ABEA-6B0EC86D9D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A1C0-F552-42DA-B88F-7661F7D120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20F2-41C0-4DC7-B83A-C2088D59C3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CE100-A81E-43D7-B97B-0E810DC220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A4A87-9E34-47ED-9648-64E1FDB609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7B5D-EE01-49C7-A542-618621F9BD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D8F-AE59-4C0B-BC8C-BF130333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0F9-735E-4786-A833-C9DB4802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729-D685-4105-BEB0-2C854B4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AB3-88F9-441A-9F82-AAC9330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1B-1488-4520-A2D6-F133186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8E9-E515-4D61-916B-75F8DC7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C1F1-33FC-47F5-9B63-62F74632E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A00B-6EE4-4438-9DF0-9AB67A310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the social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tudy aspects of human behavior and social life, but each has a different 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nthropology: the culture or way of life of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y: individual behavior and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cience: government systems a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s: economic conditions and how people organize, produce, and distribut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human interaction, groups, and soci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7E7-FB79-4C72-B760-84D292B1D9C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tial ingredients in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observe what is happening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s us to be more effective as we carry out ou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 to understand and explain why it is happening (i.e. High School Dropou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30E9-C053-44DC-BEC8-E94EF60DD5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actical rewards of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wareness and self-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understanding of social situ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, systematic understanding of both domestic and glob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of diverse cultural persp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ess the impact of social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of the complexities of social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67C-CBF8-4C08-A442-9BBF5424E4D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ociologists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colleg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, conduct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social servic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interpersonal relations or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organizational needs or human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data for policy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DD2-A534-4FDF-9D2F-DF5C642A2A5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 honed in sociological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&amp; inter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/techn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itivity to diversity and global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ing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,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D45-E939-4CAD-B30F-E2903AD72F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analysis: size of the social groups being considered, from the smallest to the larg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ciology requires understanding multiple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question: How do the levels connect or conflict with one ano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3ED-9830-48FB-BA4A-1EA1C7A87D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2514600" y="1289160"/>
            <a:ext cx="4038480" cy="5033880"/>
          </a:xfrm>
          <a:prstGeom prst="rect">
            <a:avLst/>
          </a:prstGeom>
          <a:ln w="0">
            <a:noFill/>
          </a:ln>
        </p:spPr>
      </p:pic>
      <p:sp>
        <p:nvSpPr>
          <p:cNvPr id="56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407-8A8A-4BEC-9A2B-10E999221A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units: interconnected parts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: a particular combination of social units that orders our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stitutions: provide the rules, roles, and relationships to meet human needs and guide huma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society: a population of people living in a specified area with a common political authority, many common ideas, and a social structure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E44-B21F-434D-ADE1-2B97D37228F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: actions taken by people in social units. For examp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ocialization: how we learn to be productive members of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tratification: process of layering people on the basis of birth, income, or other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change: every social unit is continually changing, and change in each unit affect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FDFF-E180-48B6-BDB4-B74E60AC82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: the setting that surrounds and influences each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physical, organizational, or technologic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unit has its own distinctive environment, to which it must adj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nderstand a social unit, we must consider not only the structure and processes within the unit, but also its interaction with the surrounding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579F-08A1-4861-AF38-9693965659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14240" y="1904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tle 1"/>
          <p:cNvSpPr/>
          <p:nvPr/>
        </p:nvSpPr>
        <p:spPr>
          <a:xfrm>
            <a:off x="16002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Sociology: A Unique Way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View the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E48-817C-43AF-8C8B-071EFD1488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ing the Social World: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can be studied at many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(individuals and small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micro interactions form the basis of all soci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(intermediate size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relations among institutions, organizations, and large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(nations, global &amp; international tr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how larger social forces shape everyday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level adds depth to a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C25-6231-48EE-9A88-E4A6A76F13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"/>
          <p:cNvPicPr/>
          <p:nvPr/>
        </p:nvPicPr>
        <p:blipFill>
          <a:blip r:embed="rId1"/>
          <a:stretch/>
        </p:blipFill>
        <p:spPr>
          <a:xfrm>
            <a:off x="852480" y="1752480"/>
            <a:ext cx="8142120" cy="30481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018E-5422-45F2-B9B2-FC835B38F72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level of analysis would you use to examine each of the following ques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ouples divide housework responsibili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factors determine the percentage of women in political power in a certain countr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ize of a school’s sports stadium matter for students who are choosing a colle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CA35-DBC4-4236-B261-09724F22A6F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questions could be studied from any of the levels, or from a combination of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1"/>
          <a:stretch/>
        </p:blipFill>
        <p:spPr>
          <a:xfrm>
            <a:off x="988920" y="3218040"/>
            <a:ext cx="7775640" cy="13381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80F-AE3D-45B2-A41F-7AAC715F589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re fundamentally social be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is not just outside us; we also carry it within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take social patterns for granted as routine, ordinary, and expec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socially shared expectations, life would be chao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the social world mutually influence one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he social world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Slide Number Placeholder 6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A9F-50A9-4688-913A-36228C73402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the scientific study of social life, social change, and the social causes and consequences of human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ask questions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and how do people and groups interact with one ano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different groups or societies organiz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y deal with conflict and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hanges in one society affect other socie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08F-B5FB-4988-9D27-750E112A74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study groups of all s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ads (e.g. a romantic cou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e.g. a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groups (e.g. the auto indus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(e.g. the 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lobal society (the world as an interdependent ent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25F-07F2-4A48-B53B-66B7EDEE69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assumptions of soc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social by 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live most of their liv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s between people and groups are reciprocal: each influences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eature recurrent social patterns, ordered behavior, shared expectations, and common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hange are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248-9D1E-4A72-B471-950A43125EA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vs. Common 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ense ideas seem sensible to any reasonable person; they are taken for granted and rarely questio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0F9-BE61-4180-BEC5-9B3FB4B3031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ological imag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by C. Wright Mills as understanding individual problems to be rooted in broader social or public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social factors influence layoff rates and personal experiences of unemploymen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have social factors shaped the causes and rates of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A97-D656-4B8C-8F09-AF0614A3BD2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sociologists do and don’t 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n’t ask questions that require philosophical or moral jud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 ask questions that can be studied objectively and scient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sociologists may study a group’s religious beliefs, but they do not make judgments about whether the beliefs are right or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ed sociologists conduct research to create change, for instance through social policy or by helping organizations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A29-8386-45C3-97AE-46BE504308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Stephanie Palermini</cp:lastModifiedBy>
  <dcterms:modified xsi:type="dcterms:W3CDTF">2017-07-03T18:21:38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