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C3B-292F-4917-BD5A-559C53B0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768-2C33-45A9-A95A-4C37CAC3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C46-E172-42F6-BDDA-6BD16A85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D7C-4AE0-4BDF-B530-58C28A6F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001-BEC1-42BB-B3FC-51465D05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E4F47-32E3-4DF5-8F28-7CFC3214B9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921F9-A8B5-49E3-BB7F-B3D9786FE4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D59A7-D922-4B76-9C67-F3ABB68E22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97EC-E0E5-4DF5-B816-B9AC73F0B2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D27E3-2D64-4C1B-923C-CCF8DA47B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654-0A6B-41D6-96D2-D1ED6D93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B8B5E-08A9-4763-ABBD-4AA578F9F7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649F2-BB03-4013-AC4B-D99B817B7B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EAD35-F903-43D3-9429-0392C22D27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08BE8-01F8-4CBA-B417-49349271B8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FD626-D00E-4215-9748-91C7AD32FC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2A699-313C-4062-AC38-6633919E5A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4EF61-B42D-4578-8425-572C9B05DA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B05-B4E2-402F-A544-692B4AE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5A2D8-5133-411E-8F01-64C5DCF53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0E3-1921-4738-9EA4-A076BEF3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224BA-44EC-4377-97E1-A86EE41338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7EF87-26FF-401D-9449-2688674E1C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D6EB9-7490-4669-80FF-BE99DFCA37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6C37B-9F84-45BC-8922-201CF1B5C3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88639-4BA2-4507-BC3F-036CC75693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5FDD4-658F-4FC5-9814-AD542B5F64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38353-2E53-492A-8CF9-64762B1E88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DED4B-9352-45CB-865E-C33529BB05C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D9A64-F776-45A3-BFC6-F756309619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D352C-BB60-4F98-A43D-7D14433F6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441-A112-4D4A-B256-77B97FBC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3EC0C-E013-49F1-9A6B-AA77AF0A23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72E-9418-4AD3-8E54-75ED1BD6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083-F888-44A2-A8E2-EA319E7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DEF-42BC-4D2D-AD34-668A5DC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280-87DB-4791-BCB4-2D252EBDC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8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5001-082A-4F19-A741-9BEECE7D1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6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7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1DFC-9591-48F0-A69A-A34B777D3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evolutionary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ies move slowly from simple to more complex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linear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cieties progress through the same steps; advancement is defined as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lan and Lenski’s (2008) five stages of societal progress: hunter-gatherer, horticultural, agrarian, industrial, postindustrial; no stages are “better,” but pattern is typ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inear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ocieties become large, complex, technologically advanced societies through a variety of differen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7A87-282C-4799-8E97-A8CD11AE799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mostly stable; due to interdependence, change in one part of society will affect other parts; change may come from outside or within; slow change may occur as societies become more complex, rapid change is potentially dysfun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dynamic, change is inevitable; conflict between those in power and the oppressed will lead to changes that may be useful for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AB1A-CE49-4646-9352-DC797812A3F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systems theory: all societies today have been influenced by capit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 nations: economically and politically powerful; have controlled and profited most from world econom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pheral nations: countries that provide cheap labor and raw materials for core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peripheral countries: in intermediate position between core and periphery, trading with bo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dity chains: global networks of labor resources and production processes that create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FD1-2C87-451A-A4B0-E8F0BB86D7A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1"/>
          <a:stretch/>
        </p:blipFill>
        <p:spPr>
          <a:xfrm>
            <a:off x="1851120" y="1676520"/>
            <a:ext cx="6019560" cy="3998880"/>
          </a:xfrm>
          <a:prstGeom prst="rect">
            <a:avLst/>
          </a:prstGeom>
          <a:ln w="0">
            <a:noFill/>
          </a:ln>
        </p:spPr>
      </p:pic>
      <p:sp>
        <p:nvSpPr>
          <p:cNvPr id="59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48EE-727B-43D2-BE48-2EAD4A8170D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-level behavior and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ve behav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taneous, disorganized group actions that often violate norms; arises when people are trying to cope with stressful situations or un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wd behavior: collective behavior in which a crowd acts, at least temporarily, as a unified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behavior: individuals communicate or respond in a similar manner to an ambiguous situation, often based on common information from the news or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social movements, these forms of collective behavior lack a hierarchy of authority, a division of labor, and a sense of group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AE0-35D4-4DAD-9383-90DA53DF219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i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nimax strategy (rational choice theory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more likely to engage in behavior if they feel rewards outweigh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t norm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ve behavior often takes place in unusual situations where norms break down and new definitions of acceptable behavior emerge as people look to each other for c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DAF8-1493-48C0-81DE-50724A69E8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i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-added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ain conditions are necessary for individuals to join together in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conduc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st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 of a generalized bel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pitation fa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ization for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s are w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692-CA16-4A71-A4C4-41E5C8C8A27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1417680" y="2209680"/>
            <a:ext cx="6886440" cy="1905120"/>
          </a:xfrm>
          <a:prstGeom prst="rect">
            <a:avLst/>
          </a:prstGeom>
          <a:ln w="0">
            <a:noFill/>
          </a:ln>
        </p:spPr>
      </p:pic>
      <p:sp>
        <p:nvSpPr>
          <p:cNvPr id="61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FAB-A739-4506-A41D-7294A2D411D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3260880" y="1432080"/>
            <a:ext cx="3200400" cy="43052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1BC6-DE9D-472C-88DB-0D0F3D54D7F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s (e.g. lynching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ots (e.g. Iraqi riots over lack of jo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ic (e.g. in fi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mors (e.g. urban leg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ds (e.g. tatto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hions (e.g. music gen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2FE2-6365-4388-A182-74ADEC18D04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2819520" y="16765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1523880" y="29718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cess of Change: Can We Make a Differ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Organizations Plan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berate, structured attempts, guided by stated goals, to alter the status quo of the social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change is desired; sometimes it is forced on the organization by external str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cannot be fully predicted, as changes in one area may create problems i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731-E10A-4627-9E83-5A32D849853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planning organizationa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 system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focus; goal is to move the organization closer to ideal bureaucratic efficiency and effec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system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internal processes, which create outputs, with external environment, which creates inputs and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s change as ongoing; all parts of organization and environment as linked; change in one part affects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961D-A8F6-466A-B406-9E284D5060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of Planne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organizations must change within themselves to meet new conditions and attempt to bring about change in the wor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must try to avoid confli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is generally perceived as desirable if it is evolutionary or planned; unplanned change can be disrup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FB56-ECFC-49C6-9CEE-6E5D1F84CD0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level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mov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ously organized attempts, outside of established institutions, to enhance or resist change through group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 common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 organization, leader,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in industrial or post-industrial societies where diverse groups advocate for their own 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begun by an individual outside the power structure and focus on how resources are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timulate counter movements: social movements against the goals of the origin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7894-A2E3-4CFF-BC11-99A202D5FB7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movement is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ization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join efforts, define goals and strategies, develop recruitment tactics, and identify leaders; the social movement enters the public 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998600" y="1604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ized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becomes a formal organization, which gains members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 and demise (in some case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reaks apart due to unmet goals, exhausted resources, or leadership that is inept, no longer legitimate, or co-opted by powerful mainlin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746280" y="12016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es of Social Mo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0B68-48CF-4973-BF64-C8FD2FD1DE0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Movement 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must share basic values, ideals,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must be a preexisting communication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ain and precipitating event galvanizes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leadership eme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develop a sense of efficacy and potential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DC02-2CE0-4710-96D6-B024F3A3C39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hanging people, saving them from corrupt life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refor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o change some aspect of society, but members generally support society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utiona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bring about total change in society by overthrowing existing power structures and replacing them with 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998600" y="1604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or regre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nge as a threat to societal values, want to maintain status quo; try to protect existing systems or restore ol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transnati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place across societies and focus on large-scale, glob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5"/>
          <p:cNvSpPr/>
          <p:nvPr/>
        </p:nvSpPr>
        <p:spPr>
          <a:xfrm>
            <a:off x="746280" y="117000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293-DD59-4BA4-AC53-88A3C9E8275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"/>
          <p:cNvPicPr/>
          <p:nvPr/>
        </p:nvPicPr>
        <p:blipFill>
          <a:blip r:embed="rId1"/>
          <a:stretch/>
        </p:blipFill>
        <p:spPr>
          <a:xfrm>
            <a:off x="1622520" y="1523880"/>
            <a:ext cx="6475320" cy="4229280"/>
          </a:xfrm>
          <a:prstGeom prst="rect">
            <a:avLst/>
          </a:prstGeom>
          <a:ln w="0">
            <a:noFill/>
          </a:ln>
        </p:spPr>
      </p:pic>
      <p:sp>
        <p:nvSpPr>
          <p:cNvPr id="65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F075-E80A-44E0-A6D9-4020BDB516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Social M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outh countries are coming together to form social movements in response to unjust treatment by Global North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from below”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orts by common people to protect workers and the environment from profit-driven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5CDD-8547-403D-B9B0-0DC4B5F025C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al application of tools, skills, and knowledge to meet human needs and extend human 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s closely linked to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cal revolutions have altered societies and created social div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3C4E-532A-44EF-9E58-F97E7B69F47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s or alterations over time in the behavior patterns, culture (including norms and values), and structur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s controllable, som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vitable and ubiquit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apid or gradual and evolutio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one level often caused by change at anoth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3694-335B-4037-BF0B-8F876E40274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gburn: technological change is brought about by three proce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ve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way of seeing reality, created by an individual or small group (mi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n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existing parts, materials, or ideas to form new ones, often through the expansion of science (increasingly mes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u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read of an invention or discovery from one place to another (involves macro and micro lev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536C-2349-46FC-97A7-C1AE078EB69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nd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: the systematic process of producing human knowledge; it uses empirical research methods to discover facts and test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pplies science to sol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 has become a major social institution in today’s industrial and postindustrial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ation: the creation of a stable pattern of roles, statuses, and groups that systematically meet needs for new resources and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institutions involve people, resources, specialized training, communication,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and applie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EDEC-2C28-435E-89EC-46F7B5AB715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n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be a force for global integration or dis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lead to economic and political dis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bring benefits to some, while harming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technological change affects inter-generati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C6B-3C10-4763-B5AA-011C1E7BFC5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dividu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th wealth, charisma, expertise, or privileged position can bring about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use many strategies to persuade individuals to accept change, for example, appeal and persuasion, removing uncooperative individuals, using direct command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8F15-1B90-4CC9-83FB-C779F450D5C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stitu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mate Change: an example “the use of indiscriminate violence to cause mass fear and panic to intimidate a population and advance one’s political goals” (Nolan 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so-level phenomenon, though it has personal and glob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rried out by non-state groups such as ethnic, political, or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s institutions like the economy, government, religion, family, and m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F272-C6B4-4579-BB46-FFBE379D09D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stitu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Churches and 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religious denominations have developed programs to be more “green” or “earth-friendly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universities are switching purchasing to avoid sweatshop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A88-A76F-4DDE-A4AB-E8E099D075F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National and Global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al-leve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environmental shifts caused by one nation affect the entire world, but most nations do not want to change environmental practices for economic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ystems an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tus for change comes from global organizations, national and international organizations and governments, multinational corpo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ternational alliances based primarily on economic 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D819-FF49-4DC2-8A91-4B7EEAF1C0B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of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is trigger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pressures for chan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conflicting goals or belief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pressures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the natural environment, population dynamics, leaders or dominant individuals, technology, the social environment, or major historic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C2C-2948-49C1-B801-E6A690ADA38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actively construct meaning; re-definitions of reality can upset the status quo and be powerful impetuses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-seeking change must set up a situation in which new desired behavior is rewarded, or where people’s perceptions about the advantages and disadvantages of old behaviors are al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B3F0-020B-43AD-A99D-E04EDDC7308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21:07:46Z</dcterms:created>
  <dc:creator>Amanda</dc:creator>
  <dc:description/>
  <dc:language>en-US</dc:language>
  <cp:lastModifiedBy>Stephanie Palermini</cp:lastModifiedBy>
  <dcterms:modified xsi:type="dcterms:W3CDTF">2017-07-03T19:19:48Z</dcterms:modified>
  <cp:revision>90</cp:revision>
  <dc:subject/>
  <dc:title>Chapter 16:  The Process of Change</dc:title>
</cp:coreProperties>
</file>