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78427-C8B8-454B-95EE-4D2ACAA67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A6F2C-DACD-4300-A5AF-4B1DB86B5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2"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3"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1"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6"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8"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9"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2"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3"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4"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5"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6"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CC4C0-5CF8-4FEF-8F2E-D8F5E136C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0"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2"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4"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0"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1"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3"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5"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4"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8D83A-8ABB-4D51-A0DE-C2C48D4C0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0"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1"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2"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3"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4"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8"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0"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2"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1"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3"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7"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9"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5"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7"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1"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5"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8"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2"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4"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5"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2"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3"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6"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7"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0761C-21CB-4E6F-B156-DF20F1D7A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3AA723-AC3F-4048-B09F-FB16CC5749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4D74F7-2064-42D6-BD78-96620401668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3AA86D-EB34-48D6-A577-E04751C80B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B0D1BF-5D8B-4E6E-BDAB-09425EA8DF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39AB9B-82CA-49C6-8801-FF62205E4D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25A1B-59DF-4F73-AF65-841D2D3F7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A7B7B1-2459-4B98-8D1F-C08ED762EA7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BB09B8-505C-4EA5-A39C-98D25D0E1D9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5AFF5B-EACE-474B-A9FE-47C2A315B7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136067-9967-4DBA-AC9D-0BA66D1E68E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5D93A7-B245-439B-9F15-1E191CA531D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D8933D-B3AE-4971-8AC5-6AF06AA46AC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984606-D51C-4F37-A9D9-753C89B9FB8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2"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95E37-B5EE-4AFA-BB9E-E68D76D1A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1"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6"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C9538-841A-4D19-A284-8711798A2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0"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1"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5"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13BB3-23C0-4425-BB3F-B943A5DD4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9"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1"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8"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3"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EF1EC-7425-4515-831F-9EE726F5D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9"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0"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7"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9"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0"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BFA00-72CE-4843-84CC-82AE20906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6025B-3C74-44AC-A12F-7A53A8538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762120" y="6356520"/>
            <a:ext cx="457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1295280" y="6356520"/>
            <a:ext cx="64771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Ballantine, Our Social World:Condensed 5e. SAGE Publication, 2018.</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29600" y="6356520"/>
            <a:ext cx="457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DC2F-547E-45E3-9AA1-375B93BCBC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48"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86"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4"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6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01" name="PlaceHolder 3"/>
          <p:cNvSpPr>
            <a:spLocks noGrp="1"/>
          </p:cNvSpPr>
          <p:nvPr>
            <p:ph type="ftr" idx="6"/>
          </p:nvPr>
        </p:nvSpPr>
        <p:spPr>
          <a:xfrm>
            <a:off x="533520" y="6356520"/>
            <a:ext cx="5486400" cy="3650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antine, Our Social World:Condensed 5e. SAGE Publication, 2018.</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1" name="PlaceHolder 3"/>
          <p:cNvSpPr>
            <a:spLocks noGrp="1"/>
          </p:cNvSpPr>
          <p:nvPr>
            <p:ph type="ftr" idx="4"/>
          </p:nvPr>
        </p:nvSpPr>
        <p:spPr>
          <a:xfrm>
            <a:off x="1295280" y="6356520"/>
            <a:ext cx="64771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Ballantine, Our Social World:Condensed 5e. SAGE Publication, 2018.</a:t>
            </a:r>
            <a:endParaRPr b="0" lang="en-US" sz="1200" spc="-1" strike="noStrike">
              <a:solidFill>
                <a:srgbClr val="000000"/>
              </a:solidFill>
              <a:latin typeface="Times New Roman"/>
            </a:endParaRPr>
          </a:p>
        </p:txBody>
      </p:sp>
      <p:sp>
        <p:nvSpPr>
          <p:cNvPr id="82" name="PlaceHolder 4"/>
          <p:cNvSpPr>
            <a:spLocks noGrp="1"/>
          </p:cNvSpPr>
          <p:nvPr>
            <p:ph type="sldNum" idx="5"/>
          </p:nvPr>
        </p:nvSpPr>
        <p:spPr>
          <a:xfrm>
            <a:off x="8229600" y="6356520"/>
            <a:ext cx="457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F8A2-1B57-42F4-891B-3BFC2EE620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58"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96"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34"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7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1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mographic Transition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pic>
        <p:nvPicPr>
          <p:cNvPr id="563" name="Picture 6" descr=""/>
          <p:cNvPicPr/>
          <p:nvPr/>
        </p:nvPicPr>
        <p:blipFill>
          <a:blip r:embed="rId1"/>
          <a:stretch/>
        </p:blipFill>
        <p:spPr>
          <a:xfrm>
            <a:off x="1432080" y="2209680"/>
            <a:ext cx="6858000" cy="3733920"/>
          </a:xfrm>
          <a:prstGeom prst="rect">
            <a:avLst/>
          </a:prstGeom>
          <a:ln w="0">
            <a:noFill/>
          </a:ln>
        </p:spPr>
      </p:pic>
      <p:sp>
        <p:nvSpPr>
          <p:cNvPr id="564" name="Footer Placeholder 4"/>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65" name="Slide Number Placeholder 5"/>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C331-DFEE-4A77-97E5-11B9DB686CA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
          <p:cNvSpPr txBox="1"/>
          <p:nvPr/>
        </p:nvSpPr>
        <p:spPr>
          <a:xfrm>
            <a:off x="762120" y="1623960"/>
            <a:ext cx="8229600" cy="452592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graphic Transition Theory</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itiques:</a:t>
            </a:r>
            <a:endParaRPr b="0" lang="en-US" sz="22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ils to consider several factors:</a:t>
            </a:r>
            <a:endParaRPr b="0" lang="en-US" sz="22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 at marriage</a:t>
            </a:r>
            <a:endParaRPr b="0" lang="en-US" sz="22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aceptive availability</a:t>
            </a:r>
            <a:endParaRPr b="0" lang="en-US" sz="22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untry’s land and resources </a:t>
            </a:r>
            <a:endParaRPr b="0" lang="en-US" sz="22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onomic structure, religious beliefs, political philosophy</a:t>
            </a:r>
            <a:endParaRPr b="0" lang="en-US" sz="22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onomic expansion</a:t>
            </a:r>
            <a:endParaRPr b="0" lang="en-US" sz="22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umes modernization results in rational choice about family size; instead, small families are due to economic development and urbanization</a:t>
            </a:r>
            <a:endParaRPr b="0" lang="en-US" sz="2200" spc="-1" strike="noStrike">
              <a:solidFill>
                <a:srgbClr val="000000"/>
              </a:solidFill>
              <a:latin typeface="Arial"/>
            </a:endParaRPr>
          </a:p>
        </p:txBody>
      </p:sp>
      <p:sp>
        <p:nvSpPr>
          <p:cNvPr id="567"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68"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graphic Transition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lth flow theory: decisions about family size result from two strategies: wealth flow from parents to children and vice vers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wealth flows from parents to children, family sizes are smaller</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hildren are working for their parents, family sizes are larger</a:t>
            </a:r>
            <a:endParaRPr b="0" lang="en-US" sz="2200" spc="-1" strike="noStrike">
              <a:solidFill>
                <a:srgbClr val="000000"/>
              </a:solidFill>
              <a:latin typeface="Arial"/>
            </a:endParaRPr>
          </a:p>
        </p:txBody>
      </p:sp>
      <p:sp>
        <p:nvSpPr>
          <p:cNvPr id="57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71"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lict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cial and structural factors built into the economic system, not automatic population growth, are the cause of pover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pitalist structures result in wealth for capitalists and create overpopulation and poverty for worke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cialist societies can absorb population growth; all can find jobs as the system expands to include them</a:t>
            </a:r>
            <a:endParaRPr b="0" lang="en-US" sz="2200" spc="-1" strike="noStrike">
              <a:solidFill>
                <a:srgbClr val="000000"/>
              </a:solidFill>
              <a:latin typeface="Arial"/>
            </a:endParaRPr>
          </a:p>
        </p:txBody>
      </p:sp>
      <p:sp>
        <p:nvSpPr>
          <p:cNvPr id="573"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7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so-level analysi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ey aspects of population chan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ze: overall number of peopl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sition: characteristics such as sex ratio, age distribution, religious/ethnic represent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ribution: geographic density or concentr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graphic processes that affect popul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rtility: birth rate</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tality: death rate</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gration: geographic movement of people</a:t>
            </a:r>
            <a:endParaRPr b="0" lang="en-US" sz="2200" spc="-1" strike="noStrike">
              <a:solidFill>
                <a:srgbClr val="000000"/>
              </a:solidFill>
              <a:latin typeface="Arial"/>
            </a:endParaRPr>
          </a:p>
        </p:txBody>
      </p:sp>
      <p:sp>
        <p:nvSpPr>
          <p:cNvPr id="576"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77"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affecting fertility rat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onomic factors: the relationship between fertility and poverty or prosperity is complex</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vernmental</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natalist policies: encourage fertility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tinatalist policies: discourage fert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igious and cultural norm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ion (especially for wome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ailability of contraception</a:t>
            </a:r>
            <a:endParaRPr b="0" lang="en-US" sz="2200" spc="-1" strike="noStrike">
              <a:solidFill>
                <a:srgbClr val="000000"/>
              </a:solidFill>
              <a:latin typeface="Arial"/>
            </a:endParaRPr>
          </a:p>
        </p:txBody>
      </p:sp>
      <p:sp>
        <p:nvSpPr>
          <p:cNvPr id="579"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8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actors Affecting Fertility Rates: Women’s Educ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pic>
        <p:nvPicPr>
          <p:cNvPr id="583" name="Picture 6" descr=""/>
          <p:cNvPicPr/>
          <p:nvPr/>
        </p:nvPicPr>
        <p:blipFill>
          <a:blip r:embed="rId1"/>
          <a:stretch/>
        </p:blipFill>
        <p:spPr>
          <a:xfrm>
            <a:off x="1446120" y="2374920"/>
            <a:ext cx="6861240" cy="3774960"/>
          </a:xfrm>
          <a:prstGeom prst="rect">
            <a:avLst/>
          </a:prstGeom>
          <a:ln w="0">
            <a:noFill/>
          </a:ln>
        </p:spPr>
      </p:pic>
      <p:sp>
        <p:nvSpPr>
          <p:cNvPr id="584" name="Footer Placeholder 3"/>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85" name="Slide Number Placeholder 4"/>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00F3-7FD9-4293-879C-9B85CF825A9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Affecting Mortality Rat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fe expectancy: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verage number of years people live in a particular society</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es overall health conditions in a country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ional differences in mortality are caused by disease, poor health care, poverty, war and civil strife, draught and famine, malnutrition.</a:t>
            </a:r>
            <a:endParaRPr b="0" lang="en-US" sz="2200" spc="-1" strike="noStrike">
              <a:solidFill>
                <a:srgbClr val="000000"/>
              </a:solidFill>
              <a:latin typeface="Arial"/>
            </a:endParaRPr>
          </a:p>
        </p:txBody>
      </p:sp>
      <p:sp>
        <p:nvSpPr>
          <p:cNvPr id="587"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88"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Affecting Migration and Mob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sh-pull model: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people are pushed from their original locations by wars, plagues, famine, political or religious conflicts, economic crises, or other factors, and pulled to new locations by economic opportunities or political and religious tolerance.</a:t>
            </a:r>
            <a:endParaRPr b="0" lang="en-US" sz="2200" spc="-1" strike="noStrike">
              <a:solidFill>
                <a:srgbClr val="000000"/>
              </a:solidFill>
              <a:latin typeface="Arial"/>
            </a:endParaRPr>
          </a:p>
        </p:txBody>
      </p:sp>
      <p:sp>
        <p:nvSpPr>
          <p:cNvPr id="59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91"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s of Migration and Mob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migration: movement within a countr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ization, or rural to urban migration, is comm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luenced by job and housing opportunit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ly displaced persons: forcibly relocated within their own countries</a:t>
            </a:r>
            <a:endParaRPr b="0" lang="en-US" sz="2200" spc="-1" strike="noStrike">
              <a:solidFill>
                <a:srgbClr val="000000"/>
              </a:solidFill>
              <a:latin typeface="Arial"/>
            </a:endParaRPr>
          </a:p>
        </p:txBody>
      </p:sp>
      <p:sp>
        <p:nvSpPr>
          <p:cNvPr id="593"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9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Rectangle 2"/>
          <p:cNvSpPr/>
          <p:nvPr/>
        </p:nvSpPr>
        <p:spPr>
          <a:xfrm>
            <a:off x="2971800" y="1676520"/>
            <a:ext cx="32655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3</a:t>
            </a:r>
            <a:endParaRPr b="0" lang="en-US" sz="3600" spc="-1" strike="noStrike">
              <a:solidFill>
                <a:srgbClr val="000000"/>
              </a:solidFill>
              <a:latin typeface="Tahoma"/>
            </a:endParaRPr>
          </a:p>
        </p:txBody>
      </p:sp>
      <p:sp>
        <p:nvSpPr>
          <p:cNvPr id="539" name="Rectangle 3"/>
          <p:cNvSpPr/>
          <p:nvPr/>
        </p:nvSpPr>
        <p:spPr>
          <a:xfrm>
            <a:off x="1295280" y="28954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pulation and Urbanization: Living on Spaceship Earth</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s of Migration and Mob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tional migration: movement from one country to another</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luenced by political unrest, war, famine, natural disasters, economic conditions and opportunit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been tightly controlled in Western countries, but immigration is still comm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bed by restrictive immigration laws in receiving countries and by economic recess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ugees: those who flee in search of refuge from war, political oppression, or religious persecution </a:t>
            </a:r>
            <a:endParaRPr b="0" lang="en-US" sz="2200" spc="-1" strike="noStrike">
              <a:solidFill>
                <a:srgbClr val="000000"/>
              </a:solidFill>
              <a:latin typeface="Arial"/>
            </a:endParaRPr>
          </a:p>
        </p:txBody>
      </p:sp>
      <p:sp>
        <p:nvSpPr>
          <p:cNvPr id="596"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97"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boom and baby bus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the population influenc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b prospect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irement secu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er decis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iance rates</a:t>
            </a:r>
            <a:endParaRPr b="0" lang="en-US" sz="2200" spc="-1" strike="noStrike">
              <a:solidFill>
                <a:srgbClr val="000000"/>
              </a:solidFill>
              <a:latin typeface="Arial"/>
            </a:endParaRPr>
          </a:p>
        </p:txBody>
      </p:sp>
      <p:sp>
        <p:nvSpPr>
          <p:cNvPr id="599"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0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cro-level population patter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rbanization Proc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move from rural to urban locations, where they hold mostly nonrural occup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undergo a change in lifestyle in the c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ization accompan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rnization: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formation from traditional societies to bureaucratized stat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ustrialization: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formation from agricultural and handmade goods to manufacturing industries</a:t>
            </a:r>
            <a:endParaRPr b="0" lang="en-US" sz="2200" spc="-1" strike="noStrike">
              <a:solidFill>
                <a:srgbClr val="000000"/>
              </a:solidFill>
              <a:latin typeface="Arial"/>
            </a:endParaRPr>
          </a:p>
        </p:txBody>
      </p:sp>
      <p:sp>
        <p:nvSpPr>
          <p:cNvPr id="602"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03"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rbaniz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ties are locations that provide residents wit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lace to liv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ense of identity and belong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ighbors and frien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ivities and social involvement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to basic necessities such as food, jobs, schools, and health care</a:t>
            </a:r>
            <a:endParaRPr b="0" lang="en-US" sz="2200" spc="-1" strike="noStrike">
              <a:solidFill>
                <a:srgbClr val="000000"/>
              </a:solidFill>
              <a:latin typeface="Arial"/>
            </a:endParaRPr>
          </a:p>
        </p:txBody>
      </p:sp>
      <p:sp>
        <p:nvSpPr>
          <p:cNvPr id="605"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06"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rbaniz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
          <p:cNvSpPr txBox="1"/>
          <p:nvPr/>
        </p:nvSpPr>
        <p:spPr>
          <a:xfrm>
            <a:off x="762120" y="162396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o-level organizational structur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of urban development:</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icago School theory: </a:t>
            </a:r>
            <a:endParaRPr b="0" lang="en-US" sz="2000" spc="-1" strike="noStrike">
              <a:solidFill>
                <a:srgbClr val="000000"/>
              </a:solidFill>
              <a:latin typeface="Arial"/>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es grow in a series of circles, moving out from the center; each circle is dominated by a particular type of activity and residential pattern</a:t>
            </a:r>
            <a:endParaRPr b="0" lang="en-US" sz="2000" spc="-1" strike="noStrike">
              <a:solidFill>
                <a:srgbClr val="000000"/>
              </a:solidFill>
              <a:latin typeface="Arial"/>
            </a:endParaRPr>
          </a:p>
          <a:p>
            <a:pPr lvl="3" marL="151992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es that constantly occur in cities: residential segregation; invasion by a new ethnic, religious, or socioeconomic group; succession by that group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 theories: </a:t>
            </a:r>
            <a:endParaRPr b="0" lang="en-US" sz="2000" spc="-1" strike="noStrike">
              <a:solidFill>
                <a:srgbClr val="000000"/>
              </a:solidFill>
              <a:latin typeface="Arial"/>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space is socially defined and scarce, causing conflict over its allocation; cities are dominated by elites who create poverty and exploitation of the poor; urbanization and modernization are a cause of poverty</a:t>
            </a:r>
            <a:endParaRPr b="0" lang="en-US" sz="2000" spc="-1" strike="noStrike">
              <a:solidFill>
                <a:srgbClr val="000000"/>
              </a:solidFill>
              <a:latin typeface="Arial"/>
            </a:endParaRPr>
          </a:p>
        </p:txBody>
      </p:sp>
      <p:sp>
        <p:nvSpPr>
          <p:cNvPr id="608"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09"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id cities evol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cro-level perspectiv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ral migrants and overcrowding (shantytown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ment, infrastructure, and urban ecosystem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verty in the world’s cit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anent underclass: </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lobal poor who lack education and skills to join local and world econom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minization of poverty: </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 of women and their children in the ranks of the impoverishe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ime and delinquency in the city</a:t>
            </a:r>
            <a:endParaRPr b="0" lang="en-US" sz="2200" spc="-1" strike="noStrike">
              <a:solidFill>
                <a:srgbClr val="000000"/>
              </a:solidFill>
              <a:latin typeface="Arial"/>
            </a:endParaRPr>
          </a:p>
        </p:txBody>
      </p:sp>
      <p:sp>
        <p:nvSpPr>
          <p:cNvPr id="611"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1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rban problems, environment, and poli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
          <p:cNvSpPr txBox="1"/>
          <p:nvPr/>
        </p:nvSpPr>
        <p:spPr>
          <a:xfrm>
            <a:off x="762120" y="1623960"/>
            <a:ext cx="8229600" cy="452592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 Planners and Social Policy: Global Trends</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ization will continu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and transport technology will increase contact and reduce commitment to specific areas</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tional boundaries will diminish in importanc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onomies will rely on brain, not brawn, which will continue to increase inequality</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licts between cultural and political groups will continue to affect urban lif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cDonaldization, or creation of consumer worlds dominated by Western food, music, fashion, and entertainment, will continue</a:t>
            </a:r>
            <a:endParaRPr b="0" lang="en-US" sz="2200" spc="-1" strike="noStrike">
              <a:solidFill>
                <a:srgbClr val="000000"/>
              </a:solidFill>
              <a:latin typeface="Arial"/>
            </a:endParaRPr>
          </a:p>
        </p:txBody>
      </p:sp>
      <p:sp>
        <p:nvSpPr>
          <p:cNvPr id="61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15"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rban problems, environment, and poli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
          <p:cNvSpPr txBox="1"/>
          <p:nvPr/>
        </p:nvSpPr>
        <p:spPr>
          <a:xfrm>
            <a:off x="762120" y="16239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graph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y of human populations, including their size, geographic location, movement, concentration, and changing characteristic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refer to any society, group, or category of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ow replacement level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decrease since there are fewer births than death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momentum: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increase due to large numbers of birth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iz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ment of people to cities</a:t>
            </a:r>
            <a:endParaRPr b="0" lang="en-US" sz="2000" spc="-1" strike="noStrike">
              <a:solidFill>
                <a:srgbClr val="000000"/>
              </a:solidFill>
              <a:latin typeface="Arial"/>
            </a:endParaRPr>
          </a:p>
        </p:txBody>
      </p:sp>
      <p:sp>
        <p:nvSpPr>
          <p:cNvPr id="541"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4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ory ter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cro-level growth has resulted fro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man thinking ability, which allowed successful competition for survival of the speci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gricultural revolution led to food surplus and longer lifespan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dustrial revolution led to improved health and sanitation measures, bringing the death rate down</a:t>
            </a:r>
            <a:endParaRPr b="0" lang="en-US" sz="2200" spc="-1" strike="noStrike">
              <a:solidFill>
                <a:srgbClr val="000000"/>
              </a:solidFill>
              <a:latin typeface="Arial"/>
            </a:endParaRPr>
          </a:p>
        </p:txBody>
      </p:sp>
      <p:sp>
        <p:nvSpPr>
          <p:cNvPr id="54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45"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ld population grow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dictors of population growth:</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endency ratio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e how many people contribute to the labor force and how many depend on other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th dependency ratio</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d dependency ratio</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x ratio: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es the number of women eligible to give birth and the number of potential spous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tion pyramid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isual depiction of sex and dependency ratios</a:t>
            </a:r>
            <a:endParaRPr b="0" lang="en-US" sz="2200" spc="-1" strike="noStrike">
              <a:solidFill>
                <a:srgbClr val="000000"/>
              </a:solidFill>
              <a:latin typeface="Arial"/>
            </a:endParaRPr>
          </a:p>
        </p:txBody>
      </p:sp>
      <p:sp>
        <p:nvSpPr>
          <p:cNvPr id="547"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48"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ld population grow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thus’s theory of popul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mans are driven to reproduce; if no checks are imposed, the population will increase exponentially, resulting in food shortag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sible checks on population growth: war, disease, food shortage or famin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thus also suggested delaying marriage and practicing abstinence until one could afford a family (contraception was not yet viable)</a:t>
            </a:r>
            <a:endParaRPr b="0" lang="en-US" sz="2200" spc="-1" strike="noStrike">
              <a:solidFill>
                <a:srgbClr val="000000"/>
              </a:solidFill>
              <a:latin typeface="Arial"/>
            </a:endParaRPr>
          </a:p>
        </p:txBody>
      </p:sp>
      <p:sp>
        <p:nvSpPr>
          <p:cNvPr id="55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51"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thus’s theory of popul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itiques of Malthu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not anticipate role of capitalism in population dynamics, for example, encouraging excessive consump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not anticipate increased productivity of modern agricultural techniqu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w abstinence as main way to prevent births; did not recognize the potential for contracep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verty does not result inevitably from population growth</a:t>
            </a:r>
            <a:endParaRPr b="0" lang="en-US" sz="2200" spc="-1" strike="noStrike">
              <a:solidFill>
                <a:srgbClr val="000000"/>
              </a:solidFill>
              <a:latin typeface="Arial"/>
            </a:endParaRPr>
          </a:p>
        </p:txBody>
      </p:sp>
      <p:sp>
        <p:nvSpPr>
          <p:cNvPr id="553"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5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thus’s Theory of Popul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o-Malthusia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pt much of the theory, but with some modific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gnize that individuals’ personal goals are not always consistent with the social goal of managing population growt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vor contraception over “moral restrai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gnize that much environmental damage is caused by corporate pollution and excessive consumption, not population growth per se</a:t>
            </a:r>
            <a:endParaRPr b="0" lang="en-US" sz="2200" spc="-1" strike="noStrike">
              <a:solidFill>
                <a:srgbClr val="000000"/>
              </a:solidFill>
              <a:latin typeface="Arial"/>
            </a:endParaRPr>
          </a:p>
        </p:txBody>
      </p:sp>
      <p:sp>
        <p:nvSpPr>
          <p:cNvPr id="556"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57"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graphic Transition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empts to explain why economic and social changes alter the population siz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ies three stages of developm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ge 1: High birth and death rates balance out over time; the pattern for much of human histor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ge 2: High birth rates remain but deaths decline due to advances in health, sanitation, food suppl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ge 3: Low birth and death rates, low population growth; the pattern in most industrial and post-industrial societies</a:t>
            </a:r>
            <a:endParaRPr b="0" lang="en-US" sz="2200" spc="-1" strike="noStrike">
              <a:solidFill>
                <a:srgbClr val="000000"/>
              </a:solidFill>
              <a:latin typeface="Arial"/>
            </a:endParaRPr>
          </a:p>
        </p:txBody>
      </p:sp>
      <p:sp>
        <p:nvSpPr>
          <p:cNvPr id="559"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6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00:53:57Z</dcterms:created>
  <dc:creator>Deborah J Barr</dc:creator>
  <dc:description/>
  <dc:language>en-US</dc:language>
  <cp:lastModifiedBy>Stephanie Palermini</cp:lastModifiedBy>
  <dcterms:modified xsi:type="dcterms:W3CDTF">2017-07-03T19:14:39Z</dcterms:modified>
  <cp:revision>67</cp:revision>
  <dc:subject/>
  <dc:title>Chapter 15:  Population and Urbanization</dc:title>
</cp:coreProperties>
</file>