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</p:sldIdLst>
  <p:sldSz cx="9144000" cy="6858000"/>
  <p:notesSz cx="90789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90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7"/>
          </p:nvPr>
        </p:nvSpPr>
        <p:spPr>
          <a:xfrm>
            <a:off x="5143320" y="-360"/>
            <a:ext cx="39351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282528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907560" y="3257640"/>
            <a:ext cx="726444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8"/>
          </p:nvPr>
        </p:nvSpPr>
        <p:spPr>
          <a:xfrm>
            <a:off x="0" y="651312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9"/>
          </p:nvPr>
        </p:nvSpPr>
        <p:spPr>
          <a:xfrm>
            <a:off x="5143320" y="6513120"/>
            <a:ext cx="39351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D5B3-14E9-4F25-B0B4-AEFF17EE6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07560" y="3257640"/>
            <a:ext cx="72644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5143680" y="6513480"/>
            <a:ext cx="3935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BABE-BF12-420D-A3D1-3F69A342AD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422-8335-4A84-8899-142EC217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2BF-7F78-4666-A705-1D7A004A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B35-B61A-4D11-95F0-8CB8B526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6363-E872-44F1-AA55-70C7BCC4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90E-3592-4369-AE63-026F3779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5466A-D865-4C88-B3E1-5534C55EFD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9D7B7-4AE1-4F5E-A29B-D8EE752B51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05E75-E11B-4CE4-8FA8-A4DDF9481A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C905E-F127-4454-91AA-3DA57940E6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2BA1B-E575-4285-9482-1C2766D2A1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BC9-E874-4B7C-8941-5FE4479B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AFD08-31EA-4ECE-A9C2-13FD3E08D1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EB475-C806-4B8F-BF3D-AE435D63E7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C252F-82C0-45F7-A841-E371A76DB7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A7D00-EF54-4BF7-924C-67EBBBE81D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A7817-251E-479C-944E-8A11DFB885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96116-B1B4-4118-B268-5F9705037A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80C71-2BCE-41D5-BCE1-2CBCBCECFF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C1D7-FB00-4522-97CC-6DF71A36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4CF-5F2A-45BA-AE85-2BE0ACA7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7337-76E3-4C66-8B81-AA8315E2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3C04-F7AD-4D69-9613-B64B8EFB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D0B-5A15-41DA-9713-ADFD7EFD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F2B-FBCC-4079-8358-62DABB38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E83A-4DCF-43A2-87BE-DFC3CB02D3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3BCC-CD4F-492D-A0C4-8F89E5B21C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perspectiv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ism and Pluralis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ists believe that citizens legitimize political systems because they serve important functions in socie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uralist theo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is distributed among various interest groups so that no one group r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s involves negotiation and compromi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ing multiple power centers offers the best chance to maintain democratic forms of govern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power and privi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perspectiv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 and the Power El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ists believe that the state protects the privileged position of the fe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elite theo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le of society by a small group of elites is inevitab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hels’ “iron law of oligarchy”: leaders’ influence over who succeeds them allows ongoing elite power and abuse of pow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 Wright Mills described the US power elite as cohesive and interlocking, enabling it to make key political, economic, and social decis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power and privi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systems influence our personal lives in a variety of way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also impact government through political participation, such as vo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 political participation is affect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people fall in the stratification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ir perceptions of their power in relation to the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s, power, and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838080" y="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cipation in Democratic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ology and political attitudes affect how people think about power and particip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o we believe about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wer of individuals vs. state pow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qual distribution of resources versus allowing those with high ability or inherited status to receive more wealth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ther change is desirab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s, power, and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cipation in Democratic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s of participation in politic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jority of people in the world are uninvolved in the political proce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opportunity in nondemocrat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mocratic countries, apathy and alie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cipation can include voting, contact with government representatives, involvement in local and national campaigns and issu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 voter turnout is low compared with other democratic n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s, power, and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political institution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or provincial governments, national political parties, large formal organiz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political institutions influence and are influenced by other institutions such as the family, education, religion, health care, and the economy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poses of Political and Economic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 functions of meso-level political and economic institu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maintain social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serve as an arbiter in disp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protect members of the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represent the group in relations with other grou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plan for the future of the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provide for the needs of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Systems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and Privile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institution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and exercise power relations in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 institution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al with production and distribution of goods and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and economic institutions are interrela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sets of institutions affect power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ant Types of Politic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horitarian system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mes headed by dictators or military juntas who hold absolute power, with little room for citizen invol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itarian stat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n by a single group or party based on a specific political ideology; the state controls many aspects of life such as work and the media; dissent is discouraged or elimin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terroris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ror used by a state to control its own citizens or those of another 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ant Types of Politic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cratic system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least two political parties compete for power in elections; government is accountable to citizens, who have significant control over their own lives  Other featur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tizens participate in selecting the gover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vil liberties are guarant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itutional limits are placed on government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ten documents such as constitutions are the basis for the development of leg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3419640" y="1447920"/>
            <a:ext cx="3524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1523880" y="2971800"/>
            <a:ext cx="7315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olitics and Economics: Probing Power; Dissecting Distribution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ant Types of Politic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cratic systems, co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s of democratic govern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liamentary (e.g. Great Britai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idential (e.g. the United St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represent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ortional (e.g. many European countr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nner-take-all (e.g. the United St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ant Types of Politic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cratic systems, co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technology delivers political information at high speed, but also has downsi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careful delib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s complex issues to binary oppos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individual citiz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sationalism rather than reasoned delib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ulsive rheto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mer mentality rather than citizen ment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ounds information with wisd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o- and macro-level analy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inant Types of Economic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systems (capitalism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ss individual planning, private property, profit-making through free 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y and demand let some profit, others 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, little governmental oversight is neede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s ensure sufficient production, distribution,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s reward innovation, resulting in growth and prospe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xist critics claim capitalism creates class inequality, exploitation, conflict, and r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ically, in most Western capitalist countries, labor unions and laws have emerged instead of rev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ritics: profit trumps human dignity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o- and macro-level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ant Types of 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ed systems (socialism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-based planning and control of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is planned with communal good in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ly, each individual contributes to and receives benefits from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dious jobs are shared, so individuals have time to focus on humanistic and culturally important aspect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q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ystem has eliminated all private property and privi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ing both economic and political power in government hands gives too much control to the f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ant Types of Economic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xed economies (democratic socialism or welfare states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ve or group planning of societal develop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can pursue self-interest within lim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ustry is privately owned but regulated; public services are government control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cratic political system, public account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xation used to redistribute income and pay for education, health, pensions, etc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s: a relatively new form, can be both productive and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and the Nation-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-stat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olitical, geographical, and cultural unit with recognizable boundaries and a system of gover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tion-state and nationalism are relatively recent; they emerged in the sixteenth centu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 the entire world is divided among more than 200 nation-sta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olutions and Rebe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olu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and political transformation of a 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s when nation fails to fulfill expected responsibilities and new leadership emerges to challenge existing reg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ten vio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results in altered distributions of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so–macro political conne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/provincial governments and national political parties: less encompassing than the federal government but still influence national political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-level controversies that influence national politic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-sex marri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ding for the economic stimulus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dures for nominating and electing the presi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Interdependencies and Poli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endency and world systems theorists point out inequality between rich core countries and developing peripheral countr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wth of democracy in peripheral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ring in some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ided, but not imposed, by foreign pow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preconditions may be economic well-being, lack of extreme inequality, pluralism, strong middle class, market economy, tolerant culture, literacy, influence of world system of democratic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olence on the Glob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med conflict occurring within, between, or among societies or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times called “organized mass violenc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requent but not inevitable condition of human exist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political and economic syste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force the distribution of power in socie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systems involve power relationships between individuals and larger social institution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 systems produce goods and services and distribute them unequally, giving some citizens more privileges than oth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itics and econo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olence on the Glob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 nations go to wa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ders use moral, religious, or political ideology to legitimize war, though causes may lie elsewhe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 theorists believe underlying social problems cause system disruptions, including war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also see war as functional for social inte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ists see war as the outcome of oppression by the ruling elite and/or attempts to overthrow that oppress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businesses profit from w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 on the Glob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nations avoid w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ren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rgue that if a nation is militarily strong, no one will dare attack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evidence shows that deterrence does not reduce the chance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emely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created a “military-industrial comple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ti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discussion to reach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blem is that negotiation means a partial win—and a partial loss—for each 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olence on the Glob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 from research on twentieth-century w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nation that began a major war in the twentieth century emerged as a clear winn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 between nuclear powers could be suicid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ictor’s peace plan is seldom lasting; equitably negotiated peace settlements are more durab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 on the Glob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oris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indiscriminate violence to cause mass fear and panic, intimidate citizens, and advance a group’s political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refers to acts of violence by private, nonstate groups with revolutionary political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terrorism: government use of terror to control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orists come from all political orientations: anarchists, nationalists, religious fundamentalists, members of ethnic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 because terrorist strikes seem random, so governments have no clear way to respond as terrorists groups are hard to lo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olence on the Glob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rorism (con’t): without understanding the underlying causes, we can do little to prevent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explanations cite religious and political beliefs that encourage “we vs.  they” think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explanations help us understand when conditions are right for terrorism, for example, when conflict between societal systems is already hig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 explanations emphasize the unequal distribution of world resources and the oppression of particular grou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st common social science definition of power comes from Max Weber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is the ability of people or groups to realize their own will in group action, even against resistance of others who disagre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pow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arenas of pow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tion-state attempts to control individual behavior throug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control and coerc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control and mani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les of con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is the ability to influence interactions and organiz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xist perspective: power includes control of economic resources and production, which allows the dominant class to maintain ru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pow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is operative in social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also operates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ty, county, state, and national decisions about resources and reg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bureaucratic organizations, corporations, ethnic, or minority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systems of power include international organizations such as the United N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levels of power and privi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 and meso-level perspectiv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egitimacy of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 theoris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how symbols and constructions of reality allow some people to assume power, and how they generate loyal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socialization instills belief in the legitimacy of reigning author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power and privi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 and meso-level perspectiv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egitimacy of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 Weber’s contribu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er distinguished between legitimate and illegitimate pow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hority, or legitimate power, is recognized as rightful by those who are subject to 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egitimacy of a government’s power is measur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ther the state can govern without the use or threat of forceful coercion,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ther challenges to state authority are processed through normal channe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power and privi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 and Meso-level Perspectiv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egitimacy of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er’s contribution, co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ways leaders gain legitimate pow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itional auth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ismatic auth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-legal authority—most common to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ree are legitimate forms of power because the people being governed give their cons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power and privi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8:57:35Z</dcterms:created>
  <dc:creator>Deborah J Barr</dc:creator>
  <dc:description/>
  <dc:language>en-US</dc:language>
  <cp:lastModifiedBy>Stephanie Palermini</cp:lastModifiedBy>
  <dcterms:modified xsi:type="dcterms:W3CDTF">2017-07-03T19:11:33Z</dcterms:modified>
  <cp:revision>76</cp:revision>
  <dc:subject/>
  <dc:title>CHAPTER 13: Politics: Penetrating Pow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31033</vt:lpwstr>
  </property>
</Properties>
</file>