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9EE-9612-4A48-B3B0-B6DC867D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380-6F03-428C-A0EE-2514CB3A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DB7-C0F2-4406-9C6F-DA44A4C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6A7-525D-414E-A34B-6C672B5C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8A8-A999-4DBA-A1A0-1FA9C04E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6F0F8-D167-4E8E-837D-0E88387D79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19561-1027-4875-8079-C0CA5515F8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A797B-9B08-4F29-A561-7BCFD1A11F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E30E-A37C-4275-9AE1-16AAB9A5CB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36AE8-07B1-4A0E-81B6-60E90FD1D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A91-8209-4EF9-B831-54DAFC57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33AB-9365-4D7F-B83D-4A7B85A567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3032-AAA4-4C9E-B07A-EE2C170590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8D5F-EC29-4629-B9FB-905BEB3B4D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B742-C0BF-4C19-A1BD-0BEE16F667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B972-2739-414E-85F8-5AC663C14F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360B-1966-4401-ADBB-566FCF6E24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40676-F06F-4AC6-A1C7-B4354AFA76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C94-C93B-4DB6-BF5D-E9EA896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B12-9B39-4DE4-89C2-6CB2F51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356-4878-4974-96E6-B7A53AA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33D-2BDA-4183-99BE-4F8B815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43A-B7F8-460E-910F-7527726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30B-D7EB-42ED-92BC-2416C86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714-7722-4368-B55C-6387AB713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A4B-7CF3-435E-9CF5-03B005599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a key factor affecting health and illn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al control of women carries over into health care systems, reinforcing dependence and submi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North women are profitable for health care systems: they have more and more expensive proced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women’s bodies and “normal” biological experiences are key to patriarchy, as they have been used to “prove” women’s inferior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4B30-A073-4764-9A18-41858564DC6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onstitutes illness rests on socially defined symptoms and circumstances, not universally recognized bodily mal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sons’ “sick role”: rights and obligations of those who are accepted as legitimately i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to be excused from responsibilities until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not to be faulted for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define illness as undesirable and not to prolo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seek competent help in getting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8CF-0ADE-46F6-9D63-2A30488577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belief systems and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treating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mental illness vary across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 is universal, but the way it is perceived, explained, and reacted to is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26EE-29EF-409E-94D5-BCFB2E500D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edictors of individual health and illn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: older people need more medical inter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Western women report and are treated for more health problems than men; men use more emergenc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ic group: ethnicity affects socialization into health care behaviors and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: wealthier individuals are more likely to seek medical help for illnesses early on, in part because they can afford it; lower-income people seek help later, in response to cri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06B-3581-4667-8F40-E975ABC4169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rograms based on the philosophy of health care as a human rig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ed medicine: government-supported consumer service with equal access to all citizens; the government owns most facilities and pays providers directly (e g , Canada,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ational health programs: government regulates but does not operate the health care system (e g , France, German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1CF-9E5D-46CE-8519-86BA270EB71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the United St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-for-service: doctors and hospitals are paid for each service they perform, perform the services they deem necessary, and decide the price of services; financed by public and privat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poor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patterned on former colon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bine Western and indigenous medic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ggle to provide basic health needs, sometimes aided by global health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1C4-266B-4541-B3D5-F97259B8353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Complex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: places for the care and treatment of the sick and injured, and for provision of centralized medical knowledge an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in response to urbanization and industrialization, which led to new health problems requiring systematized, ration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d from places to die to places for hea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highly bureaucrat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control by physicians and administrators is giving way to corporate, profit-oriented control in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668-1E1C-494E-B012-C894269D906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large, bureaucratic organiz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s of labor are extensive and specializ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systems are based on prestige and power, with physicians historically at the to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oordinate many highly skilled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8954-1882-42D7-81D2-EABED06813C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confronting physicia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 they are highly respected today, physicians’ authority is relatively rec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challenges to physician autho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tion fo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e in publ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spe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ofessionalization: increasing control over physicians’ work by nonprofessional, outside fo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EB9-847C-48C7-AFE1-0A4E4B1E3EF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4952880" y="411480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outpatient c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demands from insurance compan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and worst 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practitio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medical research and therapies and in public health programs, for example, to increase motor vehicle safety and reduce tobacc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133720" y="1371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33720" y="28195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alth Care: An Anatomy of Health and Ill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health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distribution of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family physic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costs and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st per-capita costs, which continue to g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d care: an attempt to combine efficiency an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 are shifting more health care costs onto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B62-9431-4301-8053-3E328476B89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4 adults lacked health care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5 did not receive the needed health-related services because they could not afford to visit a do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7DE-41AA-47DB-B52F-CE127D9E17E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 S 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ordable Care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ho do not have a group plan or are low income can acquire health insurance through ex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te of those who don’t have insurance has been declining due to this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ithout insurance must pay a fine and pay for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A53-ACB9-4D2E-8B6F-84F1A733E2B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issues and social r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health care a right that can’t be bought and sold, or a commodity to be purchased on the market, so competition can increase quality and reduce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proposals for reforming the U S ’s market-based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 the partly public, partly priv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in reforms one at a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 a comprehensive reform package to provide national health insurance and government overs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DA06-63FF-4B1A-BAAC-F31FB3F65A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halle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be done about the uninsured popul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costs be controlled in a managed care syst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the physician-patient relationship shift under new structures of health c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E075-5307-4949-BBFB-8A097A74C3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variation in health care pract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’s health care system is shaped by its demographic makeup, value system, and finan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s of Global North countries, which have more elderly people, are different from those of Global South countries, with mor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ountries have far more doctors tha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na: medicine in a Communis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702-7729-4527-9B28-9BE8524672D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f medic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ale of body parts on the bla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measures of national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mor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vary in primary causes of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nd modern medic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13F-0BA5-481E-946D-4E36710524D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nsity and mobility of the world’s population affects human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lobal travel can cause disease to 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land affects the number of rodents and insects, sanitation, contact between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oor circulated air can spread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terests have an impac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ies such as pharmaceutical firms may halt public health efforts that threaten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bacco companies market their products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284-C917-4137-988F-D8E07AB67E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Intervention at the End of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futil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fails to end total dependence on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euthanas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ing dying individuals by prescribing or administering a lethal dose of drugs, only given to patients who request it, usually under legally controll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8007-B205-4B5B-B458-49D16B95AB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s administer the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few people have chosen the Death with Dignity Acts to arrange their own de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dying differs by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 system is affected by aging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B05D-8393-4C04-9D41-A8E663BE2A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with dignity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: a state of physical, mental, and social well-being or the absence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: the lack of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illness, and health care affect how individuals and groups carry out their lives at the micro, meso, and macro lev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icro level, health impacts our ability to carry out our responsi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eso level, health care institutions affect and are affected by other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acro level, health care practices and beliefs about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health issues include pandemics, bio-terrorism, distribution of immunizations and drug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demic: a disease that is prevalent throughout an entire country and potentially around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C60-4A51-4FB5-8AB9-0A32591B368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and Labeling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whatever the powerful (e g , doctors) define and label it 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ization: a shift to handling normal or deviant human issues in the health care system rather than family, legal, or religious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s our interpretation of the problem, who treats it and how, whether we hold individuals to bl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a shift from individual to expert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sues have been de-medic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3C29-A402-47CB-BF8E-50F3834F37E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illness are linked to shifts in macro-level social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define what counts as illness and how to trea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alth care system helps maintain the social structure and balance between individuals and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not functional for society: the “sick role” is seen as deviant since it robs society of normal role functi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FAE-2D81-4786-9F9A-6232E37AB1D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ed by people’s economic and social positions and by global inequality among rich and poor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n variation in the illnesses people s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rofit motives in shaping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tors’ exercise of social control and differential treatment of patients based on soci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00E-1D18-46D7-B30C-31B9A71D7E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06:05Z</dcterms:created>
  <dc:creator>Deborah J Barr</dc:creator>
  <dc:description/>
  <dc:language>en-US</dc:language>
  <cp:lastModifiedBy>Stephanie Palermini</cp:lastModifiedBy>
  <dcterms:modified xsi:type="dcterms:W3CDTF">2017-07-03T19:07:02Z</dcterms:modified>
  <cp:revision>88</cp:revision>
  <dc:subject/>
  <dc:title>Chapter 14: Medicine</dc:title>
</cp:coreProperties>
</file>