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1749-BB49-43A6-8AAA-95A61DCE3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2212-B511-4DAC-9F98-5DAF12401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BF86-5881-4187-A0D2-3C00B84A21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5C8-502B-481C-82F6-3510CB72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758-6661-40DF-9A50-A908A450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4F4-A636-462C-82C4-486C26AC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C37-DAB8-4617-8A7C-1EC77D6D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806-9B24-4D3E-966D-5E6A3983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8D3A7-1676-4AEE-96F2-7B9D12B1C8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5682A-74E5-4D8B-82BC-FDC6AD4465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43731-5EFC-459A-9845-1F79756E52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937E4-88A1-4F5D-8C60-3DE5A47C76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1A904-E45D-44A8-8B83-5AAAEB2C99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5B9-6445-4F52-B9A6-9B148D33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FFD97-5FC6-48F6-B5AC-6C3F1A82AF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4299F-BBB3-42F2-9BE3-82BB068BEB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77844-EEFE-4AFF-B8F1-ED1CE1249C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4BFB8-464F-4436-97D4-2C0874C959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7D825-F784-4DCA-9418-EE4FBA6B44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853E3-2108-4BAC-BBB1-D464857670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5AA98-4386-4BFE-99F0-B75C1F7EB7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462-59C9-421E-AC1D-FCEE86F9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513-BFE1-46D4-8998-805DE337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D5A-3441-4E02-8338-DEA5D42B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E09-CE5A-4DE1-B33E-4E8B930C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B78-7280-4BA5-B1F8-E62F78B2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CBE-A5D7-4E11-9518-2F225F6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9DB7-A122-401E-A188-E416ABCF2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8E01-F4E4-49AD-B4C3-9DBA9A6DF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1"/>
          <p:cNvSpPr/>
          <p:nvPr/>
        </p:nvSpPr>
        <p:spPr>
          <a:xfrm>
            <a:off x="746280" y="1392120"/>
            <a:ext cx="559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Second Shift”: Who does the chor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2F3-DB74-48A0-9B7D-68146232056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"/>
          <p:cNvPicPr/>
          <p:nvPr/>
        </p:nvPicPr>
        <p:blipFill>
          <a:blip r:embed="rId1"/>
          <a:stretch/>
        </p:blipFill>
        <p:spPr>
          <a:xfrm>
            <a:off x="1033560" y="2021040"/>
            <a:ext cx="700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ucture of the Family Institution–Families are ch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marri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ct mon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al mon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and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fami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ed famil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clea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E7DD-839A-4E9E-890D-B5366883726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conomic Institution and the Fam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mily is the primary economic unit of consum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and fami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% of US families live below the poverty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mothers are often in poverty due t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roles as workers and m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ings are less than men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egular receipt of child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representation in policy-making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of poverty”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670B-461C-449B-B225-46E86783353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"/>
          <p:cNvPicPr/>
          <p:nvPr/>
        </p:nvPicPr>
        <p:blipFill>
          <a:blip r:embed="rId1"/>
          <a:stretch/>
        </p:blipFill>
        <p:spPr>
          <a:xfrm>
            <a:off x="990720" y="1630440"/>
            <a:ext cx="7010280" cy="2004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5867280" cy="2617920"/>
          </a:xfrm>
          <a:prstGeom prst="rect">
            <a:avLst/>
          </a:prstGeom>
          <a:ln w="0">
            <a:noFill/>
          </a:ln>
        </p:spPr>
      </p:pic>
      <p:sp>
        <p:nvSpPr>
          <p:cNvPr id="59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60FA-4BD7-4B4D-B888-13793DD9901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conomic Institution and th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worker famil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career marriages reduce economic strain but complicate family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A has been slow to institute family–friendly work policie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ly available chil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ing leaves for child birth and illness (Family and Medical Leave Act of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ting: working from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-time: individuals schedule their own hours within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-sharing: individuals can split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767F-8A52-4BAC-8BCB-E1CCEB8FD60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family patterns and polic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trengthen families, should the USA make it more difficult to obtain a divor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s claim “pro-family” policies will promote stability and are a precursor to healthy relationshi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s believe that limiting divorce would leave many women vulnerable in relationships to abusive 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laim “pro-family” policy might create more lasting marriages, but not necessarily healthier 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3EEE-E40A-4BA7-A306-1A92E64A237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riage, divorce, and social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-Sex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Supreme Court declared same-sex marriages legal in all 50 states on 26 Jun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USA, support for same sex marriage has rapidly incre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nents of same-sex marriage argue that marriage has been a function of the church, temple, and mosque for centu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A6BC-0271-4760-820D-32FAEAC4E75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famil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ing skills like reading, writing, and math, in a building, through systematic instruction by a trained profes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ost affluent countries and urban areas, formal schooling is necessary for survival and su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eracy is necessary for democratic governments, where informed citizenry elect officials and vote on public poli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chooling is a modern concept, which became necessary once jobs required literacy and math ski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2251-766A-4719-9BCA-F0684CF2539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the world’s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and the Peer Culture of Scho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peer cultur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able set of activities, routines, artifacts, values, and concerns that children produce and share in interaction with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er cultures create identities and lab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’ class, race, gender, and sexuality affect their school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vironment outside the school affects students’ experiences within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06AE-36D8-4B55-9067-513FC3D5D7C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es and roles in educatio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: The Front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ront line in implementing school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 as gatekeepers, controlling the flow of students, activities, resources, and 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 strain: need to judge students’ performance while also encourag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r status and reward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ats to professional autonomy and self-reg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3306-70B4-4CAC-BB06-F622CCDC02B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es and roles in educatio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743200" y="16765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371600" y="2971800"/>
            <a:ext cx="7086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 and Education: Institutionalizing Social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or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of the schoo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op of the hierarchy in local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te between individual schools and larger education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ible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dgeting, reporting, regulatory comp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ff hiring, firing, training, and negoti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 and public relations; acting as a buffer in conflicts between parents and tea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ing discip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C6F5-3E2E-48BF-BF0A-94E3C9ABC2F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es and roles in educatio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l system of school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spoken, unwritten, and implicit norms of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d and enforced by teachers and/or by student peer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the hidden curriculum, educational climate, value climate, and classroom power dynamics and coping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idden curriculu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mplicit “rules of the game” students must learn and respond to in school to be socially accepted and to succeed in the educ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4DD3-23F9-4593-B415-31F4F7C86DB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really happens inside scho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ducational climate of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eneral social environment of schools and classrooms, for example, stimulating or stif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luenced by factors such as teacher expectations, student groups, classroom layouts,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vary by students’ gender, race, ethnicity, cla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lue climate of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’ motivation, aspirations, and achie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ped by students’ home environments, parental and teacher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E1B1-3A1C-4E99-A8F3-90C5DF0B565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really happens inside scho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dynamics and coping strategies in the classroo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 try to get students to obey, cooperate, take responsibility; students try to win some control and freedom from teac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develop coping strategies, which become part of the “hidden curriculum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57B6-4CFF-4AB0-9A6D-9D30BCD3D35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really happens inside scho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reaucratic Schoo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er’s bureaucratic model applied to scho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 rules and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iz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 of bureaucratic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-effective, efficient, produ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 of bureaucratic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, rigid, alienating, lack of attention to personal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so-level: Educatio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2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E7CE-3FBB-4547-A073-DEF7C4B492C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and the social institution of fami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background is thought to be the most important influence on children’s school achie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 of parents in motivating and preparing children for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 and changing work structures affect parents’ ability to encourage and direct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3142-455E-4E53-A267-BF26797C9C8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so-level: Educational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and Racial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dle to Pipeline” (Children’s Defense F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p in educational achievement for boys is especially strong for African American, Hispanic, and low-income 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ck students are 3.5 times and Hispanic students 1.5 as likely to be suspended as white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8FC1-5A97-4F91-A03B-0CA53D24D4A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so-level: Educational organiz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urposes of Educa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alist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FB05-0668-434D-AE10-DEB87F24270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8077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and Educa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 are used by powerful and affluent groups to ensure that their self-interests are m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 do not provide equal educational opportunities for all children in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ies are manipulated to preserve privileges for the children of “haves”; children of “have-nots” are prepared for less rewarding pos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sults in the reproduction of class: socioeconomic positions are transmitted across gener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9534-D359-4ECC-A6BF-247E4C780CC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schools bring about equality in socie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 opportunit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ople have an equal chance of achieving high socioeconomic status regardless of class, ethnicity or race, or gen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s of equal educational opportunity, according to James Colem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common curriculum for all children, regardless of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for children from diverse backgrounds to attend the same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equality within a given loc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F5D4-D8DB-4537-B5D6-D6C5EEFF624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9907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, patterned, enduring sets of social structures that provide guidelines for behavior and help society meet it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e mostly at the meso level but also act to integrate micro and macro levels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the family, education, religion, politics, economics, and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interdependen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s in one can affect the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abstractions, but with real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9DCE-3F8B-4A98-B314-C0E23A38F17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is supposed to be a meritocra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itocracy: a formal system in which people are allocated to positions according to their ability and credent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itocracy is consistent with bureauc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in many cases educational meritocracy does not ex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sts maintain that education perpetuates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06C9-8CAA-4B0E-A700-08FE7407EBA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ans of placing students in school according to their achievement and merit, and of determining their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tics claim tests are biased against lower-class, immigrant, minority, and/or female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tests reveal educational inequalities betwee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195-764C-447A-881C-B4FB186A943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5" descr=""/>
          <p:cNvPicPr/>
          <p:nvPr/>
        </p:nvPicPr>
        <p:blipFill>
          <a:blip r:embed="rId1"/>
          <a:stretch/>
        </p:blipFill>
        <p:spPr>
          <a:xfrm>
            <a:off x="1241280" y="1417680"/>
            <a:ext cx="7239240" cy="48769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s of inequality: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7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8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4769-6C48-49B9-8E0B-22EF29999A8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or stream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ing students in ability groups so educators can better address individual learning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suggests that track placement is not always a measure of a student’s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s correlate with ethnicity, language skills, appearance, and other socioeconomic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can reinforce preexisting inequ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research suggests that children learn more when working in groups based on achievement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962C-396C-4A0F-B590-F4CE82BE040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at the macro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USA, unequal school spending results from reliance on local property taxes as well as state and federal f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ing is closely related to the race and class composition of the schools, and to student achievement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ing differences perpetuate existing inequ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90F1-8CC3-4EF4-8373-BF6BA8E188F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at the macro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Census Bureau defini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roup of two or more people (one of whom is the householder) related by birth, marriage, or adoption and residing together . . . [and] related subfamily membe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sociological defini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who share economic property, sexual access among the adults, and a sense of commitment among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religious groups define family as a mother, father, and their children; others include several spouses and even parents and siblings living under one roo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6EC-8C07-4B88-90ED-CDDB1F7078D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fami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as the most basic social institu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n the family that most people learn the norms of the larger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spend most of our lives in famil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life events take place within the fami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es fulfill a number of social functions that other institutions cannot prov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of orientation, in which we are born and ra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of procreation, in which we hav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0CF-1B40-4C0A-8A39-F68942018FF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fami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y focuses on women to spotlight them as active agents and to uncover biases in male assump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icro-level branch examines women’s interactions and constructions of real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conflict theory argues that patriarchal families are a chief source of women’s oppr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’s equality can be enhanced with changes to the patriarchal family, women’s education and employment, and child care avail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98DD-F0A6-4576-9F79-97D29D0B305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 on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proce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eties of mate sel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est tab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ranged marri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-choice marri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 l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trend toward the Western model is changing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F822-43FE-400C-A1BF-A34056D429F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 selec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-Stage Courtship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mulu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meet someone to whom we are attra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omparis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find the person compatible if they affirm our own beliefs and val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s and need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uple explores the roles of companion, parent, housekeeper, and lover to find common needs, interests, an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4375-D47D-4FD6-9623-22D2DFD5BF7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0492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ty Relations in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 decision-making and work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 dom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arch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 dom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itarianis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sh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ouse with greater resources has greate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6662-9A73-4809-8219-D915080BA90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4:17:48Z</dcterms:created>
  <dc:creator>Deborah J Barr</dc:creator>
  <dc:description/>
  <dc:language>en-US</dc:language>
  <cp:lastModifiedBy>Stephanie Palermini</cp:lastModifiedBy>
  <dcterms:modified xsi:type="dcterms:W3CDTF">2017-07-03T19:05:04Z</dcterms:modified>
  <cp:revision>78</cp:revision>
  <dc:subject/>
  <dc:title>Chapter 10: Family:</dc:title>
</cp:coreProperties>
</file>