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142A-E6C7-4B98-BF04-A9917B51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30A8-0932-49C6-AB5D-4179D99380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190-8A9A-444A-92C5-6235BEC2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248-3328-41A0-B93C-6820605E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A49-7F69-4A1E-B9F9-89E65C9A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12F-06CC-4CC9-8578-16740886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5C3-D13C-42B4-B6E3-C3B0B0CA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0B396-F07B-491A-99F3-C10284B203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38551-71D6-41A6-9FFA-39624D464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C50B1-8401-441E-B449-DF85E8DAD6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EFC67-EEF1-456A-8D1F-EF68F47546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23065-A327-430B-9FBC-0639FA363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B6F-051C-4600-81FC-D45DF5D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40368-B618-4287-BB5A-EA7F81565E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03053-D558-451F-8D04-B8D2E7186A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F9CC5-E809-428B-BC76-97AEE6C53E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6DCC4-4260-4D63-B49A-9D63439365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0C541-9A70-47F6-8E2C-501597D5A1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2453B-56DA-4560-865C-7E04AB3F27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F45BB-DC49-43FA-BA32-A613EDEA3E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241-4E12-4FE2-B0A5-06723AA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0A8-79BD-4298-B656-E193061A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013-E4B0-499E-A0D2-C3BF1B6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28B-CEBE-422C-B27F-E16B331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8F7-218A-4286-AB77-D7418A9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EBF-0E3A-4A09-8B77-8D8FB6D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1FD-27D5-4AB0-B7F4-FC65C7E1D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39E-9211-4362-98C0-97FCACF9C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–Meso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der socialization: process by which people learn the cultural norms, attitudes, and behaviors appropriate to their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gender behavior is reinforced and improper behavior is punished through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n gender soci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nfancy &amp; childhood, parents/family play major role (N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meso-level agents are impor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media (Electronic games, tele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E14D-2090-44B7-99C5-B8FA343577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–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cei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keep women from reaching the highest levels of corporate and public 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cky flo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keep the majority of the world’s women stuck in low-paid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escalat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push men up the organizational hierarchy even if they do not seek to climb it, especially in female-dominated occup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kplace itself is gen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E38-91F5-4023-858B-30FC4F29CBF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ed Organizations an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s have a gender configuration: the ratio of men to women affects work experien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do not earn as much as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orkplaces are supportive of workers’ family responsibilities; others ar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mpacts women more than men; according to dominant gender expectations women must balance work and family needs, while men are seen primarily as 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A8E-A326-45D6-8633-033CD88D59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Gender Discri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 discrimination: woven into the social structure and taken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jure discrimination: deliberate discrimination, often justified by beliefs about women’s inability to carry out certain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facto discrimination: unequal treatment that is unint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de effect discrimination: rests on links between practices in different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t-in-present discrimination: practices from the past that may no longer be allowed still affect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B8D-462F-471F-9DD7-F1D8B61734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, biological sex differences act as symbols that differentiate rights and re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s socially constructed; it is not intrinsically related to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hasizes human agency, or ability to influence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do not just passively adopt gender roles; we actively “do” gender in everyday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5FF-EABE-427C-96E1-DEBC596757F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ex has a role to play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ocieties change, so do roles &amp;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: from mechanical to organic solid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from similar to differentiated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but complementary ro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ve (private sphere) – fe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mental (public sphere) – 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1667-F13A-4899-93A3-35D35C9E30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s males as “haves” (power, wealth), women as “have no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keeping women in subordinate roles, men protect their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 dominance justified by traditional ide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 will not voluntarily give up their privileged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D89-F091-4709-B5DD-F8598247C8F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to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w men dominate all others, including women, children, less powerful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 is primary cause of women’s op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, race, and gender intersect in a way that privileges some women over others, though most women are still subordinate to most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pite intersections, women are a “minority group” subject to stereotypes, prejudice, discrimin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m actively advocates change to the social order to eliminate patri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0792-23E1-47B6-B24F-DD9D05DCC0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to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, Homosexuality, &amp; Minority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 exhibits a broad range of combinations; societal expectations impose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ment of homosexuality often determined by the government and dominant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y men and lesbians are often minority groups subject to prejudice and discri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phobia: intense fear and hatred of homosexuality and homosex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erosexism: social reinforcement of heterosexuality, marginalization of those who don’t conform (rural ar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ADAF-6F93-40CB-B68C-90CCA294B43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ical &amp; Social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gender stereotypes are cons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women: superwoman image and beauty image can lead to depression and health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en: image of “perfect” male body &amp; unemotional male role can lead to guilt, anxiety, and neur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E66-2FD1-4BA4-B7DA-071A2E9F1E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s &amp; consequenc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743200" y="18288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219320" y="2895480"/>
            <a:ext cx="6705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der Stratification: She/He—Who Goes Firs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to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al Costs and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has consequences for all social instit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educational achievement of femal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talents, resources of half of th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health care impacts women and their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divisiveness can lead to alienation, hos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ccupations and profession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 “take gender privilege with them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take disprivilege, which lowers their positions and w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C461-FAB5-4354-8D84-F5FFFB4E1E8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s &amp; consequenc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s used by other groups may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violent protests, sit-down strikes, and walko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tual suppor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internet to carry the message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ycot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on traditions of community &amp; church activ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y of ending women’s subjugation: many women agree on the goal, but not the means of achievi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1CE-35FB-402E-ADA1-66E2740497B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ing gender stratification &amp; social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and identities are not biological, but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vary widely; each society has its own way of assigning tasks in order to meet it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may change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C37B-2B4E-4763-907C-C49C0AB5649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and/or anatomical differences between men and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ocieties divide roles based on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societies insist on assigning a sex to all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sexed: persons with ambiguous genitalia, such that sex is difficult to as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eronormativity: expected attraction to members of the other sex; taken for granted norm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DED7-00EE-40FA-BA99-8F4A248ED3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ly constructed notions of masculinity and femini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dent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individuals form their identity using gender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ly assigned tasks or expected behaviors linked to an individual’s sex-determined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gend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dentity of someone who is challenging or changing the gender they were assigned at bi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2511-C633-499E-971E-28C23BE6F73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ulture shapes the meanings of our experiences with our own bodies and our bodies in relation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 sex and gender, sexuality is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438C-042A-4C94-8246-87DBDB03B2E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socialization, we learn the gender roles assigned to our sex and established by our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expectations are inculcated by many agents of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comply often results in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icr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: the roles we play in institutions differ by sex, as well as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stitutions segregate people by sex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stitutions allow leadership roles to be held only by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rites of passage, or rituals which mark changes in status, often differ by sex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’s reduced power in micro-level settings is often related to lack of power in meso-level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AB0-E776-4FA6-A3B7-85990237BF1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es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privilege &amp; disprivileg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terns of action embedded in a social system which provide unrecognized advantages and disadvant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e to sex inequality at the global/national level that is independent of personal preju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CCE-55FB-430A-B71A-A11B383381B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acr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18:01Z</dcterms:created>
  <dc:creator>Deborah J Barr</dc:creator>
  <dc:description/>
  <dc:language>en-US</dc:language>
  <cp:lastModifiedBy>Stephanie Palermini</cp:lastModifiedBy>
  <dcterms:modified xsi:type="dcterms:W3CDTF">2017-07-03T18:57:39Z</dcterms:modified>
  <cp:revision>61</cp:revision>
  <dc:subject/>
  <dc:title>Chapter 9: Gender Stratification</dc:title>
</cp:coreProperties>
</file>