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5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5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8DF7A-5CBE-4226-BDD3-1A32CD873C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D3DF0-7CA3-47DF-874F-DD54A4A4D9F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1205D-152F-4D25-8F82-F9467F41A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DE0B4-75CB-4F6C-ACB5-97ABF5F58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7"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2"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3"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5"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6"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7"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9"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0"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1"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3"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4"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6"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7"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8"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9"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1"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2"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3"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4"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5"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6"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5E6B1-E8B7-4A2A-A9AB-518F44B8C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0"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2"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4"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5"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9"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0"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1"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3"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4"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5"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9"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2"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4"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5"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6"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7"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4A2C8-BA58-4C79-ACCC-DD67B620F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0"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1"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2"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3"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4"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8"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0"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2"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3"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7"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8"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9"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1"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3"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5"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6"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7"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9"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2"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4"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5"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7"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8"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9"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0"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1"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8"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0"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1"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5"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6"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7"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9"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0"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1"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4"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5"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7"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8"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1"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2"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3"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6"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7"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9"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4"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6"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8"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9"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4"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5"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7"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9"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3"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5"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6"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8"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9"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0"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1"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3"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4"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5"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7"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8"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5"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8"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2"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3"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4"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6"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7"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8"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0"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1"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2"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4"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5"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7"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9"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2"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3"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4"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5"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6"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7"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75E6E-CF4A-4069-8400-1A888DC4C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42024B-C685-43C4-937E-8395C436897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619B3E-855F-4442-AE9D-B1C6C131827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6"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F82C50-C4CE-4A0F-B189-F5FCAA3F57D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8"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C6C9D3-010E-4170-B36E-9E7CEEC9278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364631-24E0-44B7-8EA1-7CB4CFECF4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E62E7-376C-4C4A-874E-7361C46A1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84E821-E634-46CC-B660-2CB8F577520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4"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5"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33FCA2-B683-4C4E-ABB3-B4D50F68EBE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9"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93E88D-0103-4A45-BB6F-0A431420C54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3"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E184F8-038A-44D9-870A-6EB24E44A5B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74B1EC-1E9D-422E-B2DC-3ED7E9CCD55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1"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7C0939-C214-4907-A619-B29579252C6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3"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4"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5"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3925EB-2D89-458D-B583-74FE71532E2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2"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4"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3C201-B027-43E1-A5EA-D99C21A7C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6"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7"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2"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3"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5"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6"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7"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9"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0"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1"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3"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4"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6"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9"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3"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4"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B1BA0-0B09-4EF8-84F8-B563EC98F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0"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4"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5"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9"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0"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1"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3"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4"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5"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7"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9"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1"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2"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5"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7"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7A892-C093-47DC-929B-F11781F37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9"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1"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8"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0"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2"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3"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7"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9"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3"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5"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6"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7"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FA891-EC5C-4865-8F71-D73BE1E42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9"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0"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2"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3"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4"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5"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7"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8"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9"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0"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6"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8"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0"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1"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5"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6"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F33FA-5EA6-4BAC-A1A2-F3A1021A7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9"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0"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1"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4"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5"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7"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8"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0"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1"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2"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3"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5"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6"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7"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8"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6"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8"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9"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EDC7F-F967-41BE-9DDD-782724F10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4"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5"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9"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3"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5"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6"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8"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9"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0"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1"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3"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4"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5"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6"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7"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8"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2"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762120" y="6356520"/>
            <a:ext cx="457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1295280" y="6356520"/>
            <a:ext cx="64771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Ballantine, Our Social World: Condensed 5e. SAGE Publications, 2018.</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229600" y="6356520"/>
            <a:ext cx="457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5DEC3-C622-4224-B1B8-853CDB334E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48"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86"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4"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62"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00"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01" name="PlaceHolder 3"/>
          <p:cNvSpPr>
            <a:spLocks noGrp="1"/>
          </p:cNvSpPr>
          <p:nvPr>
            <p:ph type="ftr" idx="6"/>
          </p:nvPr>
        </p:nvSpPr>
        <p:spPr>
          <a:xfrm>
            <a:off x="533520" y="6356520"/>
            <a:ext cx="5486400" cy="36504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antine, Our Social World: Condensed 5e. SAGE Publications, 2018.</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0"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1" name="PlaceHolder 3"/>
          <p:cNvSpPr>
            <a:spLocks noGrp="1"/>
          </p:cNvSpPr>
          <p:nvPr>
            <p:ph type="ftr" idx="4"/>
          </p:nvPr>
        </p:nvSpPr>
        <p:spPr>
          <a:xfrm>
            <a:off x="1295280" y="6356520"/>
            <a:ext cx="64771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Ballantine, Our Social World: Condensed 5e. SAGE Publications, 2018.</a:t>
            </a:r>
            <a:endParaRPr b="0" lang="en-US" sz="1200" spc="-1" strike="noStrike">
              <a:solidFill>
                <a:srgbClr val="000000"/>
              </a:solidFill>
              <a:latin typeface="Times New Roman"/>
            </a:endParaRPr>
          </a:p>
        </p:txBody>
      </p:sp>
      <p:sp>
        <p:nvSpPr>
          <p:cNvPr id="82" name="PlaceHolder 4"/>
          <p:cNvSpPr>
            <a:spLocks noGrp="1"/>
          </p:cNvSpPr>
          <p:nvPr>
            <p:ph type="sldNum" idx="5"/>
          </p:nvPr>
        </p:nvSpPr>
        <p:spPr>
          <a:xfrm>
            <a:off x="8229600" y="6356520"/>
            <a:ext cx="457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C3632-1E7A-4657-97FD-9C8CAD6007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20"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58"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96"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34"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72"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10"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thnic Group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thnic group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bership is based on shared cultural heritage, often connected with national or geographic identity</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erm “ethnic” includes most minorities and avoids problems of the term “rac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groups inhabit ethnic enclav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thnicity is defined in part by the government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ensus categories encourage diverse groups to think of themselves as parts of a larger category, or panethnicity (e.g. Asian, Hispanic)</a:t>
            </a:r>
            <a:endParaRPr b="0" lang="en-US" sz="2200" spc="-1" strike="noStrike">
              <a:solidFill>
                <a:srgbClr val="000000"/>
              </a:solidFill>
              <a:latin typeface="Arial"/>
            </a:endParaRPr>
          </a:p>
        </p:txBody>
      </p:sp>
      <p:sp>
        <p:nvSpPr>
          <p:cNvPr id="577"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78"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4E4B0-9A9A-4F9B-8D1E-0752B135083C}"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79"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ce and ethnic groups</a:t>
            </a:r>
            <a:endParaRPr b="0" lang="en-US" sz="3600" spc="-1" strike="noStrike">
              <a:solidFill>
                <a:srgbClr val="000000"/>
              </a:solidFill>
              <a:latin typeface="Arial"/>
            </a:endParaRPr>
          </a:p>
        </p:txBody>
      </p:sp>
      <p:sp>
        <p:nvSpPr>
          <p:cNvPr id="580" name="Rectangle 4"/>
          <p:cNvSpPr/>
          <p:nvPr/>
        </p:nvSpPr>
        <p:spPr>
          <a:xfrm>
            <a:off x="380880" y="-152280"/>
            <a:ext cx="9144000" cy="1371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1"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racial and Multiracial Populat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ce is a social construct that can chang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countries are now multiracial due to migr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individuals are now multiracial</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t the legacy of the “race” concept remains</a:t>
            </a:r>
            <a:endParaRPr b="0" lang="en-US" sz="2200" spc="-1" strike="noStrike">
              <a:solidFill>
                <a:srgbClr val="000000"/>
              </a:solidFill>
              <a:latin typeface="Arial"/>
            </a:endParaRPr>
          </a:p>
        </p:txBody>
      </p:sp>
      <p:sp>
        <p:nvSpPr>
          <p:cNvPr id="582"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83"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D499A-F5D5-439D-9437-FEAB313291E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84"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ce and ethnic groups</a:t>
            </a:r>
            <a:endParaRPr b="0" lang="en-US" sz="3600" spc="-1" strike="noStrike">
              <a:solidFill>
                <a:srgbClr val="000000"/>
              </a:solidFill>
              <a:latin typeface="Arial"/>
            </a:endParaRPr>
          </a:p>
        </p:txBody>
      </p:sp>
      <p:sp>
        <p:nvSpPr>
          <p:cNvPr id="585" name="Rectangle 4"/>
          <p:cNvSpPr/>
          <p:nvPr/>
        </p:nvSpPr>
        <p:spPr>
          <a:xfrm>
            <a:off x="380880" y="-152280"/>
            <a:ext cx="9144000" cy="1371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cro-Level Analysi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judice and Discrimin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judic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titudes that prejudge a group, usually negative and not based on fact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be stimulated by meso- and macro-level events, but attitudes are held at the micro-level</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rimination: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ial treatment and harmful actions against minoriti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tions occur at micro, meso, and macro levels</a:t>
            </a:r>
            <a:endParaRPr b="0" lang="en-US" sz="2200" spc="-1" strike="noStrike">
              <a:solidFill>
                <a:srgbClr val="000000"/>
              </a:solidFill>
              <a:latin typeface="Arial"/>
            </a:endParaRPr>
          </a:p>
        </p:txBody>
      </p:sp>
      <p:sp>
        <p:nvSpPr>
          <p:cNvPr id="587"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88"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DC837-FBA9-4FE8-ABAA-3DAE50C316C5}"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89"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judice &amp; Racis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ature of Prejudic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ults partly from in-group loyalty and information overload</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ereotyping: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tegorizing the personal qualities of large groups of people based on racial or ethnic featur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torted ideas are passed down through culture</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as applied to all group members and used to justify discrimination and inequality (may lead to hate crim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f-fulfilling prophecy: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orities may incorporate prejudiced views of themselves into their behavior</a:t>
            </a:r>
            <a:endParaRPr b="0" lang="en-US" sz="2200" spc="-1" strike="noStrike">
              <a:solidFill>
                <a:srgbClr val="000000"/>
              </a:solidFill>
              <a:latin typeface="Arial"/>
            </a:endParaRPr>
          </a:p>
        </p:txBody>
      </p:sp>
      <p:sp>
        <p:nvSpPr>
          <p:cNvPr id="591"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92"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E0E54-FC5A-4B7F-8D9D-6C1746771FC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93"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judice &amp; Racis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
          <p:cNvSpPr txBox="1"/>
          <p:nvPr/>
        </p:nvSpPr>
        <p:spPr>
          <a:xfrm>
            <a:off x="762120" y="1600200"/>
            <a:ext cx="3962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ustration–aggression theory: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s of prejudice and discrimination are carried out by individuals who cannot achieve their goals, and direct their anger and frustration at vulnerable minority groups</a:t>
            </a:r>
            <a:endParaRPr b="0" lang="en-US" sz="2400" spc="-1" strike="noStrike">
              <a:solidFill>
                <a:srgbClr val="000000"/>
              </a:solidFill>
              <a:latin typeface="Arial"/>
            </a:endParaRPr>
          </a:p>
        </p:txBody>
      </p:sp>
      <p:sp>
        <p:nvSpPr>
          <p:cNvPr id="595"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judice &amp; Racism</a:t>
            </a:r>
            <a:endParaRPr b="0" lang="en-US" sz="3600" spc="-1" strike="noStrike">
              <a:solidFill>
                <a:srgbClr val="000000"/>
              </a:solidFill>
              <a:latin typeface="Arial"/>
            </a:endParaRPr>
          </a:p>
        </p:txBody>
      </p:sp>
      <p:sp>
        <p:nvSpPr>
          <p:cNvPr id="596" name=""/>
          <p:cNvSpPr txBox="1"/>
          <p:nvPr/>
        </p:nvSpPr>
        <p:spPr>
          <a:xfrm>
            <a:off x="4998600" y="1604880"/>
            <a:ext cx="39625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pegoating: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inority group is blamed and victimized for acts carried out by others, as the perpetrator cannot vent frustration on its real target or cause</a:t>
            </a:r>
            <a:endParaRPr b="0" lang="en-US" sz="2400" spc="-1" strike="noStrike">
              <a:solidFill>
                <a:srgbClr val="000000"/>
              </a:solidFill>
              <a:latin typeface="Arial"/>
            </a:endParaRPr>
          </a:p>
        </p:txBody>
      </p:sp>
      <p:sp>
        <p:nvSpPr>
          <p:cNvPr id="597" name="Text Box 9"/>
          <p:cNvSpPr/>
          <p:nvPr/>
        </p:nvSpPr>
        <p:spPr>
          <a:xfrm>
            <a:off x="831960" y="1201680"/>
            <a:ext cx="5181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Explanations for Prejudice</a:t>
            </a:r>
            <a:endParaRPr b="0" lang="en-US" sz="2200" spc="-1" strike="noStrike">
              <a:solidFill>
                <a:srgbClr val="000000"/>
              </a:solidFill>
              <a:latin typeface="Tahoma"/>
            </a:endParaRPr>
          </a:p>
        </p:txBody>
      </p:sp>
      <p:sp>
        <p:nvSpPr>
          <p:cNvPr id="598" name="Text Box 10"/>
          <p:cNvSpPr/>
          <p:nvPr/>
        </p:nvSpPr>
        <p:spPr>
          <a:xfrm>
            <a:off x="831960" y="593244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at these theories don’t explain: why only some people vent their frustrations on others, why particular groups become scapegoat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so-level Analysi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rimination: actions taken against members of a minority group</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vidual discrimination (micro level): action against minority members by individual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itutional discrimination (meso level): intentional or unintentional actions by organizations and institutions that restrict minority member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rimination and prejudice often work together and reinforce one another</a:t>
            </a:r>
            <a:endParaRPr b="0" lang="en-US" sz="2200" spc="-1" strike="noStrike">
              <a:solidFill>
                <a:srgbClr val="000000"/>
              </a:solidFill>
              <a:latin typeface="Arial"/>
            </a:endParaRPr>
          </a:p>
        </p:txBody>
      </p:sp>
      <p:sp>
        <p:nvSpPr>
          <p:cNvPr id="600"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01"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0E42D-2BB8-45AB-85AE-1A72EDEDB190}"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02"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rimin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s of Institutional Discrimin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ntional discrimination: built into the law or explicit organizational polici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ntentional discrimination: results from policies that have unanticipated consequences favoring one group over another</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de-effect discrimination: practices in one institutional area that have a negative impact due to links to other area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st-in-present discrimination: practices from the past that may no longer be allowed today but continue to affect people anyway</a:t>
            </a:r>
            <a:endParaRPr b="0" lang="en-US" sz="2200" spc="-1" strike="noStrike">
              <a:solidFill>
                <a:srgbClr val="000000"/>
              </a:solidFill>
              <a:latin typeface="Arial"/>
            </a:endParaRPr>
          </a:p>
        </p:txBody>
      </p:sp>
      <p:sp>
        <p:nvSpPr>
          <p:cNvPr id="604"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05"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633CB-98AF-44F6-8DB0-EB3E63A27B8A}"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06"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rimin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minant/Minority Group Contac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orm of dominant and minority group relations depend on several factor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 has more power</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minant group needs for labor and other resources that could be provided by minoriti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ultural norms of each group</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ocial histories of the group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ysical and cultural distinctions between group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imes and circumstances</a:t>
            </a:r>
            <a:endParaRPr b="0" lang="en-US" sz="2200" spc="-1" strike="noStrike">
              <a:solidFill>
                <a:srgbClr val="000000"/>
              </a:solidFill>
              <a:latin typeface="Arial"/>
            </a:endParaRPr>
          </a:p>
        </p:txBody>
      </p:sp>
      <p:sp>
        <p:nvSpPr>
          <p:cNvPr id="608"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09"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443B3-8E6A-4125-A61E-8D57B029DEDD}"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10"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cro-level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1" name="Text Box 9"/>
          <p:cNvSpPr/>
          <p:nvPr/>
        </p:nvSpPr>
        <p:spPr>
          <a:xfrm>
            <a:off x="762120" y="2090880"/>
            <a:ext cx="5715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ypes of Dominant/Minority Group Relations</a:t>
            </a:r>
            <a:endParaRPr b="0" lang="en-US" sz="2200" spc="-1" strike="noStrike">
              <a:solidFill>
                <a:srgbClr val="000000"/>
              </a:solidFill>
              <a:latin typeface="Tahoma"/>
            </a:endParaRPr>
          </a:p>
        </p:txBody>
      </p:sp>
      <p:sp>
        <p:nvSpPr>
          <p:cNvPr id="612"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13"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4978D-CF80-4669-903A-92DF48D15ADF}"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14"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cro-level analysis</a:t>
            </a:r>
            <a:endParaRPr b="0" lang="en-US" sz="3600" spc="-1" strike="noStrike">
              <a:solidFill>
                <a:srgbClr val="000000"/>
              </a:solidFill>
              <a:latin typeface="Arial"/>
            </a:endParaRPr>
          </a:p>
        </p:txBody>
      </p:sp>
      <p:pic>
        <p:nvPicPr>
          <p:cNvPr id="615" name="Picture 6" descr=""/>
          <p:cNvPicPr/>
          <p:nvPr/>
        </p:nvPicPr>
        <p:blipFill>
          <a:blip r:embed="rId1"/>
          <a:stretch/>
        </p:blipFill>
        <p:spPr>
          <a:xfrm>
            <a:off x="888840" y="2895480"/>
            <a:ext cx="7944120" cy="2210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
          <p:cNvSpPr txBox="1"/>
          <p:nvPr/>
        </p:nvSpPr>
        <p:spPr>
          <a:xfrm>
            <a:off x="762120" y="1600200"/>
            <a:ext cx="39621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ocid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atic effort by dominant group to destroy a minority group</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ugation: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ordination of one group by another that holds power and authorit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transfer: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al of minority group from a region or country, often forced</a:t>
            </a:r>
            <a:endParaRPr b="0" lang="en-US" sz="2000" spc="-1" strike="noStrike">
              <a:solidFill>
                <a:srgbClr val="000000"/>
              </a:solidFill>
              <a:latin typeface="Arial"/>
            </a:endParaRPr>
          </a:p>
        </p:txBody>
      </p:sp>
      <p:sp>
        <p:nvSpPr>
          <p:cNvPr id="617"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ypes of dominant/minority group relations</a:t>
            </a:r>
            <a:endParaRPr b="0" lang="en-US" sz="3600" spc="-1" strike="noStrike">
              <a:solidFill>
                <a:srgbClr val="000000"/>
              </a:solidFill>
              <a:latin typeface="Arial"/>
            </a:endParaRPr>
          </a:p>
        </p:txBody>
      </p:sp>
      <p:sp>
        <p:nvSpPr>
          <p:cNvPr id="618" name=""/>
          <p:cNvSpPr txBox="1"/>
          <p:nvPr/>
        </p:nvSpPr>
        <p:spPr>
          <a:xfrm>
            <a:off x="4998600" y="1604880"/>
            <a:ext cx="39625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milation: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d or chosen social and cultural merging of groups in which minority members may lose their original identit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ralism: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group maintains its culture and institutions but has recognized equity in socie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Rectangle 2"/>
          <p:cNvSpPr/>
          <p:nvPr/>
        </p:nvSpPr>
        <p:spPr>
          <a:xfrm>
            <a:off x="1981080" y="1600200"/>
            <a:ext cx="491508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8</a:t>
            </a:r>
            <a:endParaRPr b="0" lang="en-US" sz="3600" spc="-1" strike="noStrike">
              <a:solidFill>
                <a:srgbClr val="000000"/>
              </a:solidFill>
              <a:latin typeface="Tahoma"/>
            </a:endParaRPr>
          </a:p>
        </p:txBody>
      </p:sp>
      <p:sp>
        <p:nvSpPr>
          <p:cNvPr id="546" name="Rectangle 3"/>
          <p:cNvSpPr/>
          <p:nvPr/>
        </p:nvSpPr>
        <p:spPr>
          <a:xfrm>
            <a:off x="1371600" y="3124080"/>
            <a:ext cx="6781680" cy="13716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ce and Ethnic Group Stratification: Beyond “We” and “They”</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aining Dominant/Minority Group Relations: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uctural Functional Theor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ority groups often serve as pools of cheap, marginally employed labor, and this has several functions for socie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 a labor force to do “dirty work”</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ke possible occupations which service the poor</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y goods others do not wa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t examples for others of what not to b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 others to feel good about giving to charity</a:t>
            </a:r>
            <a:endParaRPr b="0" lang="en-US" sz="2200" spc="-1" strike="noStrike">
              <a:solidFill>
                <a:srgbClr val="000000"/>
              </a:solidFill>
              <a:latin typeface="Arial"/>
            </a:endParaRPr>
          </a:p>
        </p:txBody>
      </p:sp>
      <p:sp>
        <p:nvSpPr>
          <p:cNvPr id="620"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21"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A17D2-263B-44CD-8D54-0B9E66DE7F5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22"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cro-level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aining Dominant/Minority Group Relations: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lict Theor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ominant group protects its privileges and resources by creating a “lesser” group</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tors contributing to hostility over resourc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wo groups are identifiably differe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wo groups want the same scarce resourc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one group is more powerful</a:t>
            </a:r>
            <a:endParaRPr b="0" lang="en-US" sz="2200" spc="-1" strike="noStrike">
              <a:solidFill>
                <a:srgbClr val="000000"/>
              </a:solidFill>
              <a:latin typeface="Arial"/>
            </a:endParaRPr>
          </a:p>
        </p:txBody>
      </p:sp>
      <p:sp>
        <p:nvSpPr>
          <p:cNvPr id="624"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25"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75EDB-3888-4EB6-8185-4E7FF430AB7E}"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26"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cro-level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aining Dominant/Minority Group Relations: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lict Theory, con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lit Labor Market Theor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abor market has two level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mary market– “good” job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ary market–“bad” job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orities are more likely to work in secondary job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etition for secondary jobs sets minorities against each other and against low-income Whit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ployers enjoy reduced threats to their dominance and profit from cheaper labor</a:t>
            </a:r>
            <a:endParaRPr b="0" lang="en-US" sz="2200" spc="-1" strike="noStrike">
              <a:solidFill>
                <a:srgbClr val="000000"/>
              </a:solidFill>
              <a:latin typeface="Arial"/>
            </a:endParaRPr>
          </a:p>
        </p:txBody>
      </p:sp>
      <p:sp>
        <p:nvSpPr>
          <p:cNvPr id="628"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29"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972F6-BBA0-4ED4-927F-E532A12F23BE}"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30"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cro-level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1"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aining Dominant/Minority Group Relations: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ltural Explanation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judice and discrimination are passed on from generation to generation through cultural transmission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cialization, macro-level structures, and media stereotypes all contribute to transmiss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ltural stereotypes do not generate inequality by themselves, but they do stabilize it</a:t>
            </a:r>
            <a:endParaRPr b="0" lang="en-US" sz="2200" spc="-1" strike="noStrike">
              <a:solidFill>
                <a:srgbClr val="000000"/>
              </a:solidFill>
              <a:latin typeface="Arial"/>
            </a:endParaRPr>
          </a:p>
        </p:txBody>
      </p:sp>
      <p:sp>
        <p:nvSpPr>
          <p:cNvPr id="632"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33"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B4F3D-0420-471A-AC7D-4C24BEB7E223}"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34"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cro-level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5"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icies to reduce prejudice, racism,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discrimin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vidual or small group solutions: educational workshops, group encounters, therap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contact: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grated housing, employment, and education; especially successful when groups must cooperate to achieve a goal</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itutional &amp; societal strategie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bbying, legislation, watchdog monitoring, information dissemination, social protest </a:t>
            </a:r>
            <a:endParaRPr b="0" lang="en-US" sz="2200" spc="-1" strike="noStrike">
              <a:solidFill>
                <a:srgbClr val="000000"/>
              </a:solidFill>
              <a:latin typeface="Arial"/>
            </a:endParaRPr>
          </a:p>
        </p:txBody>
      </p:sp>
      <p:sp>
        <p:nvSpPr>
          <p:cNvPr id="636"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37"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A6512-504C-4C5B-B2C2-84D2B7B4E3E0}"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38"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lic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9" name=""/>
          <p:cNvSpPr txBox="1"/>
          <p:nvPr/>
        </p:nvSpPr>
        <p:spPr>
          <a:xfrm>
            <a:off x="762120" y="1623960"/>
            <a:ext cx="8229600" cy="452592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ies to reduce discrimination, cont.</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irmative Action legislation: </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policies intended to fight institutional racism</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affirmative action: </a:t>
            </a:r>
            <a:endParaRPr b="0" lang="en-US" sz="2000" spc="-1" strike="noStrike">
              <a:solidFill>
                <a:srgbClr val="000000"/>
              </a:solidFill>
              <a:latin typeface="Arial"/>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irmative or positive steps to prevent unintended discrimination</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ota systems: </a:t>
            </a:r>
            <a:endParaRPr b="0" lang="en-US" sz="2000" spc="-1" strike="noStrike">
              <a:solidFill>
                <a:srgbClr val="000000"/>
              </a:solidFill>
              <a:latin typeface="Arial"/>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 employers to hire a certain percentage of minorities</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ference policies: </a:t>
            </a:r>
            <a:endParaRPr b="0" lang="en-US" sz="2000" spc="-1" strike="noStrike">
              <a:solidFill>
                <a:srgbClr val="000000"/>
              </a:solidFill>
              <a:latin typeface="Arial"/>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belief that due to institutional discrimination, sometimes people must be treated differently in order to be treated fairly (i.e. 2013 Supreme Court upheld Fisher v. University of Texas)</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0"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41"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82015-B70F-45D7-BF8C-05435480732F}"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42"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lic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lobal movement for human right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lobal issues and ethnic conflicts are interrelated</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nited Nations passed the Declaration of Universal Human Rights after the Holocaust to ensure the rights of all, regardless of n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ted Nations affiliated and privately funded groups advocate for international human rights that transcend national boundaries</a:t>
            </a:r>
            <a:endParaRPr b="0" lang="en-US" sz="2200" spc="-1" strike="noStrike">
              <a:solidFill>
                <a:srgbClr val="000000"/>
              </a:solidFill>
              <a:latin typeface="Arial"/>
            </a:endParaRPr>
          </a:p>
        </p:txBody>
      </p:sp>
      <p:sp>
        <p:nvSpPr>
          <p:cNvPr id="644"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45"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7AEBE-4C8E-49CC-9046-480CF6579563}"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46"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lic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7"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ority groups are characterized b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tinguishable by features–e.g. appearance, language, relig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cluded or denied full participation in economic, political, and other institut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s access to power, resources, and prestig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e stereotyped, ridiculed, condemned, or defamed, which justifies poor treatme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 collective identities, communities, and institutions to insulate themselves</a:t>
            </a:r>
            <a:endParaRPr b="0" lang="en-US" sz="2200" spc="-1" strike="noStrike">
              <a:solidFill>
                <a:srgbClr val="000000"/>
              </a:solidFill>
              <a:latin typeface="Arial"/>
            </a:endParaRPr>
          </a:p>
        </p:txBody>
      </p:sp>
      <p:sp>
        <p:nvSpPr>
          <p:cNvPr id="548"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49"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FAF68-121C-48AF-AFCD-E94755A941FF}"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50"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ce and ethnic grou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1"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ority groups, co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ed by history and ideology</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group that is a minority in one time or place may be a dominant group in other times and plac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minant groups are not always the numerical major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thnic and racial groups are the most common minority groups</a:t>
            </a:r>
            <a:endParaRPr b="0" lang="en-US" sz="2200" spc="-1" strike="noStrike">
              <a:solidFill>
                <a:srgbClr val="000000"/>
              </a:solidFill>
              <a:latin typeface="Arial"/>
            </a:endParaRPr>
          </a:p>
        </p:txBody>
      </p:sp>
      <p:sp>
        <p:nvSpPr>
          <p:cNvPr id="552"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53"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F5A1C-A5B1-4192-B754-B25894806823}"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54"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ce and ethnic grou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ncept of rac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ce: a group identified by society because of certain biologically inherited physical characteristic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cial classifications have been based on different combinations of characteristics</a:t>
            </a:r>
            <a:endParaRPr b="0" lang="en-US" sz="2200" spc="-1" strike="noStrike">
              <a:solidFill>
                <a:srgbClr val="000000"/>
              </a:solidFill>
              <a:latin typeface="Arial"/>
            </a:endParaRPr>
          </a:p>
        </p:txBody>
      </p:sp>
      <p:sp>
        <p:nvSpPr>
          <p:cNvPr id="556"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57"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F0C17-126D-4A6B-914A-8AC931967F9E}"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58"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ce and ethnic grou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9"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igins of the Concept of Rac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eighteenth and nineteenth century, scientists developed four major race categori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goloid, Caucasoid, Negroid, Australoi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1970s, the United Nations issued a “Statement on Race”: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people are born free and equa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cism retards personal development</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cial) conflicts cost nations resourc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cism creates international conflict</a:t>
            </a:r>
            <a:endParaRPr b="0" lang="en-US" sz="2200" spc="-1" strike="noStrike">
              <a:solidFill>
                <a:srgbClr val="000000"/>
              </a:solidFill>
              <a:latin typeface="Arial"/>
            </a:endParaRPr>
          </a:p>
        </p:txBody>
      </p:sp>
      <p:sp>
        <p:nvSpPr>
          <p:cNvPr id="560"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61"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6B154-8C3C-496E-91BB-FD95F2B8C42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62"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ce and ethnic grou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igins of the concept of race, co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ce categories are defined by society, often based on what is convenient for the dominant group</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cist doctrines lack any scientific basis</a:t>
            </a:r>
            <a:endParaRPr b="0" lang="en-US" sz="2200" spc="-1" strike="noStrike">
              <a:solidFill>
                <a:srgbClr val="000000"/>
              </a:solidFill>
              <a:latin typeface="Arial"/>
            </a:endParaRPr>
          </a:p>
        </p:txBody>
      </p:sp>
      <p:sp>
        <p:nvSpPr>
          <p:cNvPr id="564"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65"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CE44E-8EDC-4196-A15E-528007837F7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66"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ce and ethnic grou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7" name=""/>
          <p:cNvSpPr txBox="1"/>
          <p:nvPr/>
        </p:nvSpPr>
        <p:spPr>
          <a:xfrm>
            <a:off x="762120" y="1623960"/>
            <a:ext cx="8229600" cy="4525920"/>
          </a:xfrm>
          <a:prstGeom prst="rect">
            <a:avLst/>
          </a:prstGeom>
          <a:noFill/>
          <a:ln w="0">
            <a:noFill/>
          </a:ln>
        </p:spPr>
        <p:txBody>
          <a:bodyPr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bolic Interaction Analysis </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ocial Construction of Race</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people believe something in real, it is real in its consequences</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ople believe race categories are real, which has real consequences:</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ople use race categories to classify themselves and others based on physical characteristics</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dea of race expanded from physical differences to psychological and moral differences</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dea of psychological and moral race differences has been used to justify discriminatory treatment</a:t>
            </a:r>
            <a:endParaRPr b="0" lang="en-US" sz="2200" spc="-1" strike="noStrike">
              <a:solidFill>
                <a:srgbClr val="000000"/>
              </a:solidFill>
              <a:latin typeface="Arial"/>
            </a:endParaRPr>
          </a:p>
        </p:txBody>
      </p:sp>
      <p:sp>
        <p:nvSpPr>
          <p:cNvPr id="568"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69"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13E2-DCCE-40A5-97BC-B4D2ECCF233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70"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ce and ethnic groups</a:t>
            </a:r>
            <a:endParaRPr b="0" lang="en-US" sz="3600" spc="-1" strike="noStrike">
              <a:solidFill>
                <a:srgbClr val="000000"/>
              </a:solidFill>
              <a:latin typeface="Arial"/>
            </a:endParaRPr>
          </a:p>
        </p:txBody>
      </p:sp>
      <p:sp>
        <p:nvSpPr>
          <p:cNvPr id="571" name="Rectangle 4"/>
          <p:cNvSpPr/>
          <p:nvPr/>
        </p:nvSpPr>
        <p:spPr>
          <a:xfrm>
            <a:off x="380880" y="-152280"/>
            <a:ext cx="9144000" cy="1371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ntinuing Significance of Rac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lear racial economic hierarchy exists with White Americans on top and other racial groups below</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ucation is one of the key means of social mobilit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urns on educational investment are distributed unevenly according to race</a:t>
            </a:r>
            <a:endParaRPr b="0" lang="en-US" sz="2200" spc="-1" strike="noStrike">
              <a:solidFill>
                <a:srgbClr val="000000"/>
              </a:solidFill>
              <a:latin typeface="Arial"/>
            </a:endParaRPr>
          </a:p>
        </p:txBody>
      </p:sp>
      <p:sp>
        <p:nvSpPr>
          <p:cNvPr id="573"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74" name="Slide Number Placeholder 3"/>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45151-025F-4A10-AB8B-ABE0D0A976CD}"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75"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ce and ethnic grou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8T15:33:38Z</dcterms:created>
  <dc:creator>Deborah J Barr</dc:creator>
  <dc:description/>
  <dc:language>en-US</dc:language>
  <cp:lastModifiedBy>Stephanie Palermini</cp:lastModifiedBy>
  <cp:lastPrinted>2009-04-22T19:24:48Z</cp:lastPrinted>
  <dcterms:modified xsi:type="dcterms:W3CDTF">2017-07-03T18:54:48Z</dcterms:modified>
  <cp:revision>65</cp:revision>
  <dc:subject/>
  <dc:title>Chapter 8: Race and ethnic group stratification: Beyond "we" and "the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51033</vt:lpwstr>
  </property>
</Properties>
</file>