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A1C0-00C0-4D3E-B537-A2F28219D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36D7-F1EC-40F2-847E-5A7578085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BC30-A468-4B0E-BB53-64A4EBBD3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48E3-1BB8-42C3-BFF9-48A2DB6F1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7581-1FE0-46EE-A1BD-EFDC06CBB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7D21-CF1F-4702-A034-0D619001C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AD59-343C-4662-B54F-BF65C16D4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6C4D-39A6-4B15-80C1-AB6BFDD30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EADF-72A5-46C0-A4D9-D1F84A78F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AF85-D7F2-4331-8ECE-66360887A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818B-C8DA-4E83-9513-8325A6B85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A92A-70AF-4D49-B3E5-C98B6971D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BCB9-5436-4CDA-9EE9-1A3A0B952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5FF1-B555-431D-A354-E7CC1FEBE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2A11-E5A8-4CCB-9458-3534057D5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896F-1D11-43F2-B135-12F61BEA0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4F3A-7EC6-4F38-A1A9-6FEA873AE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5545-12DB-4FDF-80E3-35CFDA91B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8398-3F82-4247-9D7A-FA1A5A671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0C05-6F71-4076-81FE-069AA8B42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35CB-2EC0-41A1-BCE3-C6B50BD15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9A41-4F72-403C-B2F6-735E21D78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8E3B-EBC8-4CC6-B626-645A56445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0DEE-F234-445F-B28C-CE24C20E0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F776-4D59-443A-B3DD-CDCC018A4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CE1B-5F7F-4790-8498-2CB00EC67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1E95-32B5-4D96-93FE-E25E09B17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7895-9A3B-4697-88BD-4B1BA8020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F90D-4604-45DC-8A5F-C8E83EFAC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A702-8C3F-4757-8698-786DCB3D4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EA88-1B99-42A1-93E8-945DA8566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C32A-61EF-4C63-8C2B-33C156371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002A-C247-4B25-9702-BE9240E0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75FD-06BF-4D35-B767-F9CBB539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37F-1038-4BD0-816F-8BAA7D66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059C-5726-4A03-B2E3-87FDD30A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96A0-176E-4F88-8D70-17D72797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F45A0-1047-4FFF-AE9B-A6F8D2E8D1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47391-EE63-4663-802F-BBED4BA675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F37F8-8FE3-4A06-9A99-336CDD0A19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6244A-E6ED-4166-BC94-0002B50623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30710-7657-486D-8085-A153D9224E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3A7B-C44C-4FED-8CC5-CF778D0C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2D901-F924-4131-869F-6AD32ECC1A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64E76-1DCB-4871-88DE-F27B9A63E3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5CD0B-4F5E-41D1-B228-F69189C2A3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00A08-32B7-4309-AB95-F1B531F80F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992EF-28AC-4867-85B1-3A0860DA0F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B6FC7-6AD5-419C-BE64-ADEDFBC186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57B55-48AA-402A-981B-AF7808A2800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494-8FA3-4F33-9983-91BF77EE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152E-479E-483C-B697-5C5A98E1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72F-DF91-4C43-9015-4792C9BA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F334-B36B-47F2-9018-FADBF60B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1D76-D36D-4F30-BBB2-9550085E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C153-6B74-4291-BEBB-3795B940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5DEE-8C33-4329-8A4D-9628D782EB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6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7E91-6759-4D09-8426-A5C5C88F00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The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ification within societies is inevi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ratification system provides each individual with a position in the social worl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ratification system motivates individuals to carry out their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a result, each individual contributes in some way to the maintenance of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so-level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 Theory, co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avis and Moore 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positions are more highly valued because people feel they are very import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wards for these positions are high because society must motivate talented individuals to undertake the necessary but difficult preparation for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ial rewards for positions result in unequal distribution of resources; stratification is inevi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The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ification is the outcome of struggles for dominance and scarce resour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and groups act in their own self-interest, taking advantage of oth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—between those trying to hold onto existing advantages and those trying to gain new advantages—is inevi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rl Marx, an originator of 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d during a time of economic change which prompted him to question stra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d distribution of wealth in capitalist societies as based on what people can take, not what they need, want, or ea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x’s 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x described two economic clas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ourgeoisie, capitalists, or “have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letariat, working class, or “have not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arises from struggle between clas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ists control the means of production, i.e. money, materials, factories, which they use to create profits for themse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members of the working class lack their own means of production, they must work for capitalists in order to earn a li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fore, capitalists can exploit workers in order to maintain and enlarge their pro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x’s 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ists remain in control becaus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control the norms and values of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use their power to make inequality seem “fair” and justif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system will last unti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orking class develops class consciousness, or shared awareness of the causes of their low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may be aided in this by intellectu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d on class consciousness, the working class will overthrow the bourgeoisie and create a classless society in which wealth is sha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 Weber’s 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 Weber, also a conflict theorist, critiqued Marx’s sole focus on economic factors. His stratification theory included power and prestige, as well as proper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nt conflict theorists argue that there are five social clas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1066680" y="4118040"/>
            <a:ext cx="281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is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tty bourgeoisi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4572000" y="43020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ork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nder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The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ary Theory of Stra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survive people must cooperate, but conflicts occur when important decisions advantage one group over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d items are always in demand but short supply; struggle over these scarce items is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stom shapes the distribution of scarce resources, but after basic societal needs are met, power determines distribution of surp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ary Theory of Stratification, co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thesis of functionalist and conflict the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functionalis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lented individuals need to be motiv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will attempt to control as much wealth, power, and prestige as possible, resulting in potential confli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itation contributes to creating ine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l of inequality depends on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inequality is useful, too much can be harmf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icro-lev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 Life Ch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fe chances: one’s opportunities, which depend on achieved and ascribed statu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ant factors affecting life chanc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, social conditions, and life expect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 social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2971800" y="1600200"/>
            <a:ext cx="296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1143000" y="2895480"/>
            <a:ext cx="70866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ratification: Rich and Famous—or Rags and Famin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 Lifesty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festyle: one’s attitudes, values, beliefs, and behavior patterns, which depend on socialization into one’s culture and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s affecting lifesty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itudes toward achie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y life and child rearing patter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igious member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 behavi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us inconsist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 social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icro–Meso Conne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mobility: the extent to which people move up and down in the clas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 issues dominate analysis of mobil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social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s of measuring social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s that affect social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ther there is a “land of opportunit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Social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generational mobility: change in status compared to parents’ status, usually resulting from education and occupational attai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agenerational mobility: change in status within an individual’s life, whether up or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ical mobility: movement up or down the stratification hierarchy, sometimes including a change in social 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ing Social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itional method: compare the occupations of fathers and sons or daught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is a high level of occupational inheri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igher the father’s occupation, the greater the son’s chances of occupational su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is considerable intergenerational movement up and down the lad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ns are more likely to move up than down; daughters are even more likely to move 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’s and women’s occupational attainment is powerfully influenced by class orig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s Affecting Individual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facto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y background, socialization, and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occupational structure and economic vit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population tre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Dis)advantages linked to gender and ethni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markets and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of these factors are interrel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988920" y="-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there a “land of opportunity”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ing mobility across cul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difficult to identify opportunity-rich countries due to the complex factors that influence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portunities for upward mobility are changing due to glob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ufacturing jobs are now in developing countries, leaving less-educated US workers with fewer opportu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SA has high-tech jobs, providing opportunity for those from small, educated families that value individual achie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Stratification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cribed stratification systems: individuals’ positions in society are determined by characteristics they are born wi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hieved stratification systems: individuals earn their positions through ability and eff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cribed Status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te systems: the caste one is born into determines one’s occupation, potential marriage partners, residence, group memberships, and prestig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individual’s caste is recognized through clothing, speech, family name, skin color, other characte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learn their caste through soc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ost rigid ascribed status system; maintained by norms, ideologies, and social control mechanisms embedded in religious, political, and economic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cribed Status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te systems: one is born into the nobility, the political–military elites, or into the peasantry, whose labor supports the eli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asants receive protection and enough food to survive from the n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asants are tied to a noble’s land and are rarely able to become independent land ow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s and rights are clearly spelled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ystem is bolstered by arranged marri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hieved Status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lass system: social class is defined by property, power, and prestige; it is officially achieved, but actually inherited in p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ty: income and ass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: ability to control or influence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ower Elite vs. Pluralism mode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tige: recognition, esteem, respect given those whose occupation and lifestyle are socially valu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members share similar lifestyles, education, culture, and interaction patt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ry: When an individual or a family bound in servitude as the property of person or household, bought and sold, and forced to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stimated 30 million people are slaves (women and children from poor families in poor countr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 trafficking has claimed 20.9 victims worldwide as of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ren are often used as slave labor in factories and fie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762120" y="162396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people in the U.S. identify as “middle class,” but the middle class is shrin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ap between the richest 5% and poorest 40% has increased since the 1970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ddle-class wages and salaries have declined since the 198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classes in the United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6" descr=""/>
          <p:cNvPicPr/>
          <p:nvPr/>
        </p:nvPicPr>
        <p:blipFill>
          <a:blip r:embed="rId1"/>
          <a:stretch/>
        </p:blipFill>
        <p:spPr>
          <a:xfrm>
            <a:off x="5410080" y="1392120"/>
            <a:ext cx="32004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verty Determinants and Social Poli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solute poverty: not having sufficient resources to meet basic survival needs (food, shelter, cloth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no prestige, power, or accumulated w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 poverty: having an income below the poverty line, and an inadequate standard of living relative to others in the same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poorer health, shorter life expectancy, greater infant mortality than others in the same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verty Determinants and Social Poli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inization of poverty: trend in which single females, often young and with children, make up a growing proportion of those in pover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poor women grew up in female-headed families or suffered economically following divo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valent in and around major c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ed b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ming the victi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perspective: poor women comprise a reserve group of cheap, easily exploited labor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verty Determinants and Social Poli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osts of Pover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or have lower physical and mental health, are more alienated, have higher rates of addi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cost of addressing the needs of and regulating the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 of talent and abilities that the poor could contrib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adiction to cultural values of equality and upward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minating Poverty: Policy Consid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welfare programs aim to eliminate poverty by changing the factors that perpetuate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s jobs, money, altering our social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d Program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men, Infants, &amp; Children (WIC) Program: nutr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d Start: early childhood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od stam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fare (TAN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minating Poverty: Policy Consid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f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orary Assistance for Needy Families (TAN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aced Aid to Families with Dependent Children (AFDC), which was criticized as creating depen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s individuals receiving assistance to work 20–30 hours/week or attend training/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sues and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there jobs available at a “living wage”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ters want tax cuts, which reduce our ability to hel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sons take public funds that could be used to fight pover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tional and Global Digital Di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gital divide: the gap between those with and without access to information technolog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ults from differences in socioeconomic status, minority group status, and urban versus rural resid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with insufficient computer and internet access or skills face barriers to many professions and opportu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and private organizations are developing low-cost technologies that may help level the digital playing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cro-level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stratification: individuals and groups are layered or ranked in society according to how many valued resources they poss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ongoing process of sorting people into layers, legitimated by cultural beliefs that justify ine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mportance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ncept of stratification assumes tha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are divided into ranked categ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red resources are unequally distribu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society determines how individuals are ranked, depending 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ographic lo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l of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 philosop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sions of those in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mportance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tige and Influ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ty, power, and prestige are accorded to individuals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 capital: knowledge and access to important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apital: networks with others who have influ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 qualities also influence cultural and social capit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cro-level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 to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 status is shaped by access to resources and reinforced by the family through soc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treatment by educational, religious, political, and other institutions often depends on our status, and also reinforces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experiences of life are shaped by our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cro-level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influences on stratific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ic systems and resources within a particular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 of that country within world systems of economic stra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cro-level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take up social positions through socialization, in which they learn the appropriate cultural capi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 capital influences children’s school and home enviro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positions are represented by symb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picuous consumption: displaying goods in a way that will be noticed and will earn the owner re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8T15:29:33Z</dcterms:created>
  <dc:creator>Deborah J Barr</dc:creator>
  <dc:description/>
  <dc:language>en-US</dc:language>
  <cp:lastModifiedBy>Stephanie Palermini</cp:lastModifiedBy>
  <cp:lastPrinted>2009-04-22T19:24:48Z</cp:lastPrinted>
  <dcterms:modified xsi:type="dcterms:W3CDTF">2017-07-03T18:49:07Z</dcterms:modified>
  <cp:revision>81</cp:revision>
  <dc:subject/>
  <dc:title>Chapter 7: Stratificaiton: Rich and famous - or rags and famin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91033</vt:lpwstr>
  </property>
</Properties>
</file>