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407-672F-4B22-89E9-B4F3BFE6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BBF-07EE-48E4-BF64-28395947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00C-2E8C-4961-9EE6-81FA2AFC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359-7AB8-4813-8117-067399A9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BA7-C8E4-48DB-9924-384B803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E6218-EF25-439C-9C46-D80D311924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922F-BBC8-4805-BB00-9F22393466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CD7B-4A8B-4199-BC29-736205CD85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CAE61-4CED-427F-A895-250C73B3AC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683C1-149B-41B2-B518-5E2422478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244-430B-4232-870E-C54E6888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0B77D-CF52-45F8-B495-1EF620843C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C2F30-8618-4D41-8899-715594F036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CC6EC-5335-4FAE-BB09-7D2E3DDE00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8284B-56D7-4AAC-A3E7-D0DE120784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75CEE-BEAB-4E27-9FAF-1837D7ABEF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91384-CEFE-4096-8528-FAC22EE2B5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2342-0400-4B96-AE56-1C9CE5D846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6B1-B585-4E32-9086-A0AD9D74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B01-A7F5-469F-8F2F-AD0C2594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A66-23E1-4E4F-9B21-A2234A75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F0C-7397-46D3-BD93-E733FB4D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6F7-B5F5-409F-B11E-6C78320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49F-4364-465C-B0B2-6AEDE9C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D27-E275-4E8A-AF75-CFF0799BF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2A6-5CBE-4E13-8CAD-130835D94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make choices about deviance based on costs and benefits to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sanctions: rewards (benefits) for socially approved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sanctions: punishments (costs) for breaking social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occurs when costs of deviance are higher than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ishment should impose high costs for criminal behavior, as a dete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811-10B0-4627-8F00-E519BD6292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 and Meso-Level Explanation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ist Theories: focus on anomie and st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es: focus on social inequality and power strug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996920" y="88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036-F1CF-45C2-BACF-59EAA4F8F5F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, deviance helps society becaus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examples of unaccepta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s behavior necessary to mainta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ds people together through common rejection of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work for those who deal with devi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s social problems that need to be addressed and thereby creates positiv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s society to creative new ways of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97A5-F26A-40A2-A734-5AC856DB13D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s encourage us to adhere to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bonded to society in four 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ment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conventional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ment in activities that keep them bu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 in the social rules of thei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6A6B-6520-4862-BB19-813697F9CB4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ollow norms, we conform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controls: voices within that tell us when a behavior is acceptable or un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ontrols: society’s formal or informal controls against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occurs when we derive more benefit from conformity than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744F-998C-4E1D-B44E-50CAFDD041D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and social disorganization can cause abnormally high level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: a breakdown of norms caused by lack of shared, achievable goals or lack of socially approved means of achieving tho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is likely in conditions of rapid urbanization, war, or economic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416-7267-474C-95C0-E522784E1B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another source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frustration resulting from gap between socially shared goals and access to legitimate methods of achieving tho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 causes some people to turn to deviant ways of achiev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611C-8C58-450C-BA80-D51D819C259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five ways of adapting (Mer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rmity: embracing society's goals and adhering to approved means of achiev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on: using illicit means to reach approv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tualism: strict adherence to social rules, but with no hope of achiev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reatism: giving up on both the goals and the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ellion: rejecting socially approved goals and means and replacing them with alternative goa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: retreatism, rebellion,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CE2-C93F-4F16-98D5-1B046CB23CF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1"/>
          <a:stretch/>
        </p:blipFill>
        <p:spPr>
          <a:xfrm>
            <a:off x="1255680" y="1417680"/>
            <a:ext cx="7210440" cy="4695840"/>
          </a:xfrm>
          <a:prstGeom prst="rect">
            <a:avLst/>
          </a:prstGeom>
          <a:ln w="0">
            <a:noFill/>
          </a:ln>
        </p:spPr>
      </p:pic>
      <p:sp>
        <p:nvSpPr>
          <p:cNvPr id="60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208-4EED-436C-AC50-76765049B6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of Dev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 results from power struggles between socially unequa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tes use deviance to maintain contr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have the power to define as deviant activities and groups that threaten their interests or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duce crime and deviance, we must alter the structure of society, making it more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E5A-41BC-4EE3-908E-A9E27204F59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819520" y="1600200"/>
            <a:ext cx="3352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066680" y="289548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iance and Social Control: Sickos, Perverts, Freaks, and Folks Like 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are often victimized or defined as deviant due to secondary social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status results from structures such as the gendered division of labor, separation of public and private spheres, and socialized gende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are less often in a position to commit crimes, and women’s crimes differ from me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attitudes toward crime against women differ based on the status of women in the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F19D-2AF3-48F6-9B2F-AB128CA22B5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and individuals: Micr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rime is t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estimate because not all crime is reported to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levels and trends are examined using rates per 100,000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ultiple methods of measuring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209-EE32-46E7-8DD0-2CC00929BCC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rime is measu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orm Crime Reports–F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 crimes: murder, rape, robbery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I crimes: fraud, simple assault, vandalism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Incident-Based Reporting System–F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reported criminal participation 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reported victimization 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method has flaws; triangulation of data leads to the most accurat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1BFD-82D5-48D3-A820-1B60036C4AF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atory or street crime: crimes against individuals or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ctimless or public order crimes: criminal acts committed by or between consenting ad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e crimes: criminal offenses motivated by the offender’s bias against a particular socia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e crimes are committed on the basis of religion, ethnicity or race, national origin, gender, and sexual orientation and are often under-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3033-D0FA-40C6-BA45-6A5D5377E27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involving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crime: ongoing criminal enterprises that aim to obtain personal economic gain through illegitimate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ly organized; rely on violence, cor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nent in societies undergoing transition and/or anomie, and among marginalize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ies include sale of illegal goods and services; infiltrating legitimate businesses; ex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national organized crime takes place across borders and is an increasing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3C2E-9AA9-4670-A0F0-7317E658745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involving organizations &amp;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pational or white-collar crime: violation of the law committed by an individual or group in the course of legitimate, respected occupational, or financial activity (medical fraud-Medicare and Medica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occupational crim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companies (employee th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employees (wage th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the pub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D12-CF77-4812-BE9B-994DBAAEC04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ism: premeditated, politically motivated violence against noncombatant targets by subnational groups or clandestine agents, usually intended to influence an au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domestic or inter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types of terroris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organized crime: criminal acts committed by government offic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complicity in smuggling, assassination, torture, eavesdropping, accepting bribes, cor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5720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348F-1762-4587-A9D2-870C3115D1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national comparis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rates vary across societies du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different levels of stigma, or disapproval attached to disobeying laws and norms (Jap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levels &amp; causes of economic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ncome inequality increases, so does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 in overall econom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71E4-25AC-4E85-B7CF-CFF9F228B07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r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rime: acts that violate international laws, treaties, and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crimes involving transnational conglomerates that smuggle illegal goods, or nations that violate environmental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systems perspective: sees the cause of global crime as economic inequality and competition betwee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m has increased inequality between core and periphery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phery nations may resort to unconventional means to meet their go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1D3-391B-4BF1-81E2-81C15C4760F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internet crime: growing rapid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criminals have a wide audi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tains an “underground web” of illegal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itimate internet businesses inadvertently connect people to illegal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 enforcement is difficult due to uncertainty about jurisd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BE54-A1CE-4F41-A3C1-734EE09F6AC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: the violation of social nor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stic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 is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s may be deviant in one time and place but not i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 or status may be defined as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evi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630-EC3A-4582-911C-EABD7E7A149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minal Justic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perspective: the justice system is important for maintaining order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should focus on deterring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the justice system supports the powerful by depicting crime as a threat from poor people and min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should focus on the injustices of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C2CD-8334-4EE6-864F-1D93460D33D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and J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institutions: completely control prisoners’ lives and regulate all their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mates’ lives are changed thr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gradation: marks inmate as devi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tification: breaks down inmate’s original self as he/she experiences resoci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social systems develop within p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ils as “catchall” asylums for the poor, margin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incarceration rates have increased due to “get tough”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97CA-6AF5-430F-A98A-9A680CA1FB0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s of p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functional perspective, prisons serve many purpo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nge or re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ing dangerous people from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r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il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 recidivism rate is 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kelihood that someone who goes to prison will later be a repeat offender is 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deterrence and rehabilitation functions are not working very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7B1-20DD-4650-B516-7812849E51C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and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can be a source of jobs for comm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prisons are now operated by for-profit compan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izations of prisons has grown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its are found through inmate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D1C0-87AE-4FA6-833A-E301BE64CB0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ath Penalty (or Capital Punish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ntroversial method of contr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ommon argument for the death penalty is that it deters others from committing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s suggest this is not the case; however, the death penalty does serve as re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ath penalty is most common in Asia, the Middle East, and parts of Af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evidence that the death penalty is race and class bi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yland became the 18th state in 2013 to abolish th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6393-2B91-4236-91D2-FDCC8694E5C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otential offen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ocial capital (networks, resources, and shared values) so as to reduce likelihood of crime and impris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inor offen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or job skills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ck probation: early release of first time offenders in hopes that the shock of prison life will det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treatment or half-way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service and work releas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itution: offender compensates victim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ization of prison: attempt to make prisons more cost effective, and make a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860D-3D05-4FB4-9855-454BB499D95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Some acts are inherently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Deviance is relative to time, place, and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Those who deviate are socially recog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Much deviance goes unrecog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Deviants break the law purposefu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Deviance is often driven by emotion, disagreements, or situation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Deviance occurs due to human dishonesty and selfish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People do not attribute their deviance to dishonesty or other negative tra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conceptions about dev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4771-7AC6-429D-8CB9-BBF456A786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: deviance that violates laws and is punished with formal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: a type of norm that reflects opinions about what is considered right and wrong in a particular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nsus crimes: members of society agree about the seriousness of the deviant 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crimes: members of society disagree about the seriousness of the acts, and/or the law disadvantages a particula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: Deviance that violates th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CB03-B2F3-48B2-8EE8-472884C722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Explanations of Devian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ies: focus on individual choices, costs, and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ist Theories: focus on relationships and mean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BD3-6F58-4B6E-928F-AF5DC6C4401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others shape one’s definition of what is normal and 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how society defines some acts as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deviance-related symbols and how they affect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992-FFC5-4303-B4C1-9F06C7039D0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Interactionist The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ing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and behavior become deviant because they are labeled as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ies define behaviors as deviant and impose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(isolated) deviance—actors are not labeled dev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(ongoing) deviance—actors are labe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labeled reinforces deviant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ance becom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with less power and status are more likely to be labeled as deviant (link to conflict the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343E-CE00-4AE6-AB36-78274D2EAB3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Learning Theory of crime and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labeling and differential association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ffects of labeling depend on the individual’s associations with pee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0BE-B656-48DD-8FC6-E7B401CAE6E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3:57:51Z</dcterms:created>
  <dc:creator>Deborah J Barr</dc:creator>
  <dc:description/>
  <dc:language>en-US</dc:language>
  <cp:lastModifiedBy>Stephanie Palermini</cp:lastModifiedBy>
  <dcterms:modified xsi:type="dcterms:W3CDTF">2017-07-03T18:47:13Z</dcterms:modified>
  <cp:revision>98</cp:revision>
  <dc:subject/>
  <dc:title>Chapter 6: Deviance and Social Control:</dc:title>
</cp:coreProperties>
</file>