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  <p:sldId id="274" r:id="rId35"/>
    <p:sldId id="275" r:id="rId36"/>
    <p:sldId id="276" r:id="rId37"/>
    <p:sldId id="277" r:id="rId38"/>
    <p:sldId id="278" r:id="rId39"/>
    <p:sldId id="279" r:id="rId40"/>
    <p:sldId id="280" r:id="rId41"/>
    <p:sldId id="281" r:id="rId42"/>
    <p:sldId id="282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slide" Target="slides/slide19.xml"/><Relationship Id="rId36" Type="http://schemas.openxmlformats.org/officeDocument/2006/relationships/slide" Target="slides/slide20.xml"/><Relationship Id="rId37" Type="http://schemas.openxmlformats.org/officeDocument/2006/relationships/slide" Target="slides/slide21.xml"/><Relationship Id="rId38" Type="http://schemas.openxmlformats.org/officeDocument/2006/relationships/slide" Target="slides/slide22.xml"/><Relationship Id="rId39" Type="http://schemas.openxmlformats.org/officeDocument/2006/relationships/slide" Target="slides/slide23.xml"/><Relationship Id="rId40" Type="http://schemas.openxmlformats.org/officeDocument/2006/relationships/slide" Target="slides/slide24.xml"/><Relationship Id="rId41" Type="http://schemas.openxmlformats.org/officeDocument/2006/relationships/slide" Target="slides/slide25.xml"/><Relationship Id="rId42" Type="http://schemas.openxmlformats.org/officeDocument/2006/relationships/slide" Target="slides/slide26.xml"/><Relationship Id="rId43" Type="http://schemas.openxmlformats.org/officeDocument/2006/relationships/slide" Target="slides/slide27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9E798-E4F1-487F-B458-61207EE250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46F22-6B4F-4F6A-B505-0517B5701B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BDDC7-8547-4A1F-B765-20B8E85FD8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7B099-ED1C-4C8D-9D1A-7E671774DC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78B21-2D8E-4EBE-89AD-8958D91166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73E3E-9706-4625-8503-DE492F88BA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8490B-3D76-4450-A34F-48CCDCAA53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006DE-5171-4634-A306-BC6AC3EEB1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67676-35B1-4942-89B2-01ED00C35A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FD099-E75F-4D50-A4E4-9BDCE7C201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AEDBE-1C80-424C-8404-DD36234AA7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8B06C-9F2D-440A-A13C-D9B4FD84AE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3CC95-60E8-4B8C-8938-36AC18C47C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E4410-097B-47EE-80A3-BE360CEE1D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98D2E-9395-44D0-88FE-4F2F24CBC6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FC53F-C2B6-41B4-B48B-E417C3CF8E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3FD81-B4AF-4EF0-8159-8AB1ED537D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5AA24-07DA-4AC3-B4B4-813660B002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EFC2F-A12D-431D-B63A-AC6758C0A6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E4207-8039-4166-A9A1-FBA9748EC5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C5405-63E6-4F5F-89B3-69BB954AFE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F94EA-0C26-4154-A257-8D82C97132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5CF86-95AB-4481-A5EA-478E05F042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EE1CE-A3CB-410F-8AAF-A6B03B74E4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90845-12F7-4435-B941-FDD1B3968A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A35E7-ADC5-415F-801B-6BA0AFC359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E9EAE-D359-4FD1-8916-38ABEDF022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D08E5-3DAE-4063-B8C1-A173DE2F5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93951-3733-412D-8846-CAE312A41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1C1BF-6C0D-4892-8965-B31F6C5C2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51A03-4E2B-4E70-B571-8D009D2FF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5F941-6786-4A73-9988-4313BA90B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7A303D-10F8-4CEE-B286-A34FB5ADA7C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7FFBB6-F760-416C-A19E-BE75D2CCB11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61E4E2-94BC-481F-945A-25020AC24FB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5E8549-0E11-4633-B3DC-5645C1DB382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B5F259-E5F8-4DCF-AD46-DEFB6D7FD21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B7123-7B42-4FE7-8502-758EFEBFB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4D514C-3420-429C-ABEE-7848C9C0967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22DEE6-25D6-4E7E-BB4F-940C8A9B050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73679B-7B5E-48C9-8791-D643BCCB23B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F5DEE3-2971-470C-B0FF-44377FC6163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788122-6064-46C8-BB0D-4759AD1726C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A8EA83-9B94-4968-9C70-ED73CC30F50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9D0F06-A46E-4BA9-866C-BE085BA13F5A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E778E-0BA5-4D8D-9916-D86A7B3A4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B30D4-15F0-4A25-B86A-9F5179AC2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83D9D-5981-41D1-AB73-E5FC5AF40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C9520-BE61-416A-A2CD-9CED8A9E3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DA9C3-9AFA-4BA7-9684-6382B2F19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D06BF-EDF7-42C3-92B5-36DD4B31F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20284-1E0F-43B3-837C-B8EDD889110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 type="ftr" idx="6"/>
          </p:nvPr>
        </p:nvSpPr>
        <p:spPr>
          <a:xfrm>
            <a:off x="533520" y="6356520"/>
            <a:ext cx="548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allantine, Our Social World: Condensed 5e. SAGE Publications, 2018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4"/>
          </p:nvPr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5"/>
          </p:nvPr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E9AA1-598F-4FCC-81E6-14C62F5ECE0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ymbolic Interaction Theo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cuses on how people interpret interactions and manipulate others’ interpret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wo vari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thnomethodolog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ramaturg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0F59C-CF55-4432-BA4E-FD21C71F9D8B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teraction: Theoretical perspec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ymbolic Interaction Theo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ramaturgy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alyzes interaction as if it were a staged play with audiences, parts, scripts, props, and setting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 perform different parts for different audienc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 learn parts and scripts through socializ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ression management”: we attempt to convey a positive, advantageous image of ourselv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ront stage” behavior: public, scripted, presents an image we hope others will take as re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ack stage” behavior: we relax, let feelings show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1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ECAB0-9BCB-4B47-ADEE-883CDF9184C6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teraction: Theoretical perspec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tional Choice Theory (or Exchange Theory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lationships are formed and maintained based on individual rewards and cost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interaction is sustained when its benefits are high and costs are low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sumes that our choices about interaction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re based on calculations of self-interest (current or eventual payoff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re guided by reas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volve expectations of reciprocity (individual contributions will balance out over tim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38452-8600-4631-9EDC-E6517C5D0E2D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teraction: Theoretical perspec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cial statuses: positions that individuals hold in the social world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atuses define how we interact with other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teraction differs according to whether participants are of equal or unequal statu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atus set: an individual’s combination of statu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cribed status: a status that is assigned at birth and does not change during an individual’s life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chieved status: a status that is chosen or earned by decisions one makes or by personal abil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ster status: a person’s most important status, that takes precedence over other statu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9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39E13-9784-49AD-BAC4-469CDBA595A0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cial status: The link to grou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3B3CF-9533-4B8F-8A52-8B344274484D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cial status: The link to grou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4" name="Picture 5" descr=""/>
          <p:cNvPicPr/>
          <p:nvPr/>
        </p:nvPicPr>
        <p:blipFill>
          <a:blip r:embed="rId1"/>
          <a:stretch/>
        </p:blipFill>
        <p:spPr>
          <a:xfrm>
            <a:off x="1387440" y="1446120"/>
            <a:ext cx="62913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relationship between status and ro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 txBox="1"/>
          <p:nvPr/>
        </p:nvSpPr>
        <p:spPr>
          <a:xfrm>
            <a:off x="762120" y="1600200"/>
            <a:ext cx="3962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les: the expected behaviors, rights and obligations associated with a stat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le behaviors are part of our culture, learned through soci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les and statuses link us to others in the social wor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ectations for a particular status depend on the statuses of those the individual is interacting wi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 txBox="1"/>
          <p:nvPr/>
        </p:nvSpPr>
        <p:spPr>
          <a:xfrm>
            <a:off x="4876920" y="1600200"/>
            <a:ext cx="3962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atuses can be formal or inform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atuses connect us to meso- and macro-level organiz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ole strain and role confli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 txBox="1"/>
          <p:nvPr/>
        </p:nvSpPr>
        <p:spPr>
          <a:xfrm>
            <a:off x="762120" y="1600200"/>
            <a:ext cx="3962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le strain: tension between roles within one stat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le conflict: conflict between the roles of two or more statu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0" name="Picture 6" descr=""/>
          <p:cNvPicPr/>
          <p:nvPr/>
        </p:nvPicPr>
        <p:blipFill>
          <a:blip r:embed="rId1"/>
          <a:stretch/>
        </p:blipFill>
        <p:spPr>
          <a:xfrm>
            <a:off x="5105520" y="1447920"/>
            <a:ext cx="3581280" cy="465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roup: two or more people who interact with each other because of shared interests, goals, experiences, and nee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mbers have a sense of belong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mbership is well-defin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re are rules for members’ behavi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Not all collections of people are groups!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roups form through a series of step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itial intera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ergence of a collective go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ttempts to expand collective goa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C80BF-D040-4E13-AC54-5B4B1FBE501F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roups: The micro–meso conne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urkheim’s Study of Suicid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howed how groups impact individual behavior by comparing different groups’ suicide ra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roup conditions leading to suicid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omie – the group lacks norms or ru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goism – bonds tying individuals to the group are too wea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truism – bonds tying individuals to the group are too stro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EF9F9-0965-4413-A71A-F4141119891E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importance of groups for the individu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s of grou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 txBox="1"/>
          <p:nvPr/>
        </p:nvSpPr>
        <p:spPr>
          <a:xfrm>
            <a:off x="762120" y="1600200"/>
            <a:ext cx="3962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imary groups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ose, personal relationship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nse of belonging, caring, identity, and loyalty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rong influence on behavi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mall membership, lasting relationship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intrinsic value: belonging is the go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4876920" y="1600200"/>
            <a:ext cx="3962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ary groups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rmal, impersonal, businesslike relationship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ist to accomplish a task or go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pecialized tasks and communic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arge membership; may be short or long-term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2"/>
          <p:cNvSpPr/>
          <p:nvPr/>
        </p:nvSpPr>
        <p:spPr>
          <a:xfrm>
            <a:off x="3067200" y="1447920"/>
            <a:ext cx="29336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hapter 5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6" name="Rectangle 3"/>
          <p:cNvSpPr/>
          <p:nvPr/>
        </p:nvSpPr>
        <p:spPr>
          <a:xfrm>
            <a:off x="1523880" y="2819520"/>
            <a:ext cx="6629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Interaction, Groups, and Organizations: Connections That Work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ference group: members act as role models for one another and establish standards against which members measure their condu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group: members feel a sense of loyalty and belonging; often a reference and/or a primary grou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-group: a group that exists in competition with or opposition to an in-grou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D6C6F-37C6-40CD-9A41-5449DAEBB00C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s of grou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7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4DBD1-8491-4376-8416-CE71568187D8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rganization and bureaucrac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9" name="Picture 5" descr=""/>
          <p:cNvPicPr/>
          <p:nvPr/>
        </p:nvPicPr>
        <p:blipFill>
          <a:blip r:embed="rId1"/>
          <a:stretch/>
        </p:blipFill>
        <p:spPr>
          <a:xfrm>
            <a:off x="1878120" y="1295280"/>
            <a:ext cx="53118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dern organizations: formal, rational, bureaucratic; originated during industrialization in the 1700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rmal organizations: complex secondary groups formed to pursue and achieve certain goa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tionality: the attempt to reach maximum efficienc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ureaucracy: a specific type of large, formal organization that attempts to maximize efficiency by establishing formal relations, clear procedures, and stated goa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Contrast: traditional organizations are run on the basis of custom or whim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C1C48-0DA1-483A-B107-0C8B51742943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evolution of modern organiz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rganizational societies: societies in which a majority of people work in organiz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cDonaldization of society: increasing dominance of organizations characterized b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fficiency maximized by same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edictability, nothing left to cha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lculation of everyth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creased control over customers and employe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oes McDonaldization lead to dehumanization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83FC8-9BD2-4044-BA78-2AA9B3FAC8E3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evolution of modern organiz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x Weber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udied growth of bureaucracy in the twentieth centu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veloped “ideal types,” or conceptual mode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deal type bureaucracy characteristic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vision of labor based on technical compete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dministrative hierarch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rmal rules and regul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ersonal relationship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phasis on rationality and efficienc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vision of lifelong care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ureaucracies also have an informal structure, unwritten rules and relationship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D08E1-A371-4FD8-974C-9DE6EBA73193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haracteristics of bureauc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blems of bureaucrac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ienation: workers with boring, dead-end jobs feel uninvolved, uncommitted, unappreciat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ligarchy: concentration of power in a small grou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iron law of oligarch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oal displacement: original purposes are displaced by new, secondary goa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arkinson’s law: work expands to fill the time available, creating inefficiencie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ternative organizational structu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ployee-owned organiz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mocratic-collective organiz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F15ED-019B-4AEA-AD33-84CC0973438A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blems in bureaucrac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me categories of people face special challenges in bureaucracie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fessionals may face conflicting loyalties to their profession and to the bureaucratic organiz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mbers of minority groups, such as ethnic minorities or women, may have little opportunity to reach the highest leve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Nonetheless, both groups make important contributions to bureaucracies.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75011-B9D3-4B11-A80B-74CB9F3201A6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dividuals in bureaucrac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ational &amp; Global Network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ew transportation and communication systems, including the internet, are generating global network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ltinational corporations make their own rules, without oversight bodies: profit, efficiency, and calculability are highly pr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ational and international organizations are governed through rational, bureaucratic syste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me groups rebel against these structures, resulting in global conflic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2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A1793-3390-41F3-B805-EF98234317AA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macro-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cial networks: sets of relationships between individuals, groups, and/or organiz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icro-, meso-, and macro-level network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riends and fami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ocal civic, sports, and religious organization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umni groups, political parties, and subcultu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n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lobal entit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day the Internet influences our network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8F9B7-46B9-4C3B-88F7-93D3B5C1EB8A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etworks &amp; conne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etworks connect us to society and place us within larger social structu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etworks can create opportunities for their members, but also generate obligations that limit members’ freedo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dividuals’ access to networks differs by their gender and other characte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fferences in access to opportunity-enhancing networks are one reason for persistent inequal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3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F801B-2FEB-4F62-BF24-D8DFED261526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etworks &amp; conne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cial interaction consists of two or more individuals purposefully relating to each oth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teraction creates micro-level connec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interaction has three component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actio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common goal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social context governed by nor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action, goal, and context help us interpret the meaning of the intera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7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5D9E9-C25B-40AC-9EC3-DFF75E04ACF5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process of inter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eople assume that others will share their interpretations of a situ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hared interpretations include situational norms, which create cues for appropriate behavi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nn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c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unication (verbal and nonverbal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teraction norms and expectations are learned through socializ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1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FF0A1-4471-4194-B71C-581C16BB7736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elements of social inter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teraction includes verbal and non-verbal communic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verbal communication: interactions using facial expressions, the head, eye contact, body posture, gestures, touch, walk, status symbols, and personal spa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verbal communication ar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ulturally specif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earned through socializ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d in all culture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5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8AD62-ECC2-45C5-BBF4-C65615E876C2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elements of social inter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ersonal space: an example of nonverbal communic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amount of personal space people need varies by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ultural sett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nd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atu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cial context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ersonal space communicates social posi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eople in higher positions have greater control of physical spa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nder differenc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879BB-2ABF-43C0-B295-1B908E2C030D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elements of social inter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tegories of Social Distance in the US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timate distance (0–18 inch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ivate and affectionate relationship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ersonal distance (18 inches–4 feet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riends and acquaintanc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cial distance (4–12 feet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ersonal business rel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ublic distance (12 feet or mor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ublic speaking, especially in formal settings or with high-status speak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376B7-1F4B-42FF-A787-05A2F645BCC9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elements of social inter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0T20:14:11Z</dcterms:created>
  <dc:creator>Deborah J Barr</dc:creator>
  <dc:description/>
  <dc:language>en-US</dc:language>
  <cp:lastModifiedBy>Stephanie Palermini</cp:lastModifiedBy>
  <dcterms:modified xsi:type="dcterms:W3CDTF">2017-07-03T18:44:31Z</dcterms:modified>
  <cp:revision>86</cp:revision>
  <dc:subject/>
  <dc:title>Chapter 5: Interaction, Groups, and Organizations: Connections that Work</dc:title>
</cp:coreProperties>
</file>