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86E1-A7FF-445E-B0E0-C5464133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7E2-D393-497B-8BF9-A9971D539B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56FF-7D94-425A-9FB1-58FD479703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FE4-451B-42C5-B991-49131793F1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6EA-EF59-4752-BD5E-0D6D68ABAE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FB9E-13FE-4D2E-A23F-35C3E14F4C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F59E-1E8F-4CE0-818A-DE481FA7F2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FF40-257D-46EA-9913-D576E56992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830-5ECE-4ED3-A0FA-BFE58B4FA6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01A-7E95-42A0-AF45-55210E8438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877E-3243-4298-BC32-F190589B2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0F5E-2A07-452D-98AB-EC3FC528CF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89F4-A8CF-4C38-9F99-6AD7CAC625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D16-663B-4C7A-9709-3F2DA19E31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AB1-6F46-4770-AF9C-070D2DAD8F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8AF-1D0A-45CE-A426-FAD1B1A538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377-F441-4186-8B96-BEB236AD2C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369-391B-475F-9777-9AAC301171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07B5-3471-450F-9419-82BFAD937B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53FE-C3E0-4733-920C-AB629056AF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D77-6A17-41E1-9025-8EFC1DCD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4EE-D6B9-4845-90B4-FE3423C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731-9F17-469A-8653-FBF2A6A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473-C1E9-4361-8BDF-19FDD4FA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A9B84-17FF-49A4-BA69-5FF2D011BC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E6569-25C1-4361-A41F-F900463DB5A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9AF96-5BE0-450B-8E70-87C83462ACB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DBDC2-21ED-4995-8326-9D8012B4F75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87BE0-08E3-46CD-86C7-304F7C7DCDE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E3D56-D995-4B68-AD32-F91F320943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FACBE-8CB6-42A7-82A6-C8FFDC0FCE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E02A6-B40D-4179-BD09-1F3CC0293A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1AFC2-1695-400D-A3F7-699082FD13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89DC2-D46F-4364-AEFE-F0BC9B2AB22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A620F-D050-43DC-A07D-4009A513AF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5BA63-7500-4707-8A29-FEBDAE13B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28D-CDB1-4ABC-8DBD-330CA5D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86A9-1AE8-437C-9AF8-D8C5D932C4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2B68-D6B4-4E36-944A-5D7C5B83F7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CD0B1-51E9-4413-B42D-65749AD60B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CD765-5AC4-4F82-A7AB-76779C9025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797DC-FAB4-4B29-8C09-9673BCBD3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928-8DCB-4435-8E89-71B8530B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E995-6512-4668-9BCF-5E4778588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20FF5-E5F2-4901-92B8-5DE9ADDDF7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9E76D-A831-4A54-977F-67F19477D6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D840-E05A-4B20-8DDD-1348615FAD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5492-6CCF-45CC-9CF3-CFC5274AE3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086DB-7E0F-4137-BA8A-50D3BFDF89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D9EF6-14E2-46F1-B149-4E1F8C3658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582-55E8-48B7-8F59-C017F00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825-60DD-462E-BCA3-B389BF25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EEA-3EED-4814-8FFD-FB885E22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A50-DA30-40C9-AF49-9D9D50B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058-A7CB-4976-84B4-4AF6749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FFB-5283-4B69-B841-41D7965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F0A1-C512-4CFE-BA75-27ED5E12F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846-CDA9-43D7-92BB-9D6C4725A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8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67F-A7C8-401B-90C5-A576BE4ED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y of the sel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rge Herbert M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ourselves through interaction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we can symbolically recognize objects, we can the view the self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having a name allows us to see ourselves as objects separate from other objects; the difference between “me” and “I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xive behavior: ability to view oneself from the outside,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7F0F-0962-4DCD-8004-A6829574BC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-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Parts of the Sel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I”: spontaneous, unpredictable, impulsive, acts without considering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 requires the ability to take the role of others, anticipating others’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EE8-BFEF-456A-84EE-A0FDAE7901A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Stages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itation: child observes and imitate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: children play at taking the roles of significant others, but do not understand complex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: children take the roles of multiple others concurrently &amp; the role of the generalized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other: a composite of social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behavior comes to be governed by abstract rules, children can enter into novel social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2F90-E2F1-4558-875A-06C5E708738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in the development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owa School of Symbolic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ense of self is rooted in our positions within socia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develop a relatively stable core self, or sense of who we are regardless of immediate setting, based on our most important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have a vested interest in the preservation of the organizations and institutions that contribute to our social positions and sense of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2A5B-EEEA-45DE-B13F-47ACB17E9D3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lf and connections to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throughout the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zation occurs throughout li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: the process of abandoning one or more social positions in favor of others that are more suitable for a newly acquire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 may occur in a total institution, in which people are isolated from the outside world and lead bureaucratically regimented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02F3-B223-4F16-A18E-66D6AA46047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re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: people, organizations, and institutions that enable us to learn the beliefs, values, and behaviors of ou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family, peer group, loc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ducational, religious institutions;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: socialization is stated goal (e.g. the famil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: socialization isn’t a stated goal but occurs anyway (e.g. the med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 shift over the life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agents’ messages may concur 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80BD-63D2-4981-9D8B-387728D80DD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s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use positive and negative sanctions to help teach children right and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and type of sanctions shape the socialization process and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socialization differs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children in the household and birth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3E17-62C9-47AA-BCF0-9F3C66B7F9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ies: Micr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: the wealth, power, and prestige rankings individuals hold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socialization: Parents socialize children to meet expectations of the social class into which they are bo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 class: autonomy, creativity, self-di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class: rule-following, respect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ocialization in the family impacts later socialization in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67C-E3E8-4B89-A4EA-142A369ACE9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ic media as socialization agents: television, computers, internet, DVDs, video games, a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 % of homes have computer and internet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5 % of teens own cellph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 % of children under the age of nine own their ow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C1B8-CFAA-435A-A735-ADDC59F4F74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2743200" y="18288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1447920" y="281952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ization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ing Human and Huma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ho control the mass media can influence socialization within the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essages do these agents of socialization send to childre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impact of children spending more time with media and less time with caregivers and pe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socialization is radicalizing young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0F3-813D-404D-9A8C-30B00A4B785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n a globalized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ism: the situation of individuals or families who have national loyalty to more than one country, often a result of mi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result in multiple and conflicting messages about appropri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ommunications and ev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lead us to interact with diverse others, or solidify feelings of “we” vs. “the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E2F-DC33-4F07-8877-E8512042CF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and macro-leve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: the lifelong process of learning to become a member of the social world, including learning the values and beliefs of ou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: the basic building block of socialization, through which a child is shaped into a human being and becomes a member of 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elf: the perceptions we have of who we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6C2-3A9C-4622-9D1C-CE95DF94925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vs. nurture deb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est explains the human self and human behavior—biology or socializa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(evolutionary psychology): claims our genes “wire” us for soci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r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is a reductio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behaviors vary, are not hardw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s more important than 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8DC-A75E-4CCB-86CF-67A6A0F2DE7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e vs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need human contact, affection, and interaction in order to fully devel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: Cases of isolat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Anna, Isabelle, neglected orph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hese children were not socialized at the proper time, they experienced developmental disorders and could not be fully integrated in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FE4F-FF9A-4215-856C-A00C7538DB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ctivities are part of the socialization exper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e.g. parents,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.g. schools,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 level: e.g. national advertis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mportance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are dependent upon socialized people to help them sur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adequate socialization increases the likelihood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5D42-9716-4C44-8A5C-25F392DCEC0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pectives on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various socializing agents support one another and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various socializing agents have conflict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in power ensure that others are socialized into supporting power structures which benefit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dividuals have little power to decide their fu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456-9151-47D2-B1E6-10447F7779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: the perceptions we have of who we are, derived from our perceptions of the way others respond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of the self allows us to interact with others and function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re not born with a self; its development begins in inf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y and society both contribute to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lf, our ability to be aware of ourselves as individuals, may be distinctive to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6B3-E713-4F44-BDA2-71BF4619D9D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of the self: Micro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mbolic interactionist theory of the self developed by Charles H. Coo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oking glass: “Each to each a looking-g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cts the other that doth pas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75E1-364A-436F-A7CD-2C9134D6353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king glass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"/>
          <p:cNvPicPr/>
          <p:nvPr/>
        </p:nvPicPr>
        <p:blipFill>
          <a:blip r:embed="rId1"/>
          <a:stretch/>
        </p:blipFill>
        <p:spPr>
          <a:xfrm>
            <a:off x="822240" y="3505320"/>
            <a:ext cx="8169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Stephanie Palermini</cp:lastModifiedBy>
  <dcterms:modified xsi:type="dcterms:W3CDTF">2017-07-03T18:39:15Z</dcterms:modified>
  <cp:revision>75</cp:revision>
  <dc:subject/>
  <dc:title>Chapter 4: Socialization:</dc:title>
</cp:coreProperties>
</file>