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5EFC-3C33-4B23-8465-5CA872A18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B749-8FF9-4FCF-B6DD-68A2361D747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t 17 origi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E953-B1AB-473B-AF45-99C74459797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71C1-5924-4F3B-A393-14EBBE50F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D293-74AD-45C0-B400-BBBEF61D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6DF5-7EFB-4659-AA08-C76D26E4B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98E1-D8DD-46F7-BCC0-D5B30B9E5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F31E-B059-486D-AC7C-ABF66AC8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A8876-1421-4962-BD2B-123E8890399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235CB-DFD2-4858-90A0-88A252BBA24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79F99C-FEA6-4E1E-B5EC-FD6B7D0E3F6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0C91D-5654-4882-AE44-CD424806E52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DD9F2-AB01-44EA-AA46-418D344BF2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C56E-DE62-4629-AC1F-D666D1F8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20F8BF-74D2-4F4C-A9BF-9AD5381392F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94C2B-3B41-48DA-90EA-45F67FB43FF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00D69-B424-4D3B-AE93-EB66F45D0DD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B0505-50A8-4CF1-8432-F3414B9206E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1F718-68A4-413F-AA6C-1EC50F4E134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4DE8B-0D5E-46F6-9831-8021A7540C4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560BB7-90DF-4F6D-817A-FB086DDD8B5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FC28-5AB2-47DA-B3DE-8509F1E0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8366-56F3-45E7-ABFA-F6EE5198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1826-2F18-4FB8-88B6-D5D5D56F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FD34-5F47-42BB-85F5-4B0E3E42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05C1-BA09-4ADD-979D-353A57CB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3706-B2A8-48C9-AC69-867807D7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E90F-DABA-4877-891D-FA02ECD856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ftr" idx="6"/>
          </p:nvPr>
        </p:nvSpPr>
        <p:spPr>
          <a:xfrm>
            <a:off x="533520" y="6356520"/>
            <a:ext cx="548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llantine, Our Social World: Condensed 5e. SAGE Publications, 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4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5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50B4-6065-4263-B442-9459F46DFE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ustrial socie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y on mechanized pro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ve division of labor based on expert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d material wealt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ge labor replaces feudal system; high inequality between owners and labor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pulation concentrates in c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inship patterns change; smaller famil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ansion of meso-, macro-level instit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change more rap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255E-14EF-4778-B249-EA4FD4F8198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s of socie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tindustrial or information socie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technological revolution”: compu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d reliance on automated pro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ift from manufacturing to information and service job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ed workforce with high levels of technical and professional 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class inequalities based on 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ientific and creative problem-sol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conomic and technological glob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E7FE-3841-4BA6-823C-1C8F7EDA2C1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s of socie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ltu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as and material objects passed on from one generation to the next in a society, which provide guidelines for action and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es knowledge, beliefs, values, rules and laws, language, customs, symbols, and material prod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3664-5BE4-4612-9F4D-1EB31421CE17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lture: The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ciples of cultu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eryone shares a culture with ot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lture evolves and adapts over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reation of culture is ongoing and cumul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ransmission of culture separates humans from other anim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7F2D-4CB8-4B38-8ECA-14462D5A99A3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lture: The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thnocentrism: the tendency to view one’s own group and its cultural expectations as right, proper, and superior to ot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US foreign relations illustrate how ethnocentrism can produce host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ltural relativism: setting aside one’s own cultural beliefs and prejudices in order to understand another group through the eyes of its own mem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6506-37BB-4482-9B11-4D6F51B25AA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thnocentrism &amp; cultural rela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erial culture: All the objects we can see or touch that are made by humans; the artifacts of a group of peo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material culture: Invisible or intangible aspects of a group’s culture, including its values, beliefs, norms or rules, and langu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0F82-CBD1-4298-8F60-DFB90BC8ACA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mponents of 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lture: The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l cul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s, values, and beliefs that are considered most desirable and consciously taught to new members of socie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cul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s, values, and beliefs that reflect how things in society are actually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9"/>
          <p:cNvSpPr/>
          <p:nvPr/>
        </p:nvSpPr>
        <p:spPr>
          <a:xfrm>
            <a:off x="762120" y="1170000"/>
            <a:ext cx="5181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onmaterial cultu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s (nonmaterial cultu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s are shared judgments about what is desirable or undesirable, right or wrong, good or b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ress the basic ideas of a 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 become a “creed” if they gain the power of religious doctr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ten taken for gran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may arise between groups with different value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0E36-5FE2-458E-BF14-70D6916F4373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mponents of 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liefs (nonmaterial cultu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liefs are ideas we hold about life, how society works, and where we fit into 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e from traditions, religious teachings, experiences, lessons from parents and ot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luence the choices we ma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ten based on values, which are broader, more abstract notions of what is desir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E4BF-FA70-41F2-A63A-8FB6B3D5BAE6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mponents of 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rms (nonmaterial cultu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rms are rules of behavior shared by members of a society and rooted in the society’s value system. They inclu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lkways: desirable but not strictly enfor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s: observed by most, great moral signific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boos: prohibit actions; very strong penal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: formally encoded, violation seen as deserving of formal punish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2321-E255-476A-918C-BB2A7E71FF1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mponents of 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057040" y="1523880"/>
            <a:ext cx="4724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ooter Placeholder 1"/>
          <p:cNvSpPr/>
          <p:nvPr/>
        </p:nvSpPr>
        <p:spPr>
          <a:xfrm>
            <a:off x="533520" y="6356520"/>
            <a:ext cx="548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llantine, Our Social World: Condensed 5e. SAGE Publications, 2018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Rectangle 5"/>
          <p:cNvSpPr/>
          <p:nvPr/>
        </p:nvSpPr>
        <p:spPr>
          <a:xfrm>
            <a:off x="838080" y="25909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ciety and Culture: Hardware and Software of Our Social Worl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nctions are behaviors that reinforce norms through rewards and penal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al san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ve formal san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gative formal san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l san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ve informal san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gative informal san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FF32-C4AC-4853-868A-253FFC9BDD8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mponents of 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nguage (nonmaterial cultu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nguage is the use of symbols to convey meaning, objects, or id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oundation of every 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kes three form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ok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rit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verb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5FAA-5262-443F-91F1-EF8F47A150A3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mponents of 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oken langu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nds symbolize objects or id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nds have similar meaning for all members of 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ritten langu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ages symbolize objects or id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ows societies to store information for fu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ommunication over dista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verbal langu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stures, facial expressions, body postures symbolize objects or id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4AC6-BAA1-4BA4-9BF7-CBFC6B21A09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mponents of 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nguage influences perception and thou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guistic relativity theory posits that people who speak a specific language make interpretations of their reality based on that langu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EC3F-9A30-4B57-9A23-ADB30DDEA99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mponents of 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lture operates at every level of the social wor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333C-008A-42E8-8371-4A942EE7ECD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vels of 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6" descr=""/>
          <p:cNvPicPr/>
          <p:nvPr/>
        </p:nvPicPr>
        <p:blipFill>
          <a:blip r:embed="rId1"/>
          <a:stretch/>
        </p:blipFill>
        <p:spPr>
          <a:xfrm>
            <a:off x="1041480" y="2438280"/>
            <a:ext cx="76708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icro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cultures influence only a small segment of individuals’ lives or a limited period of their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F47C-2C38-4453-967B-15CC3550868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vels of 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eso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ubculture is the culture of a group smaller than a nation but large enough to sustain people through the life sp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es its own unique elements with those of the dominant 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ys a continuous role in members’ l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mbers believe in rightness of subcultu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mbers have sense of “we,” as opposed to “they” (outside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D004-A623-49D1-AAE8-6E5B324B16D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vels of 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eso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counterculture is a group with expectations and values that contrast with the values of the dominant society (i.e. Anti-Govt “Patriot” group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ntercultures wish to reject and replace values of the dominant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and compromise with the dominant society, or withdraw from i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rate at meso level when they continue over time, or micro level when short-liv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6DD8-800C-4D8A-8CB5-728EA885E01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vels of 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acro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tional culture comprised common values and beliefs that tie citizens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fects the everyday lives of all citizens to some ext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t may be less influential than subcul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E309-D9A3-4807-BF1F-3611FC361C5B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vels of 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acro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ization is the process whereby the entire world is becoming more interdependent, integrated, and uni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ization or Westernizati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culture refers to behavioral standards, symbols, values, and material objects that have become common across the glob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1EC1-9058-4198-857A-5478121E8DA5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vels of 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ety represents the hardw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tructures that organize group lif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lture represents the softw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as and material objects that provide meanings and guidelines for li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ety and culture are interdepend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1E14-34FE-4A65-AF04-59E52B4060F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ulture and soci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Picture 5" descr=""/>
          <p:cNvPicPr/>
          <p:nvPr/>
        </p:nvPicPr>
        <p:blipFill>
          <a:blip r:embed="rId1"/>
          <a:stretch/>
        </p:blipFill>
        <p:spPr>
          <a:xfrm>
            <a:off x="1828800" y="1409760"/>
            <a:ext cx="5410080" cy="4662360"/>
          </a:xfrm>
          <a:prstGeom prst="rect">
            <a:avLst/>
          </a:prstGeom>
          <a:ln w="0">
            <a:noFill/>
          </a:ln>
        </p:spPr>
      </p:pic>
      <p:sp>
        <p:nvSpPr>
          <p:cNvPr id="65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1212-FD6B-487A-9EFE-EC0B05EAF05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ety, culture, &amp; our social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icro Leve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mbolic Interaction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cus on how we learn to share meanings of symbols, the basic elements of 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umanness” comes from our ability to influence each other using symbols with shared understand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a society, we use symbols to define what is real, normal, and go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B559-82B4-4E9B-9AC1-E2C89068A35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ltural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mbolic Interaction Theory, co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ree steps through which symbols gain meaning and import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ymbol is cre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ymbol is objectified; it assumes reality independent of its crea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group internalizes the symb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10E9-6562-407E-9BE4-2FBE4A4966BB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ltural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eso and Macro Level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 Functional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ety is composed of interdependent parts, each fulfilling a necessary functio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unction of cultural norms, values, and beliefs is to hold the group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ever sometimes norms, values, and beliefs are dysfunctional for individuals or groups within a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765F-16B2-4C56-A99F-4823D01F9A83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ltural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eso and Macro Level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ety is composed of conflicting groups, each trying to protect its own self-interests and to make its own culture domin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minant groups may impose their cultural beliefs on minorities and other groups, laying the groundwork for confli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ever, dominant groups may manipulate institutions so others learn beliefs &amp; values that justify their power, thus reducing conflict and securing their st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20CD-DC55-48C2-8108-0252513ECE5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ltural theories at the meso and macro-lev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ase of 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y is changing all socie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uld policy-makers respect cultural differences and reduce the rate of change—even if new technology has benefit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2CCC-FF66-4FA6-A91D-56FB59528A24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licy and cultural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ociety may be compatible with many types of culture, but there are lim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uter software doesn’t work with incompatible hardw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tempts to transport US culture to other parts of the world show that ideas such as individualism, democracy, and capitalism do not succeed in all socie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7B4A-5C34-459F-A066-BC10677EFAE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it between hardware and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eties are composed of structur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ons we ho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oups we belong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itutions we participate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6539-6ED3-4D82-9FC9-6C9623A826D5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ociety: The hard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volution of socie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chanical socie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mall, simple, premoder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ttle division of labor except by age, s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d together by common beliefs, values, and emotional 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64796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c socie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rge, complex socie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ve division of labor, specialized task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d together by interdependence of specialized individu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0"/>
          <p:cNvSpPr/>
          <p:nvPr/>
        </p:nvSpPr>
        <p:spPr>
          <a:xfrm>
            <a:off x="685800" y="1828800"/>
            <a:ext cx="777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mile Durkheim’s Types of Societi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eties vary in terms of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vision of lab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dependence of pos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ical advanc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s and uses of ener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DE66-0018-499C-A2B9-CB95E11A5723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olution of socie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unter–gatherer socie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 by hunting and gathering available fo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madic, few material posse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mall groups (20–50 members), organized around kinsh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vision of labor only by gender and 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cus on well-being of whole gro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aring of resources regulated by complex systems of oblig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3324-0622-428B-9A0B-1D6609D1175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s of socie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rding &amp; horticultural socie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rding societies: keep herds of domesticated animals for fo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al societies: use primitive gardening and some animals for fo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mi-nomadic, some material posse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d group size (up to 3,00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e a food surplus, leading to material inequalities, status, and power hierarch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32DA-0420-471D-B3FE-8FBEA742E0E5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s of socie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gricultural socie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ise crops for food, using technological advances (e.g. plows, irrig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manent settl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pulation of up to a mill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rth of feudal syste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od surpluses allow some to leave land, trade goods/services for fo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ergence of socia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ergence of meso-level instit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2563-46D9-496E-81BA-218FB1DD089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s of socie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7:53:14Z</dcterms:created>
  <dc:creator>Deborah J Barr</dc:creator>
  <dc:description/>
  <dc:language>en-US</dc:language>
  <cp:lastModifiedBy>Stephanie Palermini</cp:lastModifiedBy>
  <dcterms:modified xsi:type="dcterms:W3CDTF">2017-07-03T18:36:29Z</dcterms:modified>
  <cp:revision>74</cp:revision>
  <dc:subject/>
  <dc:title>Chapter 3: Culture and Society: Hardware and Software of Our Social World</dc:title>
</cp:coreProperties>
</file>