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EA47-D46C-47A5-9004-4F8D0A81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DB5-60E0-45B3-98C1-E531C856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606-A255-47B1-BF19-7D249D85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55D-94A7-47F8-A662-959F79B15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C67-4638-4419-8A36-B95300E3C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9A5-0878-4FCD-85F9-607AC904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876-AC51-453F-8ED3-512DE438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B5E-7EDB-4BA2-B396-480A1A6E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0318-3D3C-492C-BC6C-90D59F9F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A7AD-2229-4027-9A31-B4A01F7F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500-67D0-49DB-8D26-1A6D244D4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817C-E6F3-4360-B66F-993D5159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492-A536-40D9-AAD7-1112A15C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10D-C39D-4A30-BBD8-7991A66E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B0DC-2650-4069-A74B-4C6A73CA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229-AC6F-4568-8C37-C5693AB4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49B-5B78-45D5-A084-EF114BDD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0B94-DD97-4A7B-9D67-C3097AFF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0F6-5A0F-423E-862A-1124A704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D24C-A6D6-470E-B50D-5506E76B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CCA8-BA61-4C19-92D1-5CEFE8AE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B42-106F-4E81-A2CE-FFEC4641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772-979D-46AA-8ED7-F0A0B885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90F-E54A-439A-9D12-F71DFE1E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6D3-C068-4D3A-AC78-453E6C62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9FC5-AE56-421D-AF36-B8850B99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195-7FD6-496A-BCBD-D6B1B931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A01-2C3F-4296-BF94-2078FECC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66B-8B1A-4481-8A65-DB5F4CAD2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9712-C39F-4FBE-936F-80761E24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F6F-371C-49BE-BF84-0748313D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72D-0906-4BCC-BCCD-7CDA83B8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CC6-90FA-48A0-8510-D8F1C988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39C-E0D4-4F3B-9582-F5E5E593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4C3-090D-40C8-89F0-6FF1AE9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71A53-E36B-4553-B36B-DF070AC9CD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0EF8C-B5D2-4716-B075-FB8BE7D864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2CDA3-BF3E-43BF-8425-4BC29ED9C0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9FAE-7D1C-4AEA-A2D1-E159DED19E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1580B-FBCE-479C-9EAF-A2617D691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A07-F42D-432E-8B19-95834E5C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0E3F0-764D-4B12-87BF-835D8D4192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8B297-205E-4195-A7D5-C4A765520F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76DDC-8628-40D5-8561-A707AE6138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FC0AF-DFBF-478B-AD5D-1483FEFF1A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FC417-9158-47E6-A875-69297EE7E5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EF2D-A202-4E74-9F54-B85CED5B58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D66DD-09D9-4B84-8CAA-47E085595E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DC0-6380-4A65-A735-FF1E7E4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69B-2F2E-480D-8C92-6019114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66E-8DA0-4E76-9934-3068FB85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952-D194-445A-BB21-13B85D76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D21-5596-48DC-B6F1-DBF681C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717-F643-43B8-8A4C-9DB1C3B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0DC-135C-48A5-B4CE-2D94F1F92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9216-9E91-4735-941D-F5044A97B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-functional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functional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art of society has a necessar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s fit together into a stable, orderly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 may be manifest (planned) or latent (unintended); some things may be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laims are abstract, difficult to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easily explain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conflict is harmful, which isn’t always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stability is good, ignoring inequ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heorists: Comte, Durkheim, Mer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571-2995-4C8C-B5F1-2DFD034ABD4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alities in resources and power create conflict, which underlies all social re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ful impose their values and beliefs on weak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leading to greater equality is desi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the micro-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test empi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easily explain cohes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s on assumption of self-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Marx, DuBois, Dahrendorf, C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117-6447-48EC-936A-05E39A3473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sociologic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ed in conflict theory, 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hierarchies disadvantage women and advantage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has traditionally been male dominated, resulting in an incomplete view of the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should address the intersection of gender, race, class, and other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DBC0-3D11-4B23-95F7-3C44D8266C1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ehen (understanding): emphasized the importance of interpreting the meanings people give to their actions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d on bureaucracy guided by rationality as key element of modern organizations (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d how history has been shaped by politics, economics, religion, psychology, and ideas (ma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stant Ethic and the Spirit of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d explanation for how capitalists view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810-2130-47BC-9F24-328F8A5A52B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heory is right or wrong; each has advantages and disadvantages for studying particular levels or aspects of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E64-B77F-4F79-95D5-56DB264401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282680" y="2819520"/>
            <a:ext cx="71517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a research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ing the research plan and method for collec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ense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8930-FD46-4F8C-821B-93AAB7E22E7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in planning a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Define the problem cl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estion must be specific and 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Find out what is already known abou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existing theory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ormulate hypotheses and defin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is: educated guess about the relationship between two variables, which can be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: concept that can vary in frequency of occurrence across persons, places, o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izing a variable: linking the variable concept to a specific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13C-87EF-4E9E-98A8-595FE1D2C3A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aims to find caus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ys that two variables can be rela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: variables change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ation: one variable causes another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variable (IV): the cause of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t variable (DV): the variable that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: change in IV must precede change in D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urious relationship: IV and DV change together due to effects of a third variable; not a causal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variables help eliminate effects not related to the hypothesis, especially spurious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A45-CC75-4CFC-9F2F-519C58BDECA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design is important: the value of a study depends upon the quality of it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methods depend upon the level of analysis of the research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sociological research metho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F42-5431-4566-89D0-56C10D4195D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gather information from many people about how they think or what they w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asking respondents a set of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: questions asked by phone or in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: questions and other types of i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-ended: respondents can say what they w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-ended: respondents must choose from a set of predetermined ans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8E00-72D7-430D-A54E-3CDB4B9ABF4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52400" y="1828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ining the Social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Do We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 and open-ended questions yield in-depth information, but are time consuming and cos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and closed-ended questions provide less information, but are cheaper and more prac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C07-8992-4325-80E5-4CDB01A6F35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 (observationa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systematically observe and record interaction in the settings where it takes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ield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articipant observation: observation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researcher participates in and observes activities of group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2F2-E8F4-44CA-B2F4-F62723618C9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y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qualitativ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ative data: written or verbal observations, used to interpret the meaning of some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data: numerical, “hard” data, can be conveyed with percentages or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potenti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the group being studied may be altered by the presence of the resear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as: researcher may become so involved in the group that objectivity becomes diffic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18FF-0BB8-42A6-8C42-CBEA0B4A2E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s a powerful test of 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a controll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manipulate an independent variable and determine its effects while all other variables are held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group: subjects who are exposed to the effects of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group: subjects not exposed to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experimental group is exposed to the variable, the two groups are compared to determine its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used to study many sociological questions, research effects may result, and it is unethical to introduce many variables into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81A-9531-4B94-A875-0D1FE9A3C0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aluable test, b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be used for questions dealing with macro-level phenomenon that can’t be placed in a controlled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study questions involving independent variables that might cause harm to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subjects may be affected by the fact that they are in a laborator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6E5-7001-48AE-87D5-AA80DE33577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is used in new ways, especially i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rom past years are des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concerns meso- or macro-level social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analysis: employs data already collected for other studies or by agencies such as the Census Bureau or United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analysis: systematic recording and classification of information from written or recorded sources, e.g. newspapers or 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860E-5C0F-4D65-80FA-7A5222F4D7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sources may be inexpensive; research is unobtrusive and may be easy to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y not represent the precise population the researcher wishes to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problems with the original data will carry over into the secondar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does not capture the “human side” of research questions as well as interview or observatio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EFF-9BDF-44AA-AEAC-D533D2C1B68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 (or multiple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methods of data collection are used to increase the amount of data and the accuracy of f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, field study, experimentation, and existing sources may be used in various combi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6EA-7BBC-44AF-A57D-50752B1ADF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ing (al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: a small group of people who are systematically chosen to represent the larger population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ative: accurately reflects the population being studied, so findings can be generalized to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: every person in the population has an equal chance of being selected for the sample; the most common type of representative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969B-EFF8-49AC-8D2D-17E57CCA95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 is to determine relationships between th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must be cl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er must choose most effective tools for analyzing relationships among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 with and criticism from other researchers aids accuracy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should be replicable, or capable of being repeated so results can be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E19C-BFBA-4B26-925B-87FEB27A9A8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uses scientific methods to expand knowledge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atic use of theories and research methods makes sociology much more than guesswork or opi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C50-054A-449A-8B0C-D01D26C511E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s underlying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er develops a report, includ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 of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nalysis, which may include tables or figures that summarize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: Are hypotheses supported b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s and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cial science no one study can definitively prove a hypothesis; instead, findings may tend to support or reject a hypothe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93F-7A47-4069-92C0-B07934CE065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cal research is bound by ethical codes which generally require tha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bjects give informed consent to participate in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 are not harmed or put a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cy is not invaded unnecess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te information is pro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findings do not cause h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Subjects Review Boards at univers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institutions help protect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ABB-22D1-4543-AE04-29B94AE3E5C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ical issues in social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ociology: attempts to integrate sociology into communities in order to promote public debate and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4580-6D83-4126-A81C-C99B90DD5E5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sociology to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thought before sociology: strongly influenced by religion and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ociology arose in nineteenth-century Europe, influenced by several condi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nialism: exposure to othe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Revolution &amp; French Revolution: desire to know how dramatic change could be systematically expl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the natural sciences: desire to apply scientific method to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902D-F949-441C-A7F7-ED1957DB37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gust Comte &amp; the scie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ined the term “sociology” in 18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t society’s problems could not be understood by philosophical or religious speculation; scientific knowledge w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ain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olds society toge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statics or structu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re change in societ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dynamics or pro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548-3F3B-4B62-BA67-73FEF30A71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y after Com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massive social and economic change brought by Industrial R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relationship between micro-, meso-, and macro-leve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ical theorists: Emile Durkheim, Karl Marx, Harriet Martineau, Max Weber, and W.E.B. DuBo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scientific method to test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5D9-1DE8-4761-9A18-0D28F70E3B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tical perspective: a basic view of societ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s sociological research and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 overall approach to understanding social behavior, social systems, and relationships betwee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micro- or macro-level; all can be used at the meso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602-CFC1-4A18-81FE-3F3E689E708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logy’s major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ocial construction, interpretative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interact on the basis of shared symbols to construct a meaningful world—which then serves as a basis for further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hasize agency, individuals’ active role in constructing their social environments, or how their social positions shape their co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macro-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study concepts like “mind” and “sel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George H. Mead, the Iow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82B-7FAA-4EEB-8CE9-6239A88F28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ct by making rational, self-interested decisions that will maximize their rewards and minimize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lects macro-level processes and micro-level, internal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easily explain altruistic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do not always act rationally or accurately assess their self-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A08-A251-4F07-AA82-E0A0F8586E7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Stephanie Palermini</cp:lastModifiedBy>
  <dcterms:modified xsi:type="dcterms:W3CDTF">2017-07-03T18:30:15Z</dcterms:modified>
  <cp:revision>116</cp:revision>
  <dc:subject/>
  <dc:title>Chapter 2</dc:title>
</cp:coreProperties>
</file>