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C1A1-B461-4A11-8A4B-AA7B3ECC4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006F-E384-47D6-93BA-ADC62285AA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D1D2-A3BC-406D-8BAB-604EE71A15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F2D8-5D5A-48BC-B4D6-C952C02B5A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A6A9-CE66-47F9-A2DE-F94D88E9C0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89A3-32DD-44F3-A734-3A957439AE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1348-74A9-4E0E-AA5C-A634789D6B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5320-66ED-4466-B427-44B840DA9F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3112-6D44-4196-BB2C-AC96457FCF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2243-40C3-41B1-8751-77212A5D4A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2123-9E58-4292-AC0F-F217C2C096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493C-A598-4469-81A1-49A3E25A6D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BFBD-2248-41FE-B3B0-EAF3304902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7E15-ADF2-4591-B644-1FBF2E13C2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3380-852E-4D91-BB9D-BCEAE43EA6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3433-01B5-4027-9622-12035B66F6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C9E9-F100-4709-9297-12632637A6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0AAE-76C9-4C92-969D-E532C0856A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4FA0-0B94-498B-BAA6-2806C87B51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13F7-F3F0-465F-83D1-0784336F24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re I cut the bit about the scientific method as it is not in the condensed ver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400B-0BB1-40EB-A3CA-372C091834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0FBC-DD52-4CEB-9FAD-3E238BEE6F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F20-A72C-4C3A-9F2B-605DC013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7DB-E1E6-4E9A-AD32-5E7F444D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6F82-A415-4BC7-8DFB-E1628D16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31C-ABE5-4180-976B-E80AB32C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C983-ACF7-4130-AFE5-07BCE6D4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C1BFB-B225-4D77-BC7E-3A7075564E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2472C-A857-491D-9717-E263B56D53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8BD45-24E9-43D4-AF56-17938B892F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DE702-1345-43B7-A213-3CDAF895D8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98165-1C2D-4557-A4CF-BD696F1E83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4F4-FF39-4056-97CC-EBB22AAB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7A8ED-0F5B-48A6-AEB7-C024C84835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DE8E5-5372-43A0-98BC-89B87FFDD7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9FBFC-487C-4C93-8568-CD134BCD9E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10A10-946E-43BF-BAF0-17DA8735D9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F9595-77CB-4FC9-8DA1-AEDBB8EE0C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27F36-5896-4B60-9C2E-FC785D6C31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FF4F5-27ED-43CB-AD28-3672999DDC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916-38E8-4E5A-9921-62FB513F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BAE5-7567-4C59-B6BA-91782375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9A2B-2200-4B2E-B0FA-16927937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D8C-E287-4CC1-9A35-EDC18B2B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A0C-8CCB-4023-996F-F35D99DB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C35-B2F1-4881-BAA2-1A71DCB0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C619-F80E-43D4-AEDD-D66BE68712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52DE-3720-4814-B0E6-C6CB075B55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ing the social sci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tudy aspects of human behavior and social life, but each has a different focu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anthropology: the culture or way of life of a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ychology: individual behavior and mental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Science: government systems and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s: economic conditions and how people organize, produce, and distribute g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y: human interaction, groups, and soci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ociolo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6249-0A02-4044-AE55-2721C58F6AE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sential ingredients in sociological stud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observe what is happening in the social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s us to be more effective as we carry out our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re to understand and explain why it is happening (i.e. High School Dropou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sociologists do—and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ACD3-DF5C-48C2-9AC5-80C54930F8D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practical rewards of sociological stud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awareness and self-impr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understanding of social situ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ive, systematic understanding of both domestic and global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of diverse cultural persp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ess the impact of social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eciation of the complexities of social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ful ski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sociologists do—and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5BDD-6F6E-42C7-B53D-4175D6827C8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sociologists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in colleges and univers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, conduct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in social service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ress interpersonal relations or deviant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in busi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ress organizational needs or human resour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in govern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data for policy and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sociologists do—and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BC9C-8E0C-4E1A-B44F-F39E7729831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ful skills honed in sociological tra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ion &amp; interpers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sis and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r/techn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sitivity to diversity and global understa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ing and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ptual, problem-sol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sociologists do—and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2C7B-AA4E-4F79-AC26-5A7A928683F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s of analysis: size of the social groups being considered, from the smallest to the larg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sociology requires understanding multiple levels of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ocial world model allows us to picture levels of analysis in our social environment as an interconnected series of small groups, organizations, institutions, and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t question: How do the levels connect or conflict with one anoth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BDB6-736C-4B6F-8DC4-B6D694933AB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5" descr=""/>
          <p:cNvPicPr/>
          <p:nvPr/>
        </p:nvPicPr>
        <p:blipFill>
          <a:blip r:embed="rId1"/>
          <a:stretch/>
        </p:blipFill>
        <p:spPr>
          <a:xfrm>
            <a:off x="2514600" y="1289160"/>
            <a:ext cx="4038480" cy="5033880"/>
          </a:xfrm>
          <a:prstGeom prst="rect">
            <a:avLst/>
          </a:prstGeom>
          <a:ln w="0">
            <a:noFill/>
          </a:ln>
        </p:spPr>
      </p:pic>
      <p:sp>
        <p:nvSpPr>
          <p:cNvPr id="56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134B-9C29-4E87-87B3-6B4F077F5FA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units: interconnected parts of the social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structure: a particular combination of social units that orders our l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institutions: provide the rules, roles, and relationships to meet human needs and guide human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society: a population of people living in a specified area with a common political authority, many common ideas, and a social structure and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1616-AFDD-4CE1-BA8F-C029CADA51C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processes: actions taken by people in social units. For exampl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of socialization: how we learn to be productive members of socie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of stratification: process of layering people on the basis of birth, income, or other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of change: every social unit is continually changing, and change in each unit affects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3020-5596-48CE-9DF9-EE73630F394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nvironment: the setting that surrounds and influences each social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physical, organizational, or technological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unit has its own distinctive environment, to which it must adj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understand a social unit, we must consider not only the structure and processes within the unit, but also its interaction with the surrounding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08E5-CB19-4C66-ADA1-ACB76C58D5B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514240" y="19047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itle 1"/>
          <p:cNvSpPr/>
          <p:nvPr/>
        </p:nvSpPr>
        <p:spPr>
          <a:xfrm>
            <a:off x="1600200" y="2895480"/>
            <a:ext cx="6400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Sociology: A Unique Way to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View the Worl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Footer Placeholder 2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EEA2-F581-4FB2-B8F3-B0DB6846E75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ying the Social World: Levels of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ocial world can be studied at many leve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(individuals and small group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ce: micro interactions form the basis of all social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(intermediate size uni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ce: helps explain relations among institutions, organizations, and large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(nations, global &amp; international tren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ce: helps explain how larger social forces shape everyday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level adds depth to a top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5449-ABEF-4DDE-ABCC-55808004E36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6" descr=""/>
          <p:cNvPicPr/>
          <p:nvPr/>
        </p:nvPicPr>
        <p:blipFill>
          <a:blip r:embed="rId1"/>
          <a:stretch/>
        </p:blipFill>
        <p:spPr>
          <a:xfrm>
            <a:off x="852480" y="1752480"/>
            <a:ext cx="8142120" cy="304812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7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Slide Number Placeholder 8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6EAE-5B32-4DDF-BEA3-30E84630749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level of analysis would you use to examine each of the following quest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couples divide housework responsibiliti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factors determine the percentage of women in political power in a certain countr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the size of a school’s sports stadium matter for students who are choosing a colle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3032280" y="336600"/>
            <a:ext cx="405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3314-FAFC-46DD-8F84-8648E0DFE12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ree questions could be studied from any of the levels, or from a combination of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6" descr=""/>
          <p:cNvPicPr/>
          <p:nvPr/>
        </p:nvPicPr>
        <p:blipFill>
          <a:blip r:embed="rId1"/>
          <a:stretch/>
        </p:blipFill>
        <p:spPr>
          <a:xfrm>
            <a:off x="988920" y="3218040"/>
            <a:ext cx="7775640" cy="1338120"/>
          </a:xfrm>
          <a:prstGeom prst="rect">
            <a:avLst/>
          </a:prstGeom>
          <a:ln w="0">
            <a:noFill/>
          </a:ln>
        </p:spPr>
      </p:pic>
      <p:sp>
        <p:nvSpPr>
          <p:cNvPr id="59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97BE-7437-4C05-B60C-DFC164BAF7C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s are fundamentally social be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ocial world is not just outside us; we also carry it within 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take social patterns for granted as routine, ordinary, and expec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out socially shared expectations, life would be chao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and the social world mutually influence one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is the social world importa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ooter Placeholder 5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Slide Number Placeholder 6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9310-BE24-42C3-95DA-EDA55512552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y: the scientific study of social life, social change, and the social causes and consequences of human behavi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ists ask questions such 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and how do people and groups interact with one another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are different groups or societies organize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they deal with conflict and chan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changes in one society affect other societi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ociolo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8577-66FC-4DE9-A1A4-EC66A247E21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ists study groups of all siz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ads (e.g. a romantic coup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groups (e.g. a famil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groups (e.g. the auto indust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s (e.g. the US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lobal society (the world as an interdependent enti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ociolo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49CA-4BE1-4B4D-86D1-87C7FEB3D52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lying assumptions of soci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are social by n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live most of their liv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s between people and groups are reciprocal: each influences the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s feature recurrent social patterns, ordered behavior, shared expectations, and common understan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and change are inevi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ociolo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8C9F-1B1D-4955-A81F-2611EA84D3B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y vs. Common Se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sense ideas seem sensible to any reasonable person; they are taken for granted and rarely questio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ociolo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093E-FC5B-4AF4-8AE3-76B96EC3E37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ociological imag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d by C. Wright Mills as understanding individual problems to be rooted in broader social or public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social factors influence layoff rates and personal experiences of unemploymen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have social factors shaped the causes and rates of divor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ociolo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6B1E-8946-4B80-8839-66C9126F151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s sociologists do and don’t 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ists don’t ask questions that require philosophical or moral judg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ists do ask questions that can be studied objectively and scientif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sociologists may study a group’s religious beliefs, but they do not make judgments about whether the beliefs are right or wr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ed sociologists conduct research to create change, for instance through social policy or by helping organizations solve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ociolo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CEDF-7671-4582-A2B5-8CD6BF005A7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22:26:17Z</dcterms:created>
  <dc:creator>nscrofano</dc:creator>
  <dc:description/>
  <dc:language>en-US</dc:language>
  <cp:lastModifiedBy>Stephanie Palermini</cp:lastModifiedBy>
  <dcterms:modified xsi:type="dcterms:W3CDTF">2017-07-03T18:21:38Z</dcterms:modified>
  <cp:revision>1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261033</vt:lpwstr>
  </property>
</Properties>
</file>