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799-B9B2-460B-8675-6351B2C4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BD4-5500-4FC2-ABD1-DA8685A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16C-481A-4BDD-828C-0361F94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AC4-4456-4E48-806D-993FD6B1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0D3-17A3-43BD-91BD-7331C54D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825-EC9E-4BAF-B7D3-1EFA95F2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B7D-B630-486C-A0BD-3F56504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B32-C340-4016-BBB4-0CA0A69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79B-BB1F-4F4C-BDEF-13C08F7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3EB-E3E1-4744-9A76-41919DDF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DD0-1D1E-4B14-9652-C2AEB689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709-56FF-4F42-B26E-02C243C6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9692-62A4-4623-B666-DB99317BDB76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451A-3B47-4158-AE67-D85790A8B3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2975040"/>
            <a:ext cx="5943600" cy="9144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92400" y="493560"/>
            <a:ext cx="4759200" cy="59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689040"/>
            <a:ext cx="8382240" cy="547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7T02:36:29Z</dcterms:modified>
  <cp:revision>114</cp:revision>
  <dc:subject/>
  <dc:title>PowerPoint Presentation</dc:title>
</cp:coreProperties>
</file>