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2228-C041-4320-829D-BC892FE8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482A-FEBD-43BB-96EE-756CEAAC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FAA4-B1B1-4D1E-8312-40B949F9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088E-46C9-4F42-9508-D4296611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02DC-0C1D-4318-AE0C-0C80310F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0279-583D-4224-8453-C6A3F243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296D-86B6-4152-93D3-DB6168B0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E069-922A-4A9A-BC32-EE584089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CB4B-4EB0-4A2D-AB96-4DF28DB4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0040-4A12-49D3-87FD-8CE335AD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0FAE-A582-40B7-B850-81AA3EE7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DB1D-F6C7-48C5-B334-944101A2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0" y="6603840"/>
            <a:ext cx="9144000" cy="25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35"/>
          <p:cNvSpPr/>
          <p:nvPr/>
        </p:nvSpPr>
        <p:spPr>
          <a:xfrm>
            <a:off x="8426520" y="662940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7495-3F07-4FD2-941B-F00EB35E5C89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ight Triangle 5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d3d3d"/>
              </a:gs>
              <a:gs pos="50000">
                <a:srgbClr val="818181"/>
              </a:gs>
              <a:gs pos="100000">
                <a:srgbClr val="3d3d3d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46A9-55E3-44A9-9B21-C021E597AE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ectangle 2" descr=""/>
          <p:cNvPicPr/>
          <p:nvPr/>
        </p:nvPicPr>
        <p:blipFill>
          <a:blip r:embed="rId1"/>
          <a:stretch/>
        </p:blipFill>
        <p:spPr>
          <a:xfrm>
            <a:off x="1755720" y="3011400"/>
            <a:ext cx="5943600" cy="835200"/>
          </a:xfrm>
          <a:prstGeom prst="rect">
            <a:avLst/>
          </a:prstGeom>
          <a:ln w="0">
            <a:noFill/>
          </a:ln>
        </p:spPr>
      </p:pic>
      <p:grpSp>
        <p:nvGrpSpPr>
          <p:cNvPr id="81" name="Rectangle 5"/>
          <p:cNvGrpSpPr/>
          <p:nvPr/>
        </p:nvGrpSpPr>
        <p:grpSpPr>
          <a:xfrm>
            <a:off x="-60480" y="-73080"/>
            <a:ext cx="9264960" cy="987480"/>
            <a:chOff x="-60480" y="-73080"/>
            <a:chExt cx="9264960" cy="987480"/>
          </a:xfrm>
        </p:grpSpPr>
        <p:pic>
          <p:nvPicPr>
            <p:cNvPr id="82" name="Rectangle 5" descr=""/>
            <p:cNvPicPr/>
            <p:nvPr/>
          </p:nvPicPr>
          <p:blipFill>
            <a:blip r:embed="rId2"/>
            <a:stretch/>
          </p:blipFill>
          <p:spPr>
            <a:xfrm>
              <a:off x="-60480" y="-73080"/>
              <a:ext cx="92649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0"/>
              <a:ext cx="91440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2400" spc="-1" strike="noStrike">
                  <a:solidFill>
                    <a:srgbClr val="d4d4d4"/>
                  </a:solidFill>
                  <a:latin typeface="Arial"/>
                </a:rPr>
                <a:t>Personality Theor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1800" spc="-1" strike="noStrike">
                  <a:solidFill>
                    <a:srgbClr val="d4d4d4"/>
                  </a:solidFill>
                  <a:latin typeface="Arial"/>
                </a:rPr>
                <a:t>A Global 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4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852480" y="623880"/>
            <a:ext cx="7439040" cy="56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13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68120" y="1773360"/>
            <a:ext cx="8807760" cy="33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13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39680" y="2308320"/>
            <a:ext cx="8864640" cy="22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4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217440" y="892080"/>
            <a:ext cx="8709120" cy="50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13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80880" y="695160"/>
            <a:ext cx="8382240" cy="546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1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80880" y="1440000"/>
            <a:ext cx="8382240" cy="39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Visual review page 4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276640" y="455760"/>
            <a:ext cx="4590720" cy="60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Chapter Ope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211480" y="541440"/>
            <a:ext cx="4721040" cy="59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13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380880" y="2381400"/>
            <a:ext cx="8382240" cy="20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13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781200" y="801720"/>
            <a:ext cx="7581600" cy="54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1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80880" y="1539720"/>
            <a:ext cx="8382240" cy="37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4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239760" y="2028960"/>
            <a:ext cx="866448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13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80880" y="730080"/>
            <a:ext cx="8382240" cy="53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1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80880" y="725400"/>
            <a:ext cx="8382240" cy="540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1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80880" y="754200"/>
            <a:ext cx="8382240" cy="534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5:12:30Z</dcterms:created>
  <dc:creator>Stacy - McGraw-Hill Higher Education</dc:creator>
  <dc:description/>
  <dc:language>en-US</dc:language>
  <cp:lastModifiedBy>Durga Devi</cp:lastModifiedBy>
  <dcterms:modified xsi:type="dcterms:W3CDTF">2016-09-08T03:54:49Z</dcterms:modified>
  <cp:revision>116</cp:revision>
  <dc:subject/>
  <dc:title>PowerPoint Presentation</dc:title>
</cp:coreProperties>
</file>