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322D-0150-4FE7-8B16-346EE8CD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5AC-CEC8-4289-9B25-4E43E06D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E25C-0285-496F-8BB8-A0465CB0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4B07-F369-4867-A622-67ABF271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4FD9-DAEB-4AA4-9244-12448DC5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0156-DE6C-4923-A7F7-221905BE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EA6-14EC-406E-8F58-DA925EEE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BC5A-AEBD-41B0-9A8A-0C077742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1270-8521-4B26-9F6A-24EE5C50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9067-C527-4AE7-A8AE-AD852C41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264D-620B-4E4F-8EB1-CA3F008C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D545-A109-4D20-A289-AF3A7005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0" y="6603840"/>
            <a:ext cx="9144000" cy="25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5"/>
          <p:cNvSpPr/>
          <p:nvPr/>
        </p:nvSpPr>
        <p:spPr>
          <a:xfrm>
            <a:off x="8426520" y="662940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0025-83F7-49BF-9FEA-C5E2BAA0063E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ight Triangle 5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d3d3d"/>
              </a:gs>
              <a:gs pos="50000">
                <a:srgbClr val="818181"/>
              </a:gs>
              <a:gs pos="100000">
                <a:srgbClr val="3d3d3d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6267-E1DB-49D3-8EF3-35F4F1C965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2" descr=""/>
          <p:cNvPicPr/>
          <p:nvPr/>
        </p:nvPicPr>
        <p:blipFill>
          <a:blip r:embed="rId1"/>
          <a:stretch/>
        </p:blipFill>
        <p:spPr>
          <a:xfrm>
            <a:off x="1755720" y="3011400"/>
            <a:ext cx="5943600" cy="835200"/>
          </a:xfrm>
          <a:prstGeom prst="rect">
            <a:avLst/>
          </a:prstGeom>
          <a:ln w="0">
            <a:noFill/>
          </a:ln>
        </p:spPr>
      </p:pic>
      <p:grpSp>
        <p:nvGrpSpPr>
          <p:cNvPr id="81" name="Rectangle 5"/>
          <p:cNvGrpSpPr/>
          <p:nvPr/>
        </p:nvGrpSpPr>
        <p:grpSpPr>
          <a:xfrm>
            <a:off x="-60480" y="-73080"/>
            <a:ext cx="9264960" cy="987480"/>
            <a:chOff x="-60480" y="-73080"/>
            <a:chExt cx="9264960" cy="987480"/>
          </a:xfrm>
        </p:grpSpPr>
        <p:pic>
          <p:nvPicPr>
            <p:cNvPr id="82" name="Rectangle 5" descr=""/>
            <p:cNvPicPr/>
            <p:nvPr/>
          </p:nvPicPr>
          <p:blipFill>
            <a:blip r:embed="rId2"/>
            <a:stretch/>
          </p:blipFill>
          <p:spPr>
            <a:xfrm>
              <a:off x="-60480" y="-73080"/>
              <a:ext cx="92649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0"/>
              <a:ext cx="91440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2400" spc="-1" strike="noStrike">
                  <a:solidFill>
                    <a:srgbClr val="d4d4d4"/>
                  </a:solidFill>
                  <a:latin typeface="Arial"/>
                </a:rPr>
                <a:t>Personality Theor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1800" spc="-1" strike="noStrike">
                  <a:solidFill>
                    <a:srgbClr val="d4d4d4"/>
                  </a:solidFill>
                  <a:latin typeface="Arial"/>
                </a:rPr>
                <a:t>A Global 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3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69840" y="2473200"/>
            <a:ext cx="9004320" cy="19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3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322200" y="743040"/>
            <a:ext cx="8499600" cy="53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1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80880" y="1635120"/>
            <a:ext cx="8382240" cy="35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1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80880" y="1406520"/>
            <a:ext cx="8382240" cy="40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1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80880" y="1128600"/>
            <a:ext cx="8382240" cy="46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3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339920" y="431640"/>
            <a:ext cx="6464160" cy="604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1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16120" y="503280"/>
            <a:ext cx="5711760" cy="59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3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174600" y="2411280"/>
            <a:ext cx="8794800" cy="20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1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2417760" y="457200"/>
            <a:ext cx="43084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1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380880" y="770040"/>
            <a:ext cx="8382240" cy="53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Chapter Op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192400" y="493560"/>
            <a:ext cx="4759200" cy="59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Visual review page 3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2192400" y="522360"/>
            <a:ext cx="4759200" cy="60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1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357280" y="457200"/>
            <a:ext cx="442944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3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217440" y="1273320"/>
            <a:ext cx="8709120" cy="43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3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125280" y="1281240"/>
            <a:ext cx="8893440" cy="42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1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948040" y="1728720"/>
            <a:ext cx="3247920" cy="34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1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239920" y="468360"/>
            <a:ext cx="4664160" cy="600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3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468360" y="601560"/>
            <a:ext cx="8207280" cy="56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3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498600" y="522360"/>
            <a:ext cx="8146800" cy="581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5:12:30Z</dcterms:created>
  <dc:creator>Stacy - McGraw-Hill Higher Education</dc:creator>
  <dc:description/>
  <dc:language>en-US</dc:language>
  <cp:lastModifiedBy>Durga Devi</cp:lastModifiedBy>
  <dcterms:modified xsi:type="dcterms:W3CDTF">2016-09-08T03:52:41Z</dcterms:modified>
  <cp:revision>119</cp:revision>
  <dc:subject/>
  <dc:title>PowerPoint Presentation</dc:title>
</cp:coreProperties>
</file>