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4BC-A233-4ADC-8716-D2B9CA9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F89-E5EC-48D9-88D2-EDF3D490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233-4441-460B-80DC-7D44531B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4D9-FE0E-4EED-8C96-E1EC7A54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74C-0A89-49A7-BB8E-FB34319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136-B609-4CCB-9B92-A2CB971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9C1-35A3-4702-A00A-CF827CE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69C-FBA8-4E9D-94AD-01E8572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5DD-683A-474D-92FD-7ACD6C3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540-4102-4CF9-8ED4-D503054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35B-C219-42E3-B234-2F7D33E4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1ED-7B1D-40F1-B577-0EF19CFD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74B-CC37-4BC6-809E-F65FEB6A6398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2E4E-B6E1-4A47-97F7-67A4BC51E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708120"/>
            <a:ext cx="8382240" cy="54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749600"/>
            <a:ext cx="8382240" cy="33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87919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0880" y="712800"/>
            <a:ext cx="838224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47840" y="476280"/>
            <a:ext cx="46483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24160" y="514440"/>
            <a:ext cx="4495680" cy="60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425680" y="457200"/>
            <a:ext cx="42926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80880" y="2754360"/>
            <a:ext cx="838224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719280"/>
            <a:ext cx="8382240" cy="54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08080" y="1900080"/>
            <a:ext cx="8727840" cy="30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80880" y="1722600"/>
            <a:ext cx="8382240" cy="34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46160" y="1309680"/>
            <a:ext cx="88516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880" y="2241720"/>
            <a:ext cx="8382240" cy="237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3:48:41Z</dcterms:modified>
  <cp:revision>117</cp:revision>
  <dc:subject/>
  <dc:title>PowerPoint Presentation</dc:title>
</cp:coreProperties>
</file>