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29A-60F0-4A96-AC57-2AB898BD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2B6-8B69-4065-AC27-030C4D32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AE4-2401-4B11-88D0-ACBE0BF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B1-36F8-4485-9534-D5F83D1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627-17D4-4E41-865A-1FCB831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3B5-3D1C-4355-95B2-C8A791C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7E8-EAC6-4F29-AE0B-BD4FCA2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8C-DD6C-4AE2-9C0D-1B90DC1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890-0002-49AA-8C45-C470B51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B5E-A91F-4875-885D-4A92B2B7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DA0-1AF7-46F1-835C-671F7D10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679-3493-4BF5-B348-222EB3D1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96B-E46C-4F1C-93C5-E18F87346320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961-B9DB-428C-A3F9-941A1B4C98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600120"/>
            <a:ext cx="838224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66680" y="1397160"/>
            <a:ext cx="881064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119320" y="473040"/>
            <a:ext cx="490536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79c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70000" y="652320"/>
            <a:ext cx="860400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9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44720" y="493560"/>
            <a:ext cx="70545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217440" y="1623960"/>
            <a:ext cx="870912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85c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444680" y="536400"/>
            <a:ext cx="6254640" cy="59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9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80880" y="687240"/>
            <a:ext cx="838224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31920" y="2254320"/>
            <a:ext cx="8480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2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220840" y="533520"/>
            <a:ext cx="4702320" cy="59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73320" y="487440"/>
            <a:ext cx="479736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9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911160"/>
            <a:ext cx="83822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80880" y="808200"/>
            <a:ext cx="8382240" cy="52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9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903240"/>
            <a:ext cx="8382240" cy="50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66680" y="1749600"/>
            <a:ext cx="8810640" cy="33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9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0880" y="885960"/>
            <a:ext cx="838224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96840" y="2004840"/>
            <a:ext cx="8950320" cy="28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9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070000" y="514440"/>
            <a:ext cx="5004000" cy="59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3:02:29Z</dcterms:modified>
  <cp:revision>116</cp:revision>
  <dc:subject/>
  <dc:title>PowerPoint Presentation</dc:title>
</cp:coreProperties>
</file>