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5755-E07D-4190-B302-DCC47636E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DCE5-1704-48BB-8766-79DE2F52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8437-35CC-4200-B43E-7C45E193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BC1A-62C8-45CA-8195-38F83EFC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EA6A-ADED-4C17-93CD-20C21489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304B-B4EF-42E9-88AC-4D537F34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685F-0973-4C74-BD7D-79715B43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73C2-532F-495A-BFB4-DC0256AA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5DDF-2C56-4D94-A1CD-41473A8E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9189-D4FD-4ACB-936B-1FABE467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4C1A-472E-4EB8-A56D-D36FD22E0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205D-C2BA-4C54-B9BB-E08161CA5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0"/>
          <p:cNvSpPr/>
          <p:nvPr/>
        </p:nvSpPr>
        <p:spPr>
          <a:xfrm>
            <a:off x="0" y="6603840"/>
            <a:ext cx="9144000" cy="254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35"/>
          <p:cNvSpPr/>
          <p:nvPr/>
        </p:nvSpPr>
        <p:spPr>
          <a:xfrm>
            <a:off x="8426520" y="662940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1AD7-014F-4940-92CA-84A267A100A3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ight Triangle 5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3d3d3d"/>
              </a:gs>
              <a:gs pos="50000">
                <a:srgbClr val="818181"/>
              </a:gs>
              <a:gs pos="100000">
                <a:srgbClr val="3d3d3d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A21C-8BAD-4904-B350-84D6AC9837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Rectangle 2" descr=""/>
          <p:cNvPicPr/>
          <p:nvPr/>
        </p:nvPicPr>
        <p:blipFill>
          <a:blip r:embed="rId1"/>
          <a:stretch/>
        </p:blipFill>
        <p:spPr>
          <a:xfrm>
            <a:off x="1755720" y="3011400"/>
            <a:ext cx="5943600" cy="835200"/>
          </a:xfrm>
          <a:prstGeom prst="rect">
            <a:avLst/>
          </a:prstGeom>
          <a:ln w="0">
            <a:noFill/>
          </a:ln>
        </p:spPr>
      </p:pic>
      <p:grpSp>
        <p:nvGrpSpPr>
          <p:cNvPr id="81" name="Rectangle 5"/>
          <p:cNvGrpSpPr/>
          <p:nvPr/>
        </p:nvGrpSpPr>
        <p:grpSpPr>
          <a:xfrm>
            <a:off x="-60480" y="-73080"/>
            <a:ext cx="9264960" cy="987480"/>
            <a:chOff x="-60480" y="-73080"/>
            <a:chExt cx="9264960" cy="987480"/>
          </a:xfrm>
        </p:grpSpPr>
        <p:pic>
          <p:nvPicPr>
            <p:cNvPr id="82" name="Rectangle 5" descr=""/>
            <p:cNvPicPr/>
            <p:nvPr/>
          </p:nvPicPr>
          <p:blipFill>
            <a:blip r:embed="rId2"/>
            <a:stretch/>
          </p:blipFill>
          <p:spPr>
            <a:xfrm>
              <a:off x="-60480" y="-73080"/>
              <a:ext cx="926496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0" y="0"/>
              <a:ext cx="914400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N" sz="2400" spc="-1" strike="noStrike">
                  <a:solidFill>
                    <a:srgbClr val="d4d4d4"/>
                  </a:solidFill>
                  <a:latin typeface="Arial"/>
                </a:rPr>
                <a:t>Personality Theor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N" sz="1800" spc="-1" strike="noStrike">
                  <a:solidFill>
                    <a:srgbClr val="d4d4d4"/>
                  </a:solidFill>
                  <a:latin typeface="Arial"/>
                </a:rPr>
                <a:t>A Global Vie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380880" y="2255760"/>
            <a:ext cx="8382240" cy="23464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Table 8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731520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2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155520" y="1020600"/>
            <a:ext cx="8832960" cy="481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Photo 8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2276640" y="531720"/>
            <a:ext cx="4590720" cy="58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731520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Visual review page 2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2301840" y="533520"/>
            <a:ext cx="454032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Chapter Ope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211480" y="542880"/>
            <a:ext cx="4721040" cy="593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Photo 8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868320" y="1057320"/>
            <a:ext cx="7407360" cy="47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731520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2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176040" y="1700280"/>
            <a:ext cx="8791920" cy="34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Photo 8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071800" y="649440"/>
            <a:ext cx="5000400" cy="567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Figure 8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380880" y="1012680"/>
            <a:ext cx="8382240" cy="483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731520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2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550800" y="596880"/>
            <a:ext cx="8042400" cy="566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Table 8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017720" y="558720"/>
            <a:ext cx="7108560" cy="585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731520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2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861840" y="473040"/>
            <a:ext cx="7420320" cy="6004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15:12:30Z</dcterms:created>
  <dc:creator>Stacy - McGraw-Hill Higher Education</dc:creator>
  <dc:description/>
  <dc:language>en-US</dc:language>
  <cp:lastModifiedBy>Durga Devi</cp:lastModifiedBy>
  <dcterms:modified xsi:type="dcterms:W3CDTF">2016-09-08T02:58:30Z</dcterms:modified>
  <cp:revision>117</cp:revision>
  <dc:subject/>
  <dc:title>PowerPoint Presentation</dc:title>
</cp:coreProperties>
</file>