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CC9-6E6C-4A09-B886-56B7D9EA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1F1-4F03-43A4-89D4-5CB40557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493-E65C-44F0-8A5B-7C2D918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334-9D58-44C6-BCDA-7B4F8E2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CCD-1E62-4793-94AD-418ED35F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ED8-F8EB-4C67-8925-FB1E21A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12E-9B98-4686-8B13-B01FD15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E0A-76EC-4C56-91A3-3AFBBF8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031-E73F-4996-94F7-5F3A4BD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5B7-3A54-44B3-B1F5-ECA0CC95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9F5-C91B-4A2C-BADD-8166C4ED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E96-C4E8-48EB-B5B8-80CA6D9A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FCBA-AB7C-42E4-9A06-6D5964434115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C0CC-4E4F-4136-B8B6-64839B5D05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66680" y="925560"/>
            <a:ext cx="881064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434960"/>
            <a:ext cx="838224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7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504720"/>
            <a:ext cx="838224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46160" y="1943280"/>
            <a:ext cx="8851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74600" y="2411280"/>
            <a:ext cx="8794800" cy="20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78000" y="530280"/>
            <a:ext cx="658800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80880" y="1833480"/>
            <a:ext cx="838224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30560" y="471600"/>
            <a:ext cx="468288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47840" y="549360"/>
            <a:ext cx="46483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80880" y="565200"/>
            <a:ext cx="8382240" cy="57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39760" y="1527120"/>
            <a:ext cx="866448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17880" y="457200"/>
            <a:ext cx="49082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46160" y="1619280"/>
            <a:ext cx="885168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80880" y="2062080"/>
            <a:ext cx="838224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06600" y="600120"/>
            <a:ext cx="7930800" cy="58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7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880" y="2411280"/>
            <a:ext cx="8382240" cy="203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56:02Z</dcterms:modified>
  <cp:revision>116</cp:revision>
  <dc:subject/>
  <dc:title>PowerPoint Presentation</dc:title>
</cp:coreProperties>
</file>