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63C-DDEC-44F8-8207-BEE6A22C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6876-C71A-4A93-B0C5-955E6FFE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06F-9224-4194-ABAB-73B13ADB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FD3-9389-4B35-B50D-D1678884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9AF3-9A7F-48E5-AF3A-9F0C13E0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122-045E-4B43-B827-55EFB83A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9A3-967B-4C00-A5CC-54ED6BB1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B76D-542A-483B-8FF8-BEFA48F3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EE0-B4BB-49C4-851A-5ECEC310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0B3-4FC4-42AE-82F0-3BC95F47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9EBA-DD1D-4410-8FFF-94CB761B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E43-45CB-4B17-AE09-51447389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6603840"/>
            <a:ext cx="9144000" cy="25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5"/>
          <p:cNvSpPr/>
          <p:nvPr/>
        </p:nvSpPr>
        <p:spPr>
          <a:xfrm>
            <a:off x="8426520" y="662940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E24B-06A4-4DD8-AB06-D7DE2D636264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ight Triangle 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d3d3d"/>
              </a:gs>
              <a:gs pos="50000">
                <a:srgbClr val="818181"/>
              </a:gs>
              <a:gs pos="100000">
                <a:srgbClr val="3d3d3d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EF26-A40C-4769-8C71-4FE7EE97DC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2" descr=""/>
          <p:cNvPicPr/>
          <p:nvPr/>
        </p:nvPicPr>
        <p:blipFill>
          <a:blip r:embed="rId1"/>
          <a:stretch/>
        </p:blipFill>
        <p:spPr>
          <a:xfrm>
            <a:off x="1755720" y="3011400"/>
            <a:ext cx="5943600" cy="835200"/>
          </a:xfrm>
          <a:prstGeom prst="rect">
            <a:avLst/>
          </a:prstGeom>
          <a:ln w="0">
            <a:noFill/>
          </a:ln>
        </p:spPr>
      </p:pic>
      <p:grpSp>
        <p:nvGrpSpPr>
          <p:cNvPr id="81" name="Rectangle 5"/>
          <p:cNvGrpSpPr/>
          <p:nvPr/>
        </p:nvGrpSpPr>
        <p:grpSpPr>
          <a:xfrm>
            <a:off x="-60480" y="-73080"/>
            <a:ext cx="9264960" cy="987480"/>
            <a:chOff x="-60480" y="-73080"/>
            <a:chExt cx="9264960" cy="987480"/>
          </a:xfrm>
        </p:grpSpPr>
        <p:pic>
          <p:nvPicPr>
            <p:cNvPr id="82" name="Rectangle 5" descr=""/>
            <p:cNvPicPr/>
            <p:nvPr/>
          </p:nvPicPr>
          <p:blipFill>
            <a:blip r:embed="rId2"/>
            <a:stretch/>
          </p:blipFill>
          <p:spPr>
            <a:xfrm>
              <a:off x="-60480" y="-73080"/>
              <a:ext cx="92649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0"/>
              <a:ext cx="9144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2400" spc="-1" strike="noStrike">
                  <a:solidFill>
                    <a:srgbClr val="d4d4d4"/>
                  </a:solidFill>
                  <a:latin typeface="Arial"/>
                </a:rPr>
                <a:t>Personality Theo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1800" spc="-1" strike="noStrike">
                  <a:solidFill>
                    <a:srgbClr val="d4d4d4"/>
                  </a:solidFill>
                  <a:latin typeface="Arial"/>
                </a:rPr>
                <a:t>A Global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155520" y="865080"/>
            <a:ext cx="8832960" cy="51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6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80880" y="752400"/>
            <a:ext cx="8382240" cy="535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6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80880" y="841320"/>
            <a:ext cx="8382240" cy="51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6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80880" y="993600"/>
            <a:ext cx="8382240" cy="48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166680" y="1333440"/>
            <a:ext cx="881064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6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942840" y="1011240"/>
            <a:ext cx="7258320" cy="48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135000" y="1181160"/>
            <a:ext cx="88740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146160" y="1860480"/>
            <a:ext cx="8851680" cy="31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6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425680" y="469800"/>
            <a:ext cx="4292640" cy="591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114480" y="1579680"/>
            <a:ext cx="8915400" cy="36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Chapter Op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87656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1574640" y="473040"/>
            <a:ext cx="5994720" cy="60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6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80880" y="689040"/>
            <a:ext cx="8382240" cy="54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Visual review page 1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305080" y="528480"/>
            <a:ext cx="4533840" cy="59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6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206360" y="876240"/>
            <a:ext cx="673128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208080" y="1481040"/>
            <a:ext cx="8727840" cy="38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6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376360" y="457200"/>
            <a:ext cx="43912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6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80880" y="676440"/>
            <a:ext cx="8382240" cy="55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239760" y="669960"/>
            <a:ext cx="8664480" cy="55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82480" y="584280"/>
            <a:ext cx="7979040" cy="58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6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80880" y="658800"/>
            <a:ext cx="8382240" cy="554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5:12:30Z</dcterms:created>
  <dc:creator>Stacy - McGraw-Hill Higher Education</dc:creator>
  <dc:description/>
  <dc:language>en-US</dc:language>
  <cp:lastModifiedBy>Durga Devi</cp:lastModifiedBy>
  <dcterms:modified xsi:type="dcterms:W3CDTF">2016-09-08T02:52:32Z</dcterms:modified>
  <cp:revision>116</cp:revision>
  <dc:subject/>
  <dc:title>PowerPoint Presentation</dc:title>
</cp:coreProperties>
</file>