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6D3-3B8F-4070-A397-C12C577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891-5A88-4DEA-B7B3-86DA4DC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04F-6115-4827-8F2B-EB260FA7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5CA-56E0-4BCD-9EB8-75484ECC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68E-5FF6-4CA7-BAB2-D366706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F9D-3456-4FE8-8607-851CA3D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D59-681D-4060-8EBA-62734E6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6A3-2E0F-4A13-B98F-B5EC629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612-8E12-4D5E-AF2C-68A79D9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991-222F-4458-A1B0-1E95AFD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EF8-5859-42DE-A28B-200B73B7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E07-34F8-4995-9151-D658D56E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3D9-E679-4C9A-9501-4C30989174FB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13F-5822-4181-9BDB-ACB9D90ADE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609588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698400"/>
            <a:ext cx="838224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89000" y="2089080"/>
            <a:ext cx="876600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90520" y="2119320"/>
            <a:ext cx="8562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352520" y="1236600"/>
            <a:ext cx="64389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96920" y="2089080"/>
            <a:ext cx="875016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106720" y="608040"/>
            <a:ext cx="493056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89000" y="2089080"/>
            <a:ext cx="876600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57560" y="477720"/>
            <a:ext cx="462888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30560" y="582480"/>
            <a:ext cx="46828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4440" y="1974960"/>
            <a:ext cx="865512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44400" y="533520"/>
            <a:ext cx="7855200" cy="59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2305080" y="528480"/>
            <a:ext cx="4533840" cy="60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69920" y="2004840"/>
            <a:ext cx="8804160" cy="28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04840" y="1486080"/>
            <a:ext cx="8734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0880" y="1084320"/>
            <a:ext cx="8382240" cy="46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23888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3160" y="2130480"/>
            <a:ext cx="8797680" cy="259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48:27Z</dcterms:modified>
  <cp:revision>116</cp:revision>
  <dc:subject/>
  <dc:title>PowerPoint Presentation</dc:title>
</cp:coreProperties>
</file>