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089-549F-464B-9E38-07F1EDFD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DB1-0B6F-47A0-8AFB-61DA0369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85D-50AD-40D9-8DEB-02536A0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F22-AAE8-4374-9313-B58E36F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A31-ADE8-4559-84C6-50434887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A3D-1D75-4672-8223-F624D9EA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742-A434-4DD2-9FF9-09C9D23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391-D302-4ECD-9184-DF379F51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4A0-5372-4898-8401-9BA85CE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AE4-D17F-4017-898A-259C9A32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888-0EB2-4BF8-A93C-CDD51DF9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E2F-1344-4FF8-80D0-233C767D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27F1-E282-475E-A712-B223FB6755D3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9D09-4D92-4CB8-B9FA-B3F4E78EC0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87200" y="1895400"/>
            <a:ext cx="87696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2433600" y="492120"/>
            <a:ext cx="4276800" cy="59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87200" y="730080"/>
            <a:ext cx="8769600" cy="53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95120" y="771480"/>
            <a:ext cx="875376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55520" y="1303200"/>
            <a:ext cx="8832960" cy="42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880" y="681120"/>
            <a:ext cx="838224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08000" y="1797120"/>
            <a:ext cx="892800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1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72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14440" y="666720"/>
            <a:ext cx="4515120" cy="58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79560" y="1187280"/>
            <a:ext cx="7184880" cy="44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297080" y="652320"/>
            <a:ext cx="6549840" cy="56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819440" y="500040"/>
            <a:ext cx="5505120" cy="60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311040" y="817560"/>
            <a:ext cx="852192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570040" y="719280"/>
            <a:ext cx="4003920" cy="54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92200" y="503280"/>
            <a:ext cx="795960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820800" y="958680"/>
            <a:ext cx="7502400" cy="494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2:44:50Z</dcterms:modified>
  <cp:revision>118</cp:revision>
  <dc:subject/>
  <dc:title>PowerPoint Presentation</dc:title>
</cp:coreProperties>
</file>