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AFB-855E-4BC2-B29E-6F08CF14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271-0E75-4AFF-9130-AF5E2957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F9F-E13A-41F6-A4F2-89BF69A5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68E-4E38-4850-A25B-E1E0186C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F97-2CCB-4F0A-B678-624C8704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D77-126E-441D-8A28-F1A31920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105-2A9F-42B2-9771-994AD7B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73E-743C-4A14-B3F3-F5AC5DB9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C8A-D3E5-4BC8-BFC4-D423E12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37C-6984-42A7-B60C-61AB2B0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9E9-5EC8-44C8-B452-563A1C37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924-06A2-4853-8B42-0901AB5C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E8C8-AC7D-4901-920A-A03EA1CDDB87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F648-3CDA-4662-B05C-E50691A2A5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31920" y="620640"/>
            <a:ext cx="848016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27280" y="631800"/>
            <a:ext cx="568944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60280" y="1066680"/>
            <a:ext cx="86234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62080" y="534960"/>
            <a:ext cx="8619840" cy="57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1060560" y="527040"/>
            <a:ext cx="702288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411120" y="542880"/>
            <a:ext cx="8321760" cy="57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08080" y="1293840"/>
            <a:ext cx="872784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286000" y="538200"/>
            <a:ext cx="4572000" cy="60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689120" y="579600"/>
            <a:ext cx="576576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230560" y="568440"/>
            <a:ext cx="4682880" cy="59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74720" y="785880"/>
            <a:ext cx="759456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85960" y="1136520"/>
            <a:ext cx="737208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19280" y="673200"/>
            <a:ext cx="7705440" cy="55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81160" y="649440"/>
            <a:ext cx="8581680" cy="55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15960" y="784080"/>
            <a:ext cx="7912080" cy="52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68120" y="1224000"/>
            <a:ext cx="8807760" cy="441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2:41:37Z</dcterms:modified>
  <cp:revision>118</cp:revision>
  <dc:subject/>
  <dc:title>PowerPoint Presentation</dc:title>
</cp:coreProperties>
</file>