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CA7-7F48-4202-BD4F-71736C51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3A6-44D2-4ED2-9866-CA860D03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E32-70AD-4201-B0D6-63B91D37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857-C9AB-477A-B9A4-B0F4CE82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D1B-8119-481B-81D3-F38B343F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A12-3EEE-455B-B6CB-D2B7C893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280-A624-4525-BFB4-DFD1FE06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626-64AC-4396-A196-1D1E79D1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9AF-7F52-438A-9544-8F38F700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332-D5DF-4DD7-A82E-0E8A569E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AA7-0B37-45C9-8F65-8DB09652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89C-0BE5-47FD-9947-61282F64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3A6C-EDB8-4816-AB54-767B28A768C6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6472-24A6-4817-88FE-8AAB91F7F2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3011400"/>
            <a:ext cx="5943600" cy="8352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46160" y="2098800"/>
            <a:ext cx="8851680" cy="26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0880" y="1649520"/>
            <a:ext cx="8382240" cy="35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66680" y="1430280"/>
            <a:ext cx="881064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04840" y="554040"/>
            <a:ext cx="8734320" cy="57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80880" y="792000"/>
            <a:ext cx="8382240" cy="527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95120" y="1674720"/>
            <a:ext cx="8753760" cy="35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004840" y="515880"/>
            <a:ext cx="5134320" cy="60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314440" y="546120"/>
            <a:ext cx="451512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57240" y="590400"/>
            <a:ext cx="5429520" cy="567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073160" y="1170000"/>
            <a:ext cx="6997680" cy="45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278000" y="750960"/>
            <a:ext cx="6588000" cy="53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55520" y="939960"/>
            <a:ext cx="8832960" cy="49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08000" y="1057320"/>
            <a:ext cx="712800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76040" y="1252440"/>
            <a:ext cx="879192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620720" y="492120"/>
            <a:ext cx="5902560" cy="59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315200" y="633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22400" y="2068560"/>
            <a:ext cx="8899200" cy="272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2:38:44Z</dcterms:modified>
  <cp:revision>119</cp:revision>
  <dc:subject/>
  <dc:title>PowerPoint Presentation</dc:title>
</cp:coreProperties>
</file>