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F07-9F6A-436B-9A78-70B95C4F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8E3-E8BF-44A7-A0D9-1C5AA5A7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564-DBF0-41AC-862D-E932ACAF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C64-2C8D-410B-901C-E7BD422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596-E080-44AC-B363-A306566D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5BA-C1CF-4137-B403-42D2E209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2D9-5302-492E-BFDF-511CB832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001-824C-47D0-92D2-1237ADA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B46-C1B2-4A10-A2BB-E37855EC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5D4-D5F5-4966-8B1B-7E41836A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733-A40F-4481-B408-5349637E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D59-F459-4E73-94D0-C21EED9D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6603840"/>
            <a:ext cx="9144000" cy="25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5"/>
          <p:cNvSpPr/>
          <p:nvPr/>
        </p:nvSpPr>
        <p:spPr>
          <a:xfrm>
            <a:off x="8426520" y="662940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1C30-7449-40CA-9692-1F24031092A2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ight Triangle 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d3d3d"/>
              </a:gs>
              <a:gs pos="50000">
                <a:srgbClr val="818181"/>
              </a:gs>
              <a:gs pos="100000">
                <a:srgbClr val="3d3d3d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2442-52E4-48AC-9DC5-C3E35C8194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2" descr=""/>
          <p:cNvPicPr/>
          <p:nvPr/>
        </p:nvPicPr>
        <p:blipFill>
          <a:blip r:embed="rId1"/>
          <a:stretch/>
        </p:blipFill>
        <p:spPr>
          <a:xfrm>
            <a:off x="1755720" y="2975040"/>
            <a:ext cx="5943600" cy="91440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5"/>
          <p:cNvGrpSpPr/>
          <p:nvPr/>
        </p:nvGrpSpPr>
        <p:grpSpPr>
          <a:xfrm>
            <a:off x="-60480" y="-73080"/>
            <a:ext cx="9264960" cy="987480"/>
            <a:chOff x="-60480" y="-73080"/>
            <a:chExt cx="9264960" cy="987480"/>
          </a:xfrm>
        </p:grpSpPr>
        <p:pic>
          <p:nvPicPr>
            <p:cNvPr id="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92649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d4d4d4"/>
                  </a:solidFill>
                  <a:latin typeface="Arial"/>
                </a:rPr>
                <a:t>Personality The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1800" spc="-1" strike="noStrike">
                  <a:solidFill>
                    <a:srgbClr val="d4d4d4"/>
                  </a:solidFill>
                  <a:latin typeface="Arial"/>
                </a:rPr>
                <a:t>A Global 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96920" y="855720"/>
            <a:ext cx="8750160" cy="51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0880" y="1193760"/>
            <a:ext cx="838224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Table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8280" y="1427040"/>
            <a:ext cx="8947440" cy="40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448000" y="531720"/>
            <a:ext cx="4248000" cy="58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79560" y="1244520"/>
            <a:ext cx="718488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331920" y="1197000"/>
            <a:ext cx="84801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80880" y="1265400"/>
            <a:ext cx="8382240" cy="43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93680" y="2274840"/>
            <a:ext cx="8756640" cy="23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7238880" y="63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Visual review page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090880" y="533520"/>
            <a:ext cx="4962240" cy="59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Chapter Op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86080" y="503280"/>
            <a:ext cx="61722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25320" y="1224000"/>
            <a:ext cx="78933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04920" y="1922400"/>
            <a:ext cx="853416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98640" y="1062000"/>
            <a:ext cx="714672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54160" y="2400480"/>
            <a:ext cx="86356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268280" y="1030320"/>
            <a:ext cx="660744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Photo 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80880" y="1047600"/>
            <a:ext cx="838224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620120" y="6336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200" spc="-1" strike="noStrike">
                <a:solidFill>
                  <a:srgbClr val="000000"/>
                </a:solidFill>
                <a:latin typeface="Arial"/>
              </a:rPr>
              <a:t>Box pag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966960" y="614520"/>
            <a:ext cx="7210080" cy="56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Stacy - McGraw-Hill Higher Education</dc:creator>
  <dc:description/>
  <dc:language>en-US</dc:language>
  <cp:lastModifiedBy>Durga Devi</cp:lastModifiedBy>
  <dcterms:modified xsi:type="dcterms:W3CDTF">2016-09-08T02:34:51Z</dcterms:modified>
  <cp:revision>118</cp:revision>
  <dc:subject/>
  <dc:title>PowerPoint Presentation</dc:title>
</cp:coreProperties>
</file>