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7E2-C8D4-4BA1-9BB7-ED2FD0B8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C40-2FDF-4708-973A-74F94658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B51-3B34-4898-8087-266D93ED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82C-0421-4B19-B6EA-4C64D1C7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730-2FDE-4763-8055-98925F02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BD4-8FF0-452F-BFD2-DB738461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E2B-3CB3-461A-A01B-386FB934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69D-AFCD-4B9C-AE0B-2F07151A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A13-CF83-4E9C-8617-5B34329F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8CC-3611-4A19-A228-9321EEC7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7A7-90E3-46AB-98E5-DED96826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786-8F09-47AF-97E5-E0E9BF12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E0F2-0B3F-4FCB-A351-8026FA97643B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C7DD-B707-4D83-842E-6E9C710E32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age x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80880" y="2503440"/>
            <a:ext cx="8382240" cy="18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age 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880" y="843120"/>
            <a:ext cx="8382240" cy="51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x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861840" y="633240"/>
            <a:ext cx="7420320" cy="559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xx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706320" y="682560"/>
            <a:ext cx="7731360" cy="54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lank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114640" y="457200"/>
            <a:ext cx="4914720" cy="604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Vigneshwaran Madhavan</cp:lastModifiedBy>
  <dcterms:modified xsi:type="dcterms:W3CDTF">2016-09-08T11:47:33Z</dcterms:modified>
  <cp:revision>117</cp:revision>
  <dc:subject/>
  <dc:title>PowerPoint Presentation</dc:title>
</cp:coreProperties>
</file>