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846-BAA4-473A-899F-4428C387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6E3-7855-4708-BBA8-94D9B6C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6E9-A4F4-41C0-A961-7D3F1384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4C6-00AA-44DA-962D-25AE2166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8EF-8394-4003-87C1-7A0ADF93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22B-B8BC-4398-BB9E-A0CD50C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F73-0FA2-4A59-B013-5EF36F40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DEA-5C56-40DF-87AA-90D89A4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D77-11C2-4DB2-99F5-692BC36B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A30-9386-4500-8DF7-9E440E5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B7E-7935-465A-9421-08B68A3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2AE-8D3C-4D4A-BDAA-9DA8FD72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A0A8-05C4-44FE-A1D0-353F9A261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13.1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13.2.jpg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13.3.jpg"/>
          <p:cNvPicPr/>
          <p:nvPr/>
        </p:nvPicPr>
        <p:blipFill>
          <a:blip r:embed="rId1"/>
          <a:stretch/>
        </p:blipFill>
        <p:spPr>
          <a:xfrm>
            <a:off x="1177920" y="0"/>
            <a:ext cx="67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8:41Z</dcterms:created>
  <dc:creator>conversion</dc:creator>
  <dc:description/>
  <dc:language>en-US</dc:language>
  <cp:lastModifiedBy>conversion</cp:lastModifiedBy>
  <dcterms:modified xsi:type="dcterms:W3CDTF">2014-11-21T09:38:57Z</dcterms:modified>
  <cp:revision>1</cp:revision>
  <dc:subject/>
  <dc:title>Slide 1</dc:title>
</cp:coreProperties>
</file>