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8104-8FDB-4CAF-B8F0-A7A6354E9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68AB-8596-4692-98CC-CDDC81FC3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242B-D0DE-4895-B9A8-D4509E612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AE70-23F4-4DFE-AEFA-E8513FFB7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7F89-6EF6-4F0A-BD7F-976CD986F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365F-91FC-437D-A825-6F01C1165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6099-A647-414C-A8B3-03FB7A26D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65CD-634C-4527-A4C3-EC77AC49F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ADDF-24C4-4D0B-842C-3AC220491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895A-29CE-4E40-A2CD-02A4CD71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F506-0BA1-484E-8E1E-4A2EC040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F6F9-98F9-47FA-88AF-C77AC545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5F1CB-7DF2-458B-951F-28BF39346D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Healey_7e_Figure 5.1.jpg"/>
          <p:cNvPicPr/>
          <p:nvPr/>
        </p:nvPicPr>
        <p:blipFill>
          <a:blip r:embed="rId1"/>
          <a:stretch/>
        </p:blipFill>
        <p:spPr>
          <a:xfrm>
            <a:off x="1071720" y="0"/>
            <a:ext cx="6999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Healey_7e_Figure 5.2.jpg"/>
          <p:cNvPicPr/>
          <p:nvPr/>
        </p:nvPicPr>
        <p:blipFill>
          <a:blip r:embed="rId1"/>
          <a:stretch/>
        </p:blipFill>
        <p:spPr>
          <a:xfrm>
            <a:off x="1073160" y="0"/>
            <a:ext cx="6997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Healey_7e_Figure 5.3.jpg"/>
          <p:cNvPicPr/>
          <p:nvPr/>
        </p:nvPicPr>
        <p:blipFill>
          <a:blip r:embed="rId1"/>
          <a:stretch/>
        </p:blipFill>
        <p:spPr>
          <a:xfrm>
            <a:off x="1357200" y="0"/>
            <a:ext cx="6427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Healey_7e_Figure 5.4.jpg"/>
          <p:cNvPicPr/>
          <p:nvPr/>
        </p:nvPicPr>
        <p:blipFill>
          <a:blip r:embed="rId1"/>
          <a:stretch/>
        </p:blipFill>
        <p:spPr>
          <a:xfrm>
            <a:off x="2422440" y="0"/>
            <a:ext cx="4299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Healey_7e_Table 5.1.jpg"/>
          <p:cNvPicPr/>
          <p:nvPr/>
        </p:nvPicPr>
        <p:blipFill>
          <a:blip r:embed="rId1"/>
          <a:stretch/>
        </p:blipFill>
        <p:spPr>
          <a:xfrm>
            <a:off x="0" y="2489040"/>
            <a:ext cx="9144000" cy="18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Healey_7e_Table 5.2.jpg"/>
          <p:cNvPicPr/>
          <p:nvPr/>
        </p:nvPicPr>
        <p:blipFill>
          <a:blip r:embed="rId1"/>
          <a:stretch/>
        </p:blipFill>
        <p:spPr>
          <a:xfrm>
            <a:off x="0" y="843120"/>
            <a:ext cx="91440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1T09:29:25Z</dcterms:created>
  <dc:creator>conversion</dc:creator>
  <dc:description/>
  <dc:language>en-US</dc:language>
  <cp:lastModifiedBy>conversion</cp:lastModifiedBy>
  <dcterms:modified xsi:type="dcterms:W3CDTF">2014-11-21T09:29:40Z</dcterms:modified>
  <cp:revision>1</cp:revision>
  <dc:subject/>
  <dc:title>Slide 1</dc:title>
</cp:coreProperties>
</file>