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58D-74FC-4EBA-BFAC-47058865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052-D581-4F6F-9F33-21FC78FD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7B3-7990-4753-831C-B9FACC34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486-4047-4A64-A134-11C6A8C6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58F-4D89-41C5-8936-D404AB52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502-CA86-4BBE-BAC9-A451ED69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4F4-62C6-4BA4-9FE0-A26FD2B7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9FA-D525-4065-9FED-2B0F4F6F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E42-5C9E-4C8A-9E6A-1807321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DD9-3BF1-4A0F-9446-18357D3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61A-DABB-429A-B1F6-95BA2139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899-0D78-4A1B-98E6-8A361122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124A-845A-430E-8652-0390D1082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4.1.jpg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6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4.2.jpg"/>
          <p:cNvPicPr/>
          <p:nvPr/>
        </p:nvPicPr>
        <p:blipFill>
          <a:blip r:embed="rId1"/>
          <a:stretch/>
        </p:blipFill>
        <p:spPr>
          <a:xfrm>
            <a:off x="0" y="2063880"/>
            <a:ext cx="91440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4.3.jpg"/>
          <p:cNvPicPr/>
          <p:nvPr/>
        </p:nvPicPr>
        <p:blipFill>
          <a:blip r:embed="rId1"/>
          <a:stretch/>
        </p:blipFill>
        <p:spPr>
          <a:xfrm>
            <a:off x="0" y="1587600"/>
            <a:ext cx="9144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Table 4.1.jpg"/>
          <p:cNvPicPr/>
          <p:nvPr/>
        </p:nvPicPr>
        <p:blipFill>
          <a:blip r:embed="rId1"/>
          <a:stretch/>
        </p:blipFill>
        <p:spPr>
          <a:xfrm>
            <a:off x="0" y="2325600"/>
            <a:ext cx="91440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28:44Z</dcterms:created>
  <dc:creator>conversion</dc:creator>
  <dc:description/>
  <dc:language>en-US</dc:language>
  <cp:lastModifiedBy>conversion</cp:lastModifiedBy>
  <dcterms:modified xsi:type="dcterms:W3CDTF">2014-11-21T09:28:56Z</dcterms:modified>
  <cp:revision>1</cp:revision>
  <dc:subject/>
  <dc:title>Slide 1</dc:title>
</cp:coreProperties>
</file>