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8BD-5B6F-44ED-9D29-AD722492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410-2F87-4671-A263-B27778D1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1CC-E099-46D6-A6D5-18ABD92A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BFE-5098-4678-8927-F30D6BC1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883-6A4D-43B1-AA0C-CB4F02BA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C2A-F9CB-4541-BEC6-F38F49FA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FCD-AD07-4F5B-86EE-2D79AE80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6A0-468A-480C-951A-510F50DD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06A-BF64-4B2A-8D11-B89DD324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86D-22E6-4186-98B1-E65658E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1F9-512A-4CC1-AB69-9EC26E2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F75-03C3-4B62-B66B-9C1BDB1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87C2-0BD4-480A-AFC2-C17AECF9B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2.1.jpg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aley_7e_Table 2.3.jpg"/>
          <p:cNvPicPr/>
          <p:nvPr/>
        </p:nvPicPr>
        <p:blipFill>
          <a:blip r:embed="rId1"/>
          <a:stretch/>
        </p:blipFill>
        <p:spPr>
          <a:xfrm>
            <a:off x="0" y="93672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2.2.jpg"/>
          <p:cNvPicPr/>
          <p:nvPr/>
        </p:nvPicPr>
        <p:blipFill>
          <a:blip r:embed="rId1"/>
          <a:stretch/>
        </p:blipFill>
        <p:spPr>
          <a:xfrm>
            <a:off x="0" y="123840"/>
            <a:ext cx="914400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2.3.jpg"/>
          <p:cNvPicPr/>
          <p:nvPr/>
        </p:nvPicPr>
        <p:blipFill>
          <a:blip r:embed="rId1"/>
          <a:stretch/>
        </p:blipFill>
        <p:spPr>
          <a:xfrm>
            <a:off x="0" y="603360"/>
            <a:ext cx="9144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2.4(Continued).jp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2.4.jpg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2.5.jpg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2.6.jpg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Table 2.1.jpg"/>
          <p:cNvPicPr/>
          <p:nvPr/>
        </p:nvPicPr>
        <p:blipFill>
          <a:blip r:embed="rId1"/>
          <a:stretch/>
        </p:blipFill>
        <p:spPr>
          <a:xfrm>
            <a:off x="1395360" y="0"/>
            <a:ext cx="63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aley_7e_Table 2.2.jpg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27:04Z</dcterms:created>
  <dc:creator>conversion</dc:creator>
  <dc:description/>
  <dc:language>en-US</dc:language>
  <cp:lastModifiedBy>conversion</cp:lastModifiedBy>
  <dcterms:modified xsi:type="dcterms:W3CDTF">2014-11-21T09:27:36Z</dcterms:modified>
  <cp:revision>1</cp:revision>
  <dc:subject/>
  <dc:title>Slide 1</dc:title>
</cp:coreProperties>
</file>